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BE9-5999-4BC6-B704-EA7295D5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C64-D9C2-49F1-9B55-CEE6A2BD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DAD-7B96-405A-9961-5006A9D0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B62-A690-4C1E-8817-90C10CE99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E75E-5249-4F58-8F63-250FD6C0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1F6D-C91F-49FD-9436-FD7860E2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FA4A-1B56-4B92-87A7-3418ACC3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B0B6-7345-45C9-ACCE-1BDD5CCA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8B14-59F9-4D51-803F-CAD1FDAD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46C4-824D-4024-B054-B88FF20E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E4EB-A3D0-48BA-BDB0-50F2C856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2F6-BC1B-401C-8858-B6DA75C9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CBC3-CE7C-4F8F-A5BD-0ACFDBB4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F543-F8B8-4626-A454-BD0BE902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52F8-7EB7-4AFF-8BDD-34DDE657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9CBC-2A45-4DCC-AA43-7ED43981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EB31-DA1F-4AAB-B4DB-BACA60986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1C66-B6A2-43D8-8573-693D2CA8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3308-952B-463F-9357-7F1EF0A5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AAE-EC3B-4416-BE01-F5E0B1EC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79AC-40D6-4336-B04E-60AF8D96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336-5C82-4066-BBBC-87629C0F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C543-8AC4-4F7C-A845-6045D29E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CDF-1A52-4362-82A0-A3F4663C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500688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Click to edit the title text format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035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21AB-3068-44DD-BF2A-EEFCFC01FC4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00400" y="6235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40240" y="6222960"/>
            <a:ext cx="129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DC86-C3CD-4166-96DC-640F681AE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logo" descr=""/>
          <p:cNvPicPr/>
          <p:nvPr/>
        </p:nvPicPr>
        <p:blipFill>
          <a:blip r:embed="rId3"/>
          <a:stretch/>
        </p:blipFill>
        <p:spPr>
          <a:xfrm>
            <a:off x="8381880" y="228600"/>
            <a:ext cx="457200" cy="328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6880" cy="6861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Click to edit the title text format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1984320" y="62247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04B9-CA64-40B3-BBD5-FAF1FE0025B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403992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85160" y="6248520"/>
            <a:ext cx="137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A32A-02C7-42ED-B19F-AD250FEAD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Normalization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000000"/>
                </a:solidFill>
                <a:uFillTx/>
                <a:latin typeface="굴림"/>
              </a:rPr>
              <a:t>JOE</a:t>
            </a:r>
            <a:r>
              <a:rPr b="1" i="1" lang="ko-KR" sz="3200" spc="-1" strike="noStrike">
                <a:solidFill>
                  <a:srgbClr val="000000"/>
                </a:solidFill>
                <a:latin typeface="굴림"/>
              </a:rPr>
              <a:t> Team</a:t>
            </a: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굴림"/>
              </a:rPr>
              <a:t>9725029 </a:t>
            </a:r>
            <a:r>
              <a:rPr b="1" i="1" lang="ko-KR" sz="3200" spc="-1" strike="noStrike">
                <a:solidFill>
                  <a:srgbClr val="000000"/>
                </a:solidFill>
                <a:latin typeface="굴림"/>
              </a:rPr>
              <a:t>정현호</a:t>
            </a: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굴림"/>
              </a:rPr>
              <a:t>9725018 </a:t>
            </a:r>
            <a:r>
              <a:rPr b="1" i="1" lang="ko-KR" sz="3200" spc="-1" strike="noStrike">
                <a:solidFill>
                  <a:srgbClr val="000000"/>
                </a:solidFill>
                <a:latin typeface="굴림"/>
              </a:rPr>
              <a:t>오태호</a:t>
            </a: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굴림"/>
              </a:rPr>
              <a:t>9725002 </a:t>
            </a:r>
            <a:r>
              <a:rPr b="1" i="1" lang="ko-KR" sz="3200" spc="-1" strike="noStrike">
                <a:solidFill>
                  <a:srgbClr val="000000"/>
                </a:solidFill>
                <a:latin typeface="굴림"/>
              </a:rPr>
              <a:t>강준명</a:t>
            </a:r>
            <a:endParaRPr b="1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rmalization/JOE team/DB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F834-DAB7-4429-9A3F-54B6B49C131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31D3E40-699A-4A55-85B5-AB0CDF35C8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Impact"/>
              </a:rPr>
              <a:t>Algorithm (cont’d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e Complex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d optimal Sol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confused defin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kip 1,2,3N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solve BCN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malization/JOE team/DB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C10-4213-4EDC-A0B2-F5D1D75074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A648A7-17E8-4642-A76B-E0A64B6BD3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Impact"/>
              </a:rPr>
              <a:t>Algorithm (cont’d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2N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1NF and every nonkey attribute is irreducibly dependent on the primary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3N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2NF and every nonkey attribute is nontransitively dependent on the primary 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BCN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only determinants are candidate key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malization/JOE team/DB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E291-60F6-4EFF-B9F2-9A033865EC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83A06-D033-44E3-B0F7-7D6E1CEDFF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Problem Description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1. Basic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Problem : Universe of re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Solution : Normal form re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2. Need Back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Normal form defin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Nonless Decompos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Functional Dependence &amp; S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malization/JOE team/DB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1ADF-1034-46BC-839F-2027F0FDB65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6C5D9-27C6-4C77-8AD2-DFD2D6B327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19520" y="3429000"/>
            <a:ext cx="3809880" cy="27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Impact"/>
              </a:rPr>
              <a:t>Problem Description(cont’d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5339160"/>
            <a:ext cx="129564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3891240"/>
            <a:ext cx="12952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1900080"/>
            <a:ext cx="3809880" cy="99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891240"/>
            <a:ext cx="12952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2" idx="3"/>
            <a:endCxn id="94" idx="1"/>
          </p:cNvCxnSpPr>
          <p:nvPr/>
        </p:nvCxnSpPr>
        <p:spPr>
          <a:xfrm>
            <a:off x="4495680" y="4120920"/>
            <a:ext cx="534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1" idx="0"/>
            <a:endCxn id="92" idx="2"/>
          </p:cNvCxnSpPr>
          <p:nvPr/>
        </p:nvCxnSpPr>
        <p:spPr>
          <a:xfrm flipH="1" flipV="1">
            <a:off x="3847320" y="4355280"/>
            <a:ext cx="839160" cy="978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1" idx="0"/>
            <a:endCxn id="94" idx="2"/>
          </p:cNvCxnSpPr>
          <p:nvPr/>
        </p:nvCxnSpPr>
        <p:spPr>
          <a:xfrm flipV="1">
            <a:off x="4686120" y="4355280"/>
            <a:ext cx="991080" cy="978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0"/>
            <a:endCxn id="93" idx="2"/>
          </p:cNvCxnSpPr>
          <p:nvPr/>
        </p:nvCxnSpPr>
        <p:spPr>
          <a:xfrm flipV="1">
            <a:off x="4723920" y="2895120"/>
            <a:ext cx="10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malization/JOE team/DB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847-3FD0-4484-84FC-D1254AB11BD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307D8-4744-46ED-8F17-1006786894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Impact"/>
              </a:rPr>
              <a:t>Problem Description(cont’d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1986120"/>
            <a:ext cx="17524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9640" y="3053160"/>
            <a:ext cx="17503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1986120"/>
            <a:ext cx="17524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4120" y="3053160"/>
            <a:ext cx="17524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196160"/>
            <a:ext cx="17524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5339160"/>
            <a:ext cx="175248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0" idx="2"/>
            <a:endCxn id="101" idx="0"/>
          </p:cNvCxnSpPr>
          <p:nvPr/>
        </p:nvCxnSpPr>
        <p:spPr>
          <a:xfrm>
            <a:off x="3390480" y="2451240"/>
            <a:ext cx="5400" cy="597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1" idx="3"/>
            <a:endCxn id="102" idx="1"/>
          </p:cNvCxnSpPr>
          <p:nvPr/>
        </p:nvCxnSpPr>
        <p:spPr>
          <a:xfrm flipV="1">
            <a:off x="4275000" y="2215440"/>
            <a:ext cx="1059840" cy="106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1" idx="2"/>
            <a:endCxn id="104" idx="0"/>
          </p:cNvCxnSpPr>
          <p:nvPr/>
        </p:nvCxnSpPr>
        <p:spPr>
          <a:xfrm>
            <a:off x="3395160" y="3517920"/>
            <a:ext cx="1443960" cy="673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2" idx="2"/>
            <a:endCxn id="103" idx="0"/>
          </p:cNvCxnSpPr>
          <p:nvPr/>
        </p:nvCxnSpPr>
        <p:spPr>
          <a:xfrm>
            <a:off x="6210000" y="2451240"/>
            <a:ext cx="1080" cy="597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3" idx="2"/>
            <a:endCxn id="104" idx="0"/>
          </p:cNvCxnSpPr>
          <p:nvPr/>
        </p:nvCxnSpPr>
        <p:spPr>
          <a:xfrm flipH="1">
            <a:off x="4838400" y="3517920"/>
            <a:ext cx="1372320" cy="673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4" idx="2"/>
            <a:endCxn id="105" idx="0"/>
          </p:cNvCxnSpPr>
          <p:nvPr/>
        </p:nvCxnSpPr>
        <p:spPr>
          <a:xfrm>
            <a:off x="4838400" y="4660920"/>
            <a:ext cx="1080" cy="673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malization/JOE team/DB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8E0-B99C-4DD9-AFBC-8ABED57E252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06F3C-08DE-4C7F-8E89-BF83F8BD74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Impact"/>
              </a:rPr>
              <a:t>Problem Description(cont’d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ngu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erface , Library &amp;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isual C++ 6.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Implement S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Interf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FD &amp; Re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malization/JOE team/DB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F44-FE43-48BF-8D8F-BBE1C53CB4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91456-EA71-40DC-B0E2-0BC259E9CD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Impact"/>
              </a:rPr>
              <a:t>Algorithm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Easy Implement Set &amp; Interf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But FD &amp; Relation is ha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Time Complexity : exponenti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To be confused defin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Primary Key, Non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malization/JOE team/DB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0D7-46E2-45D2-B41F-F97DBC63A4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E1F5C-6950-4988-A002-E9EE0BEE02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Impact"/>
              </a:rPr>
              <a:t>Algorithm (cont’d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Analysis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All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All subset, All FD, All NonKe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No order &amp; only one element in 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Overloading when insert, del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malization/JOE team/DB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4AE6-5FE2-4290-9AEE-FEE950913F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FEC148-8FF6-48C4-B65A-6720067C95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Impact"/>
              </a:rPr>
              <a:t>Algorithm (cont’d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OSURE[K,S] = 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“forev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FD X-&gt;Y in 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X is a subset of CLOSURE[K,S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CLOSURE[K,S] = CLOSURE[K,S]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ON 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CLOSURE[K,S] did not change on this it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leave 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malization/JOE team/DB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0225-E3DB-4918-8948-A028B29FB1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3F402-31AE-488D-878F-2B25BA932E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 u="sng">
                <a:solidFill>
                  <a:srgbClr val="000000"/>
                </a:solidFill>
                <a:uFillTx/>
                <a:latin typeface="Impact"/>
              </a:rPr>
              <a:t>Algorithm (cont’d)</a:t>
            </a:r>
            <a:endParaRPr b="1" lang="en-US" sz="4400" spc="-1" strike="noStrike" u="sng">
              <a:solidFill>
                <a:srgbClr val="000000"/>
              </a:solidFill>
              <a:uFillTx/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Comic Sans MS"/>
              </a:rPr>
              <a:t>Analysis Probl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Two (or more) Primary Key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Comic Sans MS"/>
              </a:rPr>
              <a:t>AB-&gt;CD &amp; BC-&gt;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omic Sans MS"/>
              </a:rPr>
              <a:t>AB is Primary Key. Is BC nonke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rmalization/JOE team/DB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AE9-63B1-42FE-8220-44C253A5C9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74018-4646-415E-AFC6-20F680521A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7T04:04:01Z</dcterms:created>
  <dc:creator>JOE team</dc:creator>
  <dc:description/>
  <dc:language>en-US</dc:language>
  <cp:lastModifiedBy>pegasus</cp:lastModifiedBy>
  <dcterms:modified xsi:type="dcterms:W3CDTF">1999-05-27T09:27:23Z</dcterms:modified>
  <cp:revision>7</cp:revision>
  <dc:subject/>
  <dc:title>Normalization</dc:title>
</cp:coreProperties>
</file>