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C242-FF07-4E6A-92BF-BB2E13892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79E0-7373-4F82-AEF4-F3837668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A834-7321-4C5B-8623-63DB6AD26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9F6B-73D0-4BC5-B531-F5DB58316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EC84-08E6-4DFD-8322-A9270C909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A024-FF2B-497D-9B0A-B76A2487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20A4-4697-4B6C-9452-155926C7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BF1B3-F302-4AC1-ADCF-CBC25D34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9399-59AF-4FCE-8DE7-37406604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8354-6529-4443-950A-27455182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B8C2-9A70-4CA4-B646-BC8CD6B5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C9EC-C536-4FE8-BE0C-2C366EE1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F2E3-38B2-46F0-9506-852B1DAC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6303-00F2-45DD-BA7F-E896865D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0F55-007E-4CCD-A757-5626CE69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B90D-ECF9-4B87-A8A6-617AE95A4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CE5A-4660-4C62-98F9-90E3A334E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6265-8547-4043-834C-297EB968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BAEB-902F-4E2E-BE24-A2B018A73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3AB7-45D8-403F-80C7-064DC5B5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530B-7AB2-4DB6-A4A0-BAB521EC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4E7C-F50D-4D0B-AAE5-75970078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5570-E6F6-4328-81AE-DA22835B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57AB-1481-4D3C-9824-F99814C3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EB70-3F74-443C-BF90-4180D6EEA7E4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2"/>
          <a:stretch/>
        </p:blipFill>
        <p:spPr>
          <a:xfrm>
            <a:off x="7696080" y="0"/>
            <a:ext cx="1295640" cy="9320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228600" y="1295280"/>
            <a:ext cx="2714760" cy="4064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C95C-5CF3-4A29-B70B-899482F4F09C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Lab Project presentatio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Computer Game Database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OE 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h ( Hyunho Jung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hara ( Taeho Oh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ot ( Joon-Myung Kang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logo" descr=""/>
          <p:cNvPicPr/>
          <p:nvPr/>
        </p:nvPicPr>
        <p:blipFill>
          <a:blip r:embed="rId1"/>
          <a:stretch/>
        </p:blipFill>
        <p:spPr>
          <a:xfrm>
            <a:off x="3505320" y="2438280"/>
            <a:ext cx="1981080" cy="1425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10640" y="6095880"/>
            <a:ext cx="413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ohhara.postech.ac.kr/~j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9480" y="3429000"/>
            <a:ext cx="25416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Target Database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acle8 Server, Release 8.0.5 for lin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free for educational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C6E1-2CFB-4303-93AF-0290C9B7D94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Interface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 ( World Wide Web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006560" y="2496960"/>
            <a:ext cx="519588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29CD-7F07-4F42-A292-B949EB3D586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Connectivity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acle JDBC Drivers release 8.0.5 for lin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Development Kit (JDK) 1.2 for lin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Servlet Development Kit (JSDK) 2.0 for 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2BFD-D4D2-47E9-A8FE-B9E66190A21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Domain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 : Computer G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 Inform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too many g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s have difficulties in choosing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rs also have difficulties in managing games, users and suppli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FAB7-7FD7-45C1-90DE-E1D32B6A72E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MileStoneS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1417680"/>
            <a:ext cx="5562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il                                                      May                                                    J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1673280"/>
            <a:ext cx="7391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ek                  1        2         3        4        5         6        7        8        9        10       11     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2054160"/>
            <a:ext cx="18288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up DB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up JDB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up Serv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nect DB to 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 DB sch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 ER dia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ild DB with 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ject homep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b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tal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2054160"/>
            <a:ext cx="54864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008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7724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296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00400" y="2195640"/>
            <a:ext cx="2262240" cy="174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78480" y="3222720"/>
            <a:ext cx="2730600" cy="16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3795840"/>
            <a:ext cx="2287440" cy="16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27400" y="4160880"/>
            <a:ext cx="13716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91280" y="4491000"/>
            <a:ext cx="2473200" cy="165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98960" y="5111640"/>
            <a:ext cx="139536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46840" y="5381640"/>
            <a:ext cx="2746440" cy="165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37440" y="5788080"/>
            <a:ext cx="236196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8320" y="6107040"/>
            <a:ext cx="5467320" cy="13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0640" y="2243160"/>
            <a:ext cx="609840" cy="128124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1281240"/>
              <a:gd name="textAreaBottom" fmla="*/ 1251720 h 1281240"/>
            </a:gdLst>
            <a:ahLst/>
            <a:rect l="textAreaLeft" t="textAreaTop" r="textAreaRight" b="textAreaBottom"/>
            <a:pathLst>
              <a:path w="21600" h="45366">
                <a:moveTo>
                  <a:pt x="3600" y="0"/>
                </a:moveTo>
                <a:arcTo wR="3600" hR="3600" stAng="16200000" swAng="-5400000"/>
                <a:lnTo>
                  <a:pt x="0" y="41766"/>
                </a:lnTo>
                <a:arcTo wR="3600" hR="3600" stAng="10800000" swAng="-5400000"/>
                <a:lnTo>
                  <a:pt x="18000" y="453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3836880"/>
            <a:ext cx="609840" cy="98604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986040"/>
              <a:gd name="textAreaBottom" fmla="*/ 956520 h 986040"/>
            </a:gdLst>
            <a:ahLst/>
            <a:rect l="textAreaLeft" t="textAreaTop" r="textAreaRight" b="textAreaBottom"/>
            <a:pathLst>
              <a:path w="21600" h="34917">
                <a:moveTo>
                  <a:pt x="3600" y="0"/>
                </a:moveTo>
                <a:arcTo wR="3600" hR="3600" stAng="16200000" swAng="-5400000"/>
                <a:lnTo>
                  <a:pt x="0" y="31317"/>
                </a:lnTo>
                <a:arcTo wR="3600" hR="3600" stAng="10800000" swAng="-5400000"/>
                <a:lnTo>
                  <a:pt x="18000" y="349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2440" y="5024520"/>
            <a:ext cx="547560" cy="1307880"/>
          </a:xfrm>
          <a:custGeom>
            <a:avLst/>
            <a:gdLst>
              <a:gd name="textAreaLeft" fmla="*/ 26640 w 547560"/>
              <a:gd name="textAreaRight" fmla="*/ 520920 w 547560"/>
              <a:gd name="textAreaTop" fmla="*/ 26640 h 1307880"/>
              <a:gd name="textAreaBottom" fmla="*/ 1281240 h 1307880"/>
            </a:gdLst>
            <a:ahLst/>
            <a:rect l="textAreaLeft" t="textAreaTop" r="textAreaRight" b="textAreaBottom"/>
            <a:pathLst>
              <a:path w="21600" h="51573">
                <a:moveTo>
                  <a:pt x="3600" y="0"/>
                </a:moveTo>
                <a:arcTo wR="3600" hR="3600" stAng="16200000" swAng="-5400000"/>
                <a:lnTo>
                  <a:pt x="0" y="47973"/>
                </a:lnTo>
                <a:arcTo wR="3600" hR="3600" stAng="10800000" swAng="-5400000"/>
                <a:lnTo>
                  <a:pt x="18000" y="51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366084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48798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03640" y="2556000"/>
            <a:ext cx="2262240" cy="16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8320" y="2908440"/>
            <a:ext cx="2287440" cy="16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B2D4-490A-4A7E-863A-C714CFD3C60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98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ER Diagram (1)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124" name=""/>
          <p:cNvSpPr/>
          <p:nvPr/>
        </p:nvSpPr>
        <p:spPr>
          <a:xfrm>
            <a:off x="2579760" y="2200320"/>
            <a:ext cx="1377720" cy="34272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27440" y="1660680"/>
            <a:ext cx="846000" cy="24264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25640" y="1711440"/>
            <a:ext cx="771480" cy="23004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28880" y="1649520"/>
            <a:ext cx="820800" cy="2538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70080" y="1978200"/>
            <a:ext cx="1168200" cy="31896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rth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94400" y="2200320"/>
            <a:ext cx="1414440" cy="3427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many s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70160" y="2406600"/>
            <a:ext cx="871560" cy="2556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64320" y="4017960"/>
            <a:ext cx="96984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729560" y="3508200"/>
            <a:ext cx="771480" cy="31608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77000" y="4054320"/>
            <a:ext cx="808200" cy="2797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3720" y="4454640"/>
            <a:ext cx="784440" cy="26676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15960" y="4605480"/>
            <a:ext cx="709560" cy="3157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58680" y="4902120"/>
            <a:ext cx="784440" cy="31608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13440" y="5958000"/>
            <a:ext cx="833400" cy="2412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531200" y="5556240"/>
            <a:ext cx="93168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rth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997680" y="5970600"/>
            <a:ext cx="907920" cy="29196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35480" y="5907240"/>
            <a:ext cx="722520" cy="3301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26" idx="5"/>
            <a:endCxn id="124" idx="0"/>
          </p:cNvCxnSpPr>
          <p:nvPr/>
        </p:nvCxnSpPr>
        <p:spPr>
          <a:xfrm>
            <a:off x="2584080" y="1917720"/>
            <a:ext cx="685080" cy="2642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42" name=""/>
          <p:cNvCxnSpPr>
            <a:stCxn id="125" idx="4"/>
            <a:endCxn id="124" idx="0"/>
          </p:cNvCxnSpPr>
          <p:nvPr/>
        </p:nvCxnSpPr>
        <p:spPr>
          <a:xfrm>
            <a:off x="3250800" y="1912680"/>
            <a:ext cx="18360" cy="2689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43" name=""/>
          <p:cNvCxnSpPr>
            <a:stCxn id="127" idx="3"/>
            <a:endCxn id="124" idx="0"/>
          </p:cNvCxnSpPr>
          <p:nvPr/>
        </p:nvCxnSpPr>
        <p:spPr>
          <a:xfrm flipH="1">
            <a:off x="3268800" y="1875960"/>
            <a:ext cx="581400" cy="3056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44" name=""/>
          <p:cNvCxnSpPr>
            <a:stCxn id="124" idx="1"/>
            <a:endCxn id="128" idx="6"/>
          </p:cNvCxnSpPr>
          <p:nvPr/>
        </p:nvCxnSpPr>
        <p:spPr>
          <a:xfrm flipH="1" flipV="1">
            <a:off x="2447280" y="2138040"/>
            <a:ext cx="113400" cy="2340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45" name=""/>
          <p:cNvCxnSpPr>
            <a:stCxn id="124" idx="3"/>
            <a:endCxn id="129" idx="2"/>
          </p:cNvCxnSpPr>
          <p:nvPr/>
        </p:nvCxnSpPr>
        <p:spPr>
          <a:xfrm>
            <a:off x="3976200" y="2371320"/>
            <a:ext cx="708840" cy="10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46" name=""/>
          <p:cNvCxnSpPr>
            <a:stCxn id="124" idx="1"/>
            <a:endCxn id="130" idx="7"/>
          </p:cNvCxnSpPr>
          <p:nvPr/>
        </p:nvCxnSpPr>
        <p:spPr>
          <a:xfrm flipH="1">
            <a:off x="2113920" y="2371320"/>
            <a:ext cx="446760" cy="644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47" name=""/>
          <p:cNvCxnSpPr>
            <a:stCxn id="148" idx="2"/>
            <a:endCxn id="134" idx="0"/>
          </p:cNvCxnSpPr>
          <p:nvPr/>
        </p:nvCxnSpPr>
        <p:spPr>
          <a:xfrm flipH="1">
            <a:off x="815760" y="4135320"/>
            <a:ext cx="600480" cy="3103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49" name=""/>
          <p:cNvCxnSpPr>
            <a:stCxn id="148" idx="2"/>
            <a:endCxn id="135" idx="1"/>
          </p:cNvCxnSpPr>
          <p:nvPr/>
        </p:nvCxnSpPr>
        <p:spPr>
          <a:xfrm>
            <a:off x="1415520" y="4134960"/>
            <a:ext cx="204120" cy="5068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50" name=""/>
          <p:cNvCxnSpPr>
            <a:stCxn id="148" idx="2"/>
            <a:endCxn id="136" idx="0"/>
          </p:cNvCxnSpPr>
          <p:nvPr/>
        </p:nvCxnSpPr>
        <p:spPr>
          <a:xfrm flipH="1">
            <a:off x="1350720" y="4135320"/>
            <a:ext cx="65520" cy="75816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51" name=""/>
          <p:cNvCxnSpPr>
            <a:stCxn id="152" idx="2"/>
            <a:endCxn id="131" idx="0"/>
          </p:cNvCxnSpPr>
          <p:nvPr/>
        </p:nvCxnSpPr>
        <p:spPr>
          <a:xfrm flipH="1">
            <a:off x="6249240" y="3857400"/>
            <a:ext cx="462600" cy="15156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53" name=""/>
          <p:cNvCxnSpPr>
            <a:stCxn id="152" idx="3"/>
            <a:endCxn id="132" idx="2"/>
          </p:cNvCxnSpPr>
          <p:nvPr/>
        </p:nvCxnSpPr>
        <p:spPr>
          <a:xfrm flipV="1">
            <a:off x="7419600" y="3666240"/>
            <a:ext cx="300600" cy="25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54" name=""/>
          <p:cNvCxnSpPr>
            <a:stCxn id="152" idx="2"/>
            <a:endCxn id="133" idx="1"/>
          </p:cNvCxnSpPr>
          <p:nvPr/>
        </p:nvCxnSpPr>
        <p:spPr>
          <a:xfrm>
            <a:off x="6711840" y="3857400"/>
            <a:ext cx="185040" cy="2293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55" name=""/>
          <p:cNvCxnSpPr>
            <a:stCxn id="156" idx="2"/>
            <a:endCxn id="140" idx="7"/>
          </p:cNvCxnSpPr>
          <p:nvPr/>
        </p:nvCxnSpPr>
        <p:spPr>
          <a:xfrm flipH="1">
            <a:off x="5851080" y="5520960"/>
            <a:ext cx="294480" cy="4244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57" name=""/>
          <p:cNvCxnSpPr>
            <a:stCxn id="156" idx="2"/>
            <a:endCxn id="137" idx="0"/>
          </p:cNvCxnSpPr>
          <p:nvPr/>
        </p:nvCxnSpPr>
        <p:spPr>
          <a:xfrm>
            <a:off x="6145200" y="5521320"/>
            <a:ext cx="286560" cy="4276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58" name=""/>
          <p:cNvCxnSpPr>
            <a:stCxn id="156" idx="2"/>
            <a:endCxn id="139" idx="1"/>
          </p:cNvCxnSpPr>
          <p:nvPr/>
        </p:nvCxnSpPr>
        <p:spPr>
          <a:xfrm>
            <a:off x="6145200" y="5520960"/>
            <a:ext cx="986400" cy="4834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59" name=""/>
          <p:cNvCxnSpPr>
            <a:stCxn id="156" idx="3"/>
            <a:endCxn id="138" idx="2"/>
          </p:cNvCxnSpPr>
          <p:nvPr/>
        </p:nvCxnSpPr>
        <p:spPr>
          <a:xfrm>
            <a:off x="6853320" y="5331960"/>
            <a:ext cx="668880" cy="3769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5456160" y="5160960"/>
            <a:ext cx="1378080" cy="3412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me Comp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60760" y="2827440"/>
            <a:ext cx="1378080" cy="341280"/>
          </a:xfrm>
          <a:prstGeom prst="diamond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du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24" idx="2"/>
            <a:endCxn id="160" idx="0"/>
          </p:cNvCxnSpPr>
          <p:nvPr/>
        </p:nvCxnSpPr>
        <p:spPr>
          <a:xfrm>
            <a:off x="3268440" y="2561760"/>
            <a:ext cx="981720" cy="2516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3398760" y="2619360"/>
            <a:ext cx="61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80120" y="4241880"/>
            <a:ext cx="23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76520" y="4532400"/>
            <a:ext cx="1378080" cy="3412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75080" y="3224160"/>
            <a:ext cx="1377720" cy="341280"/>
          </a:xfrm>
          <a:prstGeom prst="diamond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"/>
          <p:cNvCxnSpPr>
            <a:stCxn id="124" idx="2"/>
            <a:endCxn id="165" idx="0"/>
          </p:cNvCxnSpPr>
          <p:nvPr/>
        </p:nvCxnSpPr>
        <p:spPr>
          <a:xfrm flipH="1">
            <a:off x="3263400" y="2561760"/>
            <a:ext cx="5760" cy="64836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67" name=""/>
          <p:cNvCxnSpPr>
            <a:stCxn id="164" idx="0"/>
            <a:endCxn id="165" idx="2"/>
          </p:cNvCxnSpPr>
          <p:nvPr/>
        </p:nvCxnSpPr>
        <p:spPr>
          <a:xfrm flipH="1" flipV="1">
            <a:off x="3263040" y="3579120"/>
            <a:ext cx="2520" cy="9342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68" name=""/>
          <p:cNvSpPr/>
          <p:nvPr/>
        </p:nvSpPr>
        <p:spPr>
          <a:xfrm>
            <a:off x="3171960" y="3544920"/>
            <a:ext cx="32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47960" y="2941560"/>
            <a:ext cx="62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20960" y="5595840"/>
            <a:ext cx="784080" cy="30348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57600" y="1773360"/>
            <a:ext cx="895320" cy="3283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Game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24" idx="3"/>
            <a:endCxn id="171" idx="2"/>
          </p:cNvCxnSpPr>
          <p:nvPr/>
        </p:nvCxnSpPr>
        <p:spPr>
          <a:xfrm flipV="1">
            <a:off x="3976560" y="1937880"/>
            <a:ext cx="572400" cy="43416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7643880" y="5180040"/>
            <a:ext cx="1179360" cy="2808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mpany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56" idx="3"/>
            <a:endCxn id="173" idx="2"/>
          </p:cNvCxnSpPr>
          <p:nvPr/>
        </p:nvCxnSpPr>
        <p:spPr>
          <a:xfrm flipV="1">
            <a:off x="6852960" y="5320440"/>
            <a:ext cx="781560" cy="118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2901960" y="5781600"/>
            <a:ext cx="931680" cy="35424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ff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59320" y="5140440"/>
            <a:ext cx="981000" cy="35388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 w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64" idx="2"/>
            <a:endCxn id="170" idx="0"/>
          </p:cNvCxnSpPr>
          <p:nvPr/>
        </p:nvCxnSpPr>
        <p:spPr>
          <a:xfrm flipH="1">
            <a:off x="2312640" y="4892400"/>
            <a:ext cx="953280" cy="6944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78" name=""/>
          <p:cNvCxnSpPr>
            <a:stCxn id="164" idx="2"/>
            <a:endCxn id="176" idx="1"/>
          </p:cNvCxnSpPr>
          <p:nvPr/>
        </p:nvCxnSpPr>
        <p:spPr>
          <a:xfrm>
            <a:off x="3265560" y="4892400"/>
            <a:ext cx="437040" cy="2912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79" name=""/>
          <p:cNvCxnSpPr>
            <a:stCxn id="164" idx="2"/>
            <a:endCxn id="175" idx="0"/>
          </p:cNvCxnSpPr>
          <p:nvPr/>
        </p:nvCxnSpPr>
        <p:spPr>
          <a:xfrm>
            <a:off x="3265560" y="4892400"/>
            <a:ext cx="103680" cy="8802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727200" y="3774960"/>
            <a:ext cx="1377720" cy="3412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5400" y="3029040"/>
            <a:ext cx="1378080" cy="341280"/>
          </a:xfrm>
          <a:prstGeom prst="diamond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24" idx="2"/>
            <a:endCxn id="180" idx="0"/>
          </p:cNvCxnSpPr>
          <p:nvPr/>
        </p:nvCxnSpPr>
        <p:spPr>
          <a:xfrm flipH="1">
            <a:off x="1413720" y="2561760"/>
            <a:ext cx="1855080" cy="4532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82" name=""/>
          <p:cNvCxnSpPr>
            <a:stCxn id="180" idx="2"/>
            <a:endCxn id="148" idx="0"/>
          </p:cNvCxnSpPr>
          <p:nvPr/>
        </p:nvCxnSpPr>
        <p:spPr>
          <a:xfrm>
            <a:off x="1414440" y="3384360"/>
            <a:ext cx="2160" cy="3718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1347840" y="3417840"/>
            <a:ext cx="25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17880" y="2724120"/>
            <a:ext cx="26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26040" y="2911320"/>
            <a:ext cx="1378080" cy="343080"/>
          </a:xfrm>
          <a:prstGeom prst="diamond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me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24" idx="3"/>
            <a:endCxn id="185" idx="0"/>
          </p:cNvCxnSpPr>
          <p:nvPr/>
        </p:nvCxnSpPr>
        <p:spPr>
          <a:xfrm>
            <a:off x="3976200" y="2371680"/>
            <a:ext cx="2739240" cy="5263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87" name=""/>
          <p:cNvCxnSpPr>
            <a:stCxn id="185" idx="2"/>
            <a:endCxn id="152" idx="0"/>
          </p:cNvCxnSpPr>
          <p:nvPr/>
        </p:nvCxnSpPr>
        <p:spPr>
          <a:xfrm flipH="1">
            <a:off x="6711120" y="3268800"/>
            <a:ext cx="3960" cy="2102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6089760" y="2544840"/>
            <a:ext cx="29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72080" y="3208320"/>
            <a:ext cx="27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22800" y="3497400"/>
            <a:ext cx="1378080" cy="3412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81480" y="5703840"/>
            <a:ext cx="957240" cy="3031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 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90" idx="7"/>
            <a:endCxn id="156" idx="1"/>
          </p:cNvCxnSpPr>
          <p:nvPr/>
        </p:nvCxnSpPr>
        <p:spPr>
          <a:xfrm flipV="1">
            <a:off x="5098680" y="5331600"/>
            <a:ext cx="338760" cy="40716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92" name=""/>
          <p:cNvSpPr/>
          <p:nvPr/>
        </p:nvSpPr>
        <p:spPr>
          <a:xfrm>
            <a:off x="7308720" y="4808520"/>
            <a:ext cx="66060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56" idx="3"/>
            <a:endCxn id="192" idx="2"/>
          </p:cNvCxnSpPr>
          <p:nvPr/>
        </p:nvCxnSpPr>
        <p:spPr>
          <a:xfrm flipV="1">
            <a:off x="6852960" y="4960440"/>
            <a:ext cx="446760" cy="3722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4175280" y="4738680"/>
            <a:ext cx="62208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64" idx="3"/>
            <a:endCxn id="194" idx="1"/>
          </p:cNvCxnSpPr>
          <p:nvPr/>
        </p:nvCxnSpPr>
        <p:spPr>
          <a:xfrm>
            <a:off x="3973320" y="4703760"/>
            <a:ext cx="292680" cy="702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96" name=""/>
          <p:cNvCxnSpPr>
            <a:stCxn id="160" idx="3"/>
            <a:endCxn id="156" idx="0"/>
          </p:cNvCxnSpPr>
          <p:nvPr/>
        </p:nvCxnSpPr>
        <p:spPr>
          <a:xfrm>
            <a:off x="4952880" y="2998440"/>
            <a:ext cx="1192680" cy="21438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4093-E0F4-4B69-A240-759AFB76CA2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ER Diagram (2)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198" name=""/>
          <p:cNvSpPr/>
          <p:nvPr/>
        </p:nvSpPr>
        <p:spPr>
          <a:xfrm>
            <a:off x="1143000" y="2514600"/>
            <a:ext cx="1403280" cy="4078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43000" y="3505320"/>
            <a:ext cx="1403280" cy="407880"/>
          </a:xfrm>
          <a:prstGeom prst="diamond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8" idx="2"/>
            <a:endCxn id="199" idx="0"/>
          </p:cNvCxnSpPr>
          <p:nvPr/>
        </p:nvCxnSpPr>
        <p:spPr>
          <a:xfrm>
            <a:off x="1844280" y="2941560"/>
            <a:ext cx="1080" cy="5500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1898640" y="405936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1000" y="3073320"/>
            <a:ext cx="29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1560" y="4649760"/>
            <a:ext cx="1403280" cy="4078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199" idx="2"/>
            <a:endCxn id="203" idx="0"/>
          </p:cNvCxnSpPr>
          <p:nvPr/>
        </p:nvCxnSpPr>
        <p:spPr>
          <a:xfrm flipH="1">
            <a:off x="1842840" y="3927240"/>
            <a:ext cx="2160" cy="7038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205" name=""/>
          <p:cNvSpPr/>
          <p:nvPr/>
        </p:nvSpPr>
        <p:spPr>
          <a:xfrm>
            <a:off x="1488960" y="5661000"/>
            <a:ext cx="884520" cy="2970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527280" y="5678640"/>
            <a:ext cx="884520" cy="29664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05240" y="5695920"/>
            <a:ext cx="884160" cy="2970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60440" y="5662440"/>
            <a:ext cx="884160" cy="2970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3" idx="2"/>
            <a:endCxn id="205" idx="0"/>
          </p:cNvCxnSpPr>
          <p:nvPr/>
        </p:nvCxnSpPr>
        <p:spPr>
          <a:xfrm>
            <a:off x="1842840" y="5076360"/>
            <a:ext cx="89640" cy="5756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10" name=""/>
          <p:cNvCxnSpPr>
            <a:stCxn id="203" idx="2"/>
            <a:endCxn id="207" idx="1"/>
          </p:cNvCxnSpPr>
          <p:nvPr/>
        </p:nvCxnSpPr>
        <p:spPr>
          <a:xfrm>
            <a:off x="1843200" y="5076360"/>
            <a:ext cx="792720" cy="6534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11" name=""/>
          <p:cNvCxnSpPr>
            <a:stCxn id="206" idx="1"/>
            <a:endCxn id="203" idx="2"/>
          </p:cNvCxnSpPr>
          <p:nvPr/>
        </p:nvCxnSpPr>
        <p:spPr>
          <a:xfrm flipH="1" flipV="1">
            <a:off x="1842840" y="5076360"/>
            <a:ext cx="1815120" cy="63576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12" name=""/>
          <p:cNvCxnSpPr>
            <a:stCxn id="208" idx="7"/>
            <a:endCxn id="203" idx="2"/>
          </p:cNvCxnSpPr>
          <p:nvPr/>
        </p:nvCxnSpPr>
        <p:spPr>
          <a:xfrm flipV="1">
            <a:off x="1213920" y="5076360"/>
            <a:ext cx="629640" cy="6199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213" name=""/>
          <p:cNvSpPr/>
          <p:nvPr/>
        </p:nvSpPr>
        <p:spPr>
          <a:xfrm>
            <a:off x="4952880" y="2514600"/>
            <a:ext cx="1403640" cy="4078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8120" y="2514600"/>
            <a:ext cx="1403280" cy="407880"/>
          </a:xfrm>
          <a:prstGeom prst="diamond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198" idx="3"/>
            <a:endCxn id="214" idx="1"/>
          </p:cNvCxnSpPr>
          <p:nvPr/>
        </p:nvCxnSpPr>
        <p:spPr>
          <a:xfrm>
            <a:off x="2565000" y="2719080"/>
            <a:ext cx="469080" cy="10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16" name=""/>
          <p:cNvCxnSpPr>
            <a:stCxn id="214" idx="3"/>
            <a:endCxn id="213" idx="1"/>
          </p:cNvCxnSpPr>
          <p:nvPr/>
        </p:nvCxnSpPr>
        <p:spPr>
          <a:xfrm>
            <a:off x="4465800" y="2719080"/>
            <a:ext cx="468720" cy="10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2664000" y="2421000"/>
            <a:ext cx="40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29160" y="2395440"/>
            <a:ext cx="2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07320" y="2820960"/>
            <a:ext cx="1155600" cy="358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mpany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11720" y="3440160"/>
            <a:ext cx="884160" cy="29664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10000" y="1727280"/>
            <a:ext cx="858960" cy="29664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 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59400" y="1752480"/>
            <a:ext cx="884160" cy="2970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162920" y="2367000"/>
            <a:ext cx="884160" cy="2970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rth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70640" y="1778040"/>
            <a:ext cx="884160" cy="2970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21" idx="5"/>
            <a:endCxn id="213" idx="0"/>
          </p:cNvCxnSpPr>
          <p:nvPr/>
        </p:nvCxnSpPr>
        <p:spPr>
          <a:xfrm>
            <a:off x="5143320" y="1990800"/>
            <a:ext cx="511560" cy="5054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26" name=""/>
          <p:cNvCxnSpPr>
            <a:stCxn id="222" idx="4"/>
            <a:endCxn id="213" idx="0"/>
          </p:cNvCxnSpPr>
          <p:nvPr/>
        </p:nvCxnSpPr>
        <p:spPr>
          <a:xfrm flipH="1">
            <a:off x="5654160" y="2058480"/>
            <a:ext cx="248400" cy="4374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27" name=""/>
          <p:cNvCxnSpPr>
            <a:stCxn id="224" idx="3"/>
            <a:endCxn id="213" idx="0"/>
          </p:cNvCxnSpPr>
          <p:nvPr/>
        </p:nvCxnSpPr>
        <p:spPr>
          <a:xfrm flipH="1">
            <a:off x="5653800" y="2041200"/>
            <a:ext cx="947160" cy="4546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28" name=""/>
          <p:cNvCxnSpPr>
            <a:stCxn id="223" idx="2"/>
            <a:endCxn id="213" idx="3"/>
          </p:cNvCxnSpPr>
          <p:nvPr/>
        </p:nvCxnSpPr>
        <p:spPr>
          <a:xfrm flipH="1">
            <a:off x="6374520" y="2515680"/>
            <a:ext cx="778680" cy="2041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29" name=""/>
          <p:cNvCxnSpPr>
            <a:stCxn id="219" idx="1"/>
            <a:endCxn id="213" idx="3"/>
          </p:cNvCxnSpPr>
          <p:nvPr/>
        </p:nvCxnSpPr>
        <p:spPr>
          <a:xfrm flipH="1" flipV="1">
            <a:off x="6374880" y="2719080"/>
            <a:ext cx="702720" cy="1447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30" name=""/>
          <p:cNvCxnSpPr>
            <a:stCxn id="220" idx="0"/>
            <a:endCxn id="213" idx="2"/>
          </p:cNvCxnSpPr>
          <p:nvPr/>
        </p:nvCxnSpPr>
        <p:spPr>
          <a:xfrm flipV="1">
            <a:off x="5654160" y="2941200"/>
            <a:ext cx="1080" cy="4896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231" name=""/>
          <p:cNvSpPr/>
          <p:nvPr/>
        </p:nvSpPr>
        <p:spPr>
          <a:xfrm>
            <a:off x="6429240" y="3340080"/>
            <a:ext cx="884520" cy="2970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1"/>
            <a:endCxn id="213" idx="2"/>
          </p:cNvCxnSpPr>
          <p:nvPr/>
        </p:nvCxnSpPr>
        <p:spPr>
          <a:xfrm flipH="1" flipV="1">
            <a:off x="5654160" y="2941200"/>
            <a:ext cx="905760" cy="4327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9133-0831-4928-A4F7-87D68C1F659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User requirement (1)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n ( ID, Password ) 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games ( game name, company name, genre, price, birth date, quality, and so on )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games with several option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sensitive”, “case insensitive”, “exact match”, “partial match”, “AND” , “O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 game list, quality, requirement, staff and company (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24E5-AB44-412E-9635-A8CA2FA600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User requirement (2)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er 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y games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 the game list that the user bought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 and update the user’s profil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a game freely if the user buy many games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an email if the new game is inserted 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0F91-2572-4E9F-A81E-0C37EAFFA7A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User requirement (3)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do what the user can do (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, insert, delete and update distribute company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, delete and update the game, company, staff, quality and requirement (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, delete and update user and supplier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BC47-95DD-4463-94F9-E039349E8E6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  <a:ea typeface="굴림체"/>
              </a:rPr>
              <a:t>System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654960" y="4913280"/>
            <a:ext cx="1508040" cy="808200"/>
          </a:xfrm>
          <a:prstGeom prst="flowChartMagneticDisk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05720" y="3279600"/>
            <a:ext cx="1508040" cy="630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213680" y="4019400"/>
            <a:ext cx="485640" cy="806760"/>
          </a:xfrm>
          <a:prstGeom prst="upDownArrow">
            <a:avLst>
              <a:gd name="adj1" fmla="val 50000"/>
              <a:gd name="adj2" fmla="val 3307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63920" y="2573280"/>
            <a:ext cx="1434960" cy="3141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911840" y="3227400"/>
            <a:ext cx="606240" cy="7668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91160" y="3463920"/>
            <a:ext cx="1076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45160" y="3727440"/>
            <a:ext cx="10764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135080" y="4286160"/>
            <a:ext cx="1074600" cy="18860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625320" y="1720800"/>
            <a:ext cx="1525680" cy="1736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273320" y="3684600"/>
            <a:ext cx="185760" cy="458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73200" y="3665520"/>
            <a:ext cx="185760" cy="458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51080" y="4651200"/>
            <a:ext cx="1076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54320" y="5138640"/>
            <a:ext cx="10764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9CA8-6788-441D-98B4-B34B3B9C830C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/>
  <dc:description/>
  <dc:language>en-US</dc:language>
  <cp:lastModifiedBy>Joon-Myung Kang</cp:lastModifiedBy>
  <cp:lastPrinted>1997-02-26T15:00:00Z</cp:lastPrinted>
  <dcterms:modified xsi:type="dcterms:W3CDTF">1999-05-21T06:51:55Z</dcterms:modified>
  <cp:revision>19</cp:revision>
  <dc:subject/>
  <dc:title>Lab Project presentation Computer Game Database</dc:title>
</cp:coreProperties>
</file>