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9F4-FD2D-4683-B784-8DD33ABC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A5A-6F56-4C64-8A43-3EFA22A9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4E0F-FFFC-43B0-89E7-14E42547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CD1-3B74-4160-BFAF-FEF6414F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36B1-12D2-4D77-9AC9-7E7C81B2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CC2C-EF26-422E-B44A-4E551E1E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A853-54B3-4C26-B829-BC519FC4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1471-E010-4052-856D-3551411B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BEEB-672A-4268-B122-CA4C422D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CCCC5-10DD-4425-867E-7CC23FC0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0A53-1E1B-4464-A544-E13BB009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7BC-A84B-4BD8-8D83-40B9C290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83F36-D679-4EF7-A169-0439C2AF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A754-03BB-4559-AE5D-D3E80D6C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1359-071B-4F7D-8B0C-10353941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086E-1122-48F0-B297-5AD2D3EFB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7B9C-68E0-4CC7-84CC-0D14BADB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CEF6-923B-4D5F-BC9D-8D2AC050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A8C-A15E-4E81-9408-6F3928F5F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76DE-45D6-48CE-ADB0-567D66F0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F8A-4A13-4A32-A215-010A031C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1DF4-C625-4C59-B335-2069FF55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3CB-79EA-4126-A161-AA53EB2B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3DD3-C241-410E-90E5-2A36AA2D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5C4A-DEF7-49B8-92BB-4487D5BACEE6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7696080" y="0"/>
            <a:ext cx="1295640" cy="932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2714760" cy="406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BC14-34AA-4E86-8E0F-D06814772BEB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Lab Project present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mputer Game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 ( Hyunho Ju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ara ( Taeho Oh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ot ( Joon-Myung Ka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ogo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1981080" cy="1425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10640" y="609588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ohhara.postech.ac.kr/~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2541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Target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8 Server,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free for educationa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3C19-E0C5-40A1-95DF-E9F5C71CFC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Interfac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 ( World Wide Web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06560" y="2496960"/>
            <a:ext cx="519588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A36-3463-419B-919F-856C812E13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nnectivity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 JDBC Drivers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evelopment Kit (JDK) 1.2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ervlet Development Kit (JSDK) 2.0 for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0B9-C44D-4EBD-9CE1-528C08DE4AA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Domain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: Computer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oo many g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have difficulties in choos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s also have difficulties in managing games, users and suppli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BC44-5712-43AF-9093-330595B113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MileStoneS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17680"/>
            <a:ext cx="5562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                                                     May                                                   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673280"/>
            <a:ext cx="7391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ek                  1        2         3        4        5         6        7        8        9        10       11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054160"/>
            <a:ext cx="18288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DB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JD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 DB t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DB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ER di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ild DB with 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 home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054160"/>
            <a:ext cx="54864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2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195640"/>
            <a:ext cx="2262240" cy="17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78480" y="3222720"/>
            <a:ext cx="273060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3795840"/>
            <a:ext cx="2287440" cy="16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27400" y="416088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4491000"/>
            <a:ext cx="2473200" cy="165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8960" y="5111640"/>
            <a:ext cx="13953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6840" y="5381640"/>
            <a:ext cx="2746440" cy="165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7440" y="5788080"/>
            <a:ext cx="2361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8320" y="6107040"/>
            <a:ext cx="5467320" cy="13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0640" y="2243160"/>
            <a:ext cx="609840" cy="12812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281240"/>
              <a:gd name="textAreaBottom" fmla="*/ 1251720 h 1281240"/>
            </a:gdLst>
            <a:ahLst/>
            <a:rect l="textAreaLeft" t="textAreaTop" r="textAreaRight" b="textAreaBottom"/>
            <a:pathLst>
              <a:path w="21600" h="45366">
                <a:moveTo>
                  <a:pt x="3600" y="0"/>
                </a:moveTo>
                <a:arcTo wR="3600" hR="3600" stAng="16200000" swAng="-5400000"/>
                <a:lnTo>
                  <a:pt x="0" y="41766"/>
                </a:lnTo>
                <a:arcTo wR="3600" hR="3600" stAng="10800000" swAng="-5400000"/>
                <a:lnTo>
                  <a:pt x="18000" y="45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836880"/>
            <a:ext cx="609840" cy="9860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986040"/>
              <a:gd name="textAreaBottom" fmla="*/ 956520 h 986040"/>
            </a:gdLst>
            <a:ahLst/>
            <a:rect l="textAreaLeft" t="textAreaTop" r="textAreaRight" b="textAreaBottom"/>
            <a:pathLst>
              <a:path w="21600" h="34917">
                <a:moveTo>
                  <a:pt x="3600" y="0"/>
                </a:moveTo>
                <a:arcTo wR="3600" hR="3600" stAng="16200000" swAng="-5400000"/>
                <a:lnTo>
                  <a:pt x="0" y="31317"/>
                </a:lnTo>
                <a:arcTo wR="3600" hR="3600" stAng="10800000" swAng="-5400000"/>
                <a:lnTo>
                  <a:pt x="18000" y="3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2440" y="5024520"/>
            <a:ext cx="547560" cy="1307880"/>
          </a:xfrm>
          <a:custGeom>
            <a:avLst/>
            <a:gdLst>
              <a:gd name="textAreaLeft" fmla="*/ 26640 w 547560"/>
              <a:gd name="textAreaRight" fmla="*/ 520920 w 547560"/>
              <a:gd name="textAreaTop" fmla="*/ 26640 h 1307880"/>
              <a:gd name="textAreaBottom" fmla="*/ 1281240 h 1307880"/>
            </a:gdLst>
            <a:ahLst/>
            <a:rect l="textAreaLeft" t="textAreaTop" r="textAreaRight" b="textAreaBottom"/>
            <a:pathLst>
              <a:path w="21600" h="51573">
                <a:moveTo>
                  <a:pt x="3600" y="0"/>
                </a:moveTo>
                <a:arcTo wR="3600" hR="3600" stAng="16200000" swAng="-5400000"/>
                <a:lnTo>
                  <a:pt x="0" y="47973"/>
                </a:lnTo>
                <a:arcTo wR="3600" hR="3600" stAng="10800000" swAng="-5400000"/>
                <a:lnTo>
                  <a:pt x="18000" y="51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660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879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2556000"/>
            <a:ext cx="22622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8320" y="2908440"/>
            <a:ext cx="22874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82B-2D2B-430C-B3E6-EC708CDA2C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8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4" name=""/>
          <p:cNvSpPr/>
          <p:nvPr/>
        </p:nvSpPr>
        <p:spPr>
          <a:xfrm>
            <a:off x="2579760" y="2200320"/>
            <a:ext cx="1377720" cy="3427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7440" y="1660680"/>
            <a:ext cx="846000" cy="242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25640" y="1711440"/>
            <a:ext cx="771480" cy="2300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28880" y="1649520"/>
            <a:ext cx="820800" cy="253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0080" y="1978200"/>
            <a:ext cx="1168200" cy="318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94400" y="2200320"/>
            <a:ext cx="1414440" cy="342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many 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0160" y="2406600"/>
            <a:ext cx="871560" cy="2556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64320" y="4017960"/>
            <a:ext cx="96984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29560" y="3508200"/>
            <a:ext cx="77148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7000" y="4054320"/>
            <a:ext cx="808200" cy="279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720" y="4454640"/>
            <a:ext cx="784440" cy="2667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5960" y="4605480"/>
            <a:ext cx="709560" cy="315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58680" y="4902120"/>
            <a:ext cx="78444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3440" y="5958000"/>
            <a:ext cx="833400" cy="2412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31200" y="5556240"/>
            <a:ext cx="9316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97680" y="5970600"/>
            <a:ext cx="907920" cy="291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35480" y="5907240"/>
            <a:ext cx="722520" cy="330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26" idx="5"/>
            <a:endCxn id="124" idx="0"/>
          </p:cNvCxnSpPr>
          <p:nvPr/>
        </p:nvCxnSpPr>
        <p:spPr>
          <a:xfrm>
            <a:off x="2584080" y="1917720"/>
            <a:ext cx="685080" cy="264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2" name=""/>
          <p:cNvCxnSpPr>
            <a:stCxn id="125" idx="4"/>
            <a:endCxn id="124" idx="0"/>
          </p:cNvCxnSpPr>
          <p:nvPr/>
        </p:nvCxnSpPr>
        <p:spPr>
          <a:xfrm>
            <a:off x="3250800" y="1912680"/>
            <a:ext cx="18360" cy="268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3" name=""/>
          <p:cNvCxnSpPr>
            <a:stCxn id="127" idx="3"/>
            <a:endCxn id="124" idx="0"/>
          </p:cNvCxnSpPr>
          <p:nvPr/>
        </p:nvCxnSpPr>
        <p:spPr>
          <a:xfrm flipH="1">
            <a:off x="3268800" y="1875960"/>
            <a:ext cx="581400" cy="30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4" name=""/>
          <p:cNvCxnSpPr>
            <a:stCxn id="124" idx="1"/>
            <a:endCxn id="128" idx="6"/>
          </p:cNvCxnSpPr>
          <p:nvPr/>
        </p:nvCxnSpPr>
        <p:spPr>
          <a:xfrm flipH="1" flipV="1">
            <a:off x="2447280" y="2138040"/>
            <a:ext cx="113400" cy="2340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5" name=""/>
          <p:cNvCxnSpPr>
            <a:stCxn id="124" idx="3"/>
            <a:endCxn id="129" idx="2"/>
          </p:cNvCxnSpPr>
          <p:nvPr/>
        </p:nvCxnSpPr>
        <p:spPr>
          <a:xfrm>
            <a:off x="3976200" y="2371320"/>
            <a:ext cx="70884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6" name=""/>
          <p:cNvCxnSpPr>
            <a:stCxn id="124" idx="1"/>
            <a:endCxn id="130" idx="7"/>
          </p:cNvCxnSpPr>
          <p:nvPr/>
        </p:nvCxnSpPr>
        <p:spPr>
          <a:xfrm flipH="1">
            <a:off x="2113920" y="2371320"/>
            <a:ext cx="446760" cy="6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7" name=""/>
          <p:cNvCxnSpPr>
            <a:stCxn id="148" idx="2"/>
            <a:endCxn id="134" idx="0"/>
          </p:cNvCxnSpPr>
          <p:nvPr/>
        </p:nvCxnSpPr>
        <p:spPr>
          <a:xfrm flipH="1">
            <a:off x="815760" y="4135320"/>
            <a:ext cx="600480" cy="310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9" name=""/>
          <p:cNvCxnSpPr>
            <a:stCxn id="148" idx="2"/>
            <a:endCxn id="135" idx="1"/>
          </p:cNvCxnSpPr>
          <p:nvPr/>
        </p:nvCxnSpPr>
        <p:spPr>
          <a:xfrm>
            <a:off x="1415520" y="4134960"/>
            <a:ext cx="204120" cy="506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0" name=""/>
          <p:cNvCxnSpPr>
            <a:stCxn id="148" idx="2"/>
            <a:endCxn id="136" idx="0"/>
          </p:cNvCxnSpPr>
          <p:nvPr/>
        </p:nvCxnSpPr>
        <p:spPr>
          <a:xfrm flipH="1">
            <a:off x="1350720" y="4135320"/>
            <a:ext cx="65520" cy="758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1" name=""/>
          <p:cNvCxnSpPr>
            <a:stCxn id="152" idx="2"/>
            <a:endCxn id="131" idx="0"/>
          </p:cNvCxnSpPr>
          <p:nvPr/>
        </p:nvCxnSpPr>
        <p:spPr>
          <a:xfrm flipH="1">
            <a:off x="6249240" y="3857400"/>
            <a:ext cx="462600" cy="1515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3" name=""/>
          <p:cNvCxnSpPr>
            <a:stCxn id="152" idx="3"/>
            <a:endCxn id="132" idx="2"/>
          </p:cNvCxnSpPr>
          <p:nvPr/>
        </p:nvCxnSpPr>
        <p:spPr>
          <a:xfrm flipV="1">
            <a:off x="7419600" y="3666240"/>
            <a:ext cx="300600" cy="25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4" name=""/>
          <p:cNvCxnSpPr>
            <a:stCxn id="152" idx="2"/>
            <a:endCxn id="133" idx="1"/>
          </p:cNvCxnSpPr>
          <p:nvPr/>
        </p:nvCxnSpPr>
        <p:spPr>
          <a:xfrm>
            <a:off x="6711840" y="3857400"/>
            <a:ext cx="185040" cy="229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5" name=""/>
          <p:cNvCxnSpPr>
            <a:stCxn id="156" idx="2"/>
            <a:endCxn id="140" idx="7"/>
          </p:cNvCxnSpPr>
          <p:nvPr/>
        </p:nvCxnSpPr>
        <p:spPr>
          <a:xfrm flipH="1">
            <a:off x="5851080" y="5520960"/>
            <a:ext cx="294480" cy="42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7" name=""/>
          <p:cNvCxnSpPr>
            <a:stCxn id="156" idx="2"/>
            <a:endCxn id="137" idx="0"/>
          </p:cNvCxnSpPr>
          <p:nvPr/>
        </p:nvCxnSpPr>
        <p:spPr>
          <a:xfrm>
            <a:off x="6145200" y="5521320"/>
            <a:ext cx="286560" cy="427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8" name=""/>
          <p:cNvCxnSpPr>
            <a:stCxn id="156" idx="2"/>
            <a:endCxn id="139" idx="1"/>
          </p:cNvCxnSpPr>
          <p:nvPr/>
        </p:nvCxnSpPr>
        <p:spPr>
          <a:xfrm>
            <a:off x="6145200" y="5520960"/>
            <a:ext cx="986400" cy="4834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9" name=""/>
          <p:cNvCxnSpPr>
            <a:stCxn id="156" idx="3"/>
            <a:endCxn id="138" idx="2"/>
          </p:cNvCxnSpPr>
          <p:nvPr/>
        </p:nvCxnSpPr>
        <p:spPr>
          <a:xfrm>
            <a:off x="6853320" y="5331960"/>
            <a:ext cx="668880" cy="376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5456160" y="516096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me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0760" y="28274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24" idx="2"/>
            <a:endCxn id="160" idx="0"/>
          </p:cNvCxnSpPr>
          <p:nvPr/>
        </p:nvCxnSpPr>
        <p:spPr>
          <a:xfrm>
            <a:off x="3268440" y="2561760"/>
            <a:ext cx="981720" cy="251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3398760" y="2619360"/>
            <a:ext cx="6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0120" y="4241880"/>
            <a:ext cx="2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76520" y="4532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75080" y="3224160"/>
            <a:ext cx="137772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24" idx="2"/>
            <a:endCxn id="165" idx="0"/>
          </p:cNvCxnSpPr>
          <p:nvPr/>
        </p:nvCxnSpPr>
        <p:spPr>
          <a:xfrm flipH="1">
            <a:off x="3263400" y="2561760"/>
            <a:ext cx="5760" cy="6483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67" name=""/>
          <p:cNvCxnSpPr>
            <a:stCxn id="164" idx="0"/>
            <a:endCxn id="165" idx="2"/>
          </p:cNvCxnSpPr>
          <p:nvPr/>
        </p:nvCxnSpPr>
        <p:spPr>
          <a:xfrm flipH="1" flipV="1">
            <a:off x="3263040" y="3579120"/>
            <a:ext cx="2520" cy="934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3171960" y="3544920"/>
            <a:ext cx="3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7960" y="294156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20960" y="5595840"/>
            <a:ext cx="784080" cy="3034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57600" y="1773360"/>
            <a:ext cx="895320" cy="3283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ame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24" idx="3"/>
            <a:endCxn id="171" idx="2"/>
          </p:cNvCxnSpPr>
          <p:nvPr/>
        </p:nvCxnSpPr>
        <p:spPr>
          <a:xfrm flipV="1">
            <a:off x="3976560" y="1937880"/>
            <a:ext cx="572400" cy="434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7643880" y="5180040"/>
            <a:ext cx="1179360" cy="280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56" idx="3"/>
            <a:endCxn id="173" idx="2"/>
          </p:cNvCxnSpPr>
          <p:nvPr/>
        </p:nvCxnSpPr>
        <p:spPr>
          <a:xfrm flipV="1">
            <a:off x="6852960" y="5320440"/>
            <a:ext cx="781560" cy="1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2901960" y="5781600"/>
            <a:ext cx="931680" cy="3542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ff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59320" y="5140440"/>
            <a:ext cx="981000" cy="353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w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4" idx="2"/>
            <a:endCxn id="170" idx="0"/>
          </p:cNvCxnSpPr>
          <p:nvPr/>
        </p:nvCxnSpPr>
        <p:spPr>
          <a:xfrm flipH="1">
            <a:off x="2312640" y="4892400"/>
            <a:ext cx="953280" cy="69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8" name=""/>
          <p:cNvCxnSpPr>
            <a:stCxn id="164" idx="2"/>
            <a:endCxn id="176" idx="1"/>
          </p:cNvCxnSpPr>
          <p:nvPr/>
        </p:nvCxnSpPr>
        <p:spPr>
          <a:xfrm>
            <a:off x="3265560" y="4892400"/>
            <a:ext cx="437040" cy="291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9" name=""/>
          <p:cNvCxnSpPr>
            <a:stCxn id="164" idx="2"/>
            <a:endCxn id="175" idx="0"/>
          </p:cNvCxnSpPr>
          <p:nvPr/>
        </p:nvCxnSpPr>
        <p:spPr>
          <a:xfrm>
            <a:off x="3265560" y="4892400"/>
            <a:ext cx="103680" cy="88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727200" y="3774960"/>
            <a:ext cx="137772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5400" y="30290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24" idx="2"/>
            <a:endCxn id="180" idx="0"/>
          </p:cNvCxnSpPr>
          <p:nvPr/>
        </p:nvCxnSpPr>
        <p:spPr>
          <a:xfrm flipH="1">
            <a:off x="1413720" y="2561760"/>
            <a:ext cx="1855080" cy="453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2" name=""/>
          <p:cNvCxnSpPr>
            <a:stCxn id="180" idx="2"/>
            <a:endCxn id="148" idx="0"/>
          </p:cNvCxnSpPr>
          <p:nvPr/>
        </p:nvCxnSpPr>
        <p:spPr>
          <a:xfrm>
            <a:off x="1414440" y="3384360"/>
            <a:ext cx="2160" cy="37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1347840" y="3417840"/>
            <a:ext cx="2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272412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040" y="2911320"/>
            <a:ext cx="1378080" cy="3430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m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24" idx="3"/>
            <a:endCxn id="185" idx="0"/>
          </p:cNvCxnSpPr>
          <p:nvPr/>
        </p:nvCxnSpPr>
        <p:spPr>
          <a:xfrm>
            <a:off x="3976200" y="2371680"/>
            <a:ext cx="2739240" cy="526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7" name=""/>
          <p:cNvCxnSpPr>
            <a:stCxn id="185" idx="2"/>
            <a:endCxn id="152" idx="0"/>
          </p:cNvCxnSpPr>
          <p:nvPr/>
        </p:nvCxnSpPr>
        <p:spPr>
          <a:xfrm flipH="1">
            <a:off x="6711120" y="3268800"/>
            <a:ext cx="3960" cy="210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6089760" y="254484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2080" y="320832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22800" y="3497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81480" y="5703840"/>
            <a:ext cx="957240" cy="303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7"/>
            <a:endCxn id="156" idx="1"/>
          </p:cNvCxnSpPr>
          <p:nvPr/>
        </p:nvCxnSpPr>
        <p:spPr>
          <a:xfrm flipV="1">
            <a:off x="5098680" y="5331600"/>
            <a:ext cx="338760" cy="407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7308720" y="4808520"/>
            <a:ext cx="660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56" idx="3"/>
            <a:endCxn id="192" idx="2"/>
          </p:cNvCxnSpPr>
          <p:nvPr/>
        </p:nvCxnSpPr>
        <p:spPr>
          <a:xfrm flipV="1">
            <a:off x="6852960" y="4960440"/>
            <a:ext cx="446760" cy="372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175280" y="4738680"/>
            <a:ext cx="6220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64" idx="3"/>
            <a:endCxn id="194" idx="1"/>
          </p:cNvCxnSpPr>
          <p:nvPr/>
        </p:nvCxnSpPr>
        <p:spPr>
          <a:xfrm>
            <a:off x="3973320" y="4703760"/>
            <a:ext cx="292680" cy="7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96" name=""/>
          <p:cNvCxnSpPr>
            <a:stCxn id="160" idx="3"/>
            <a:endCxn id="156" idx="0"/>
          </p:cNvCxnSpPr>
          <p:nvPr/>
        </p:nvCxnSpPr>
        <p:spPr>
          <a:xfrm>
            <a:off x="4952880" y="2998440"/>
            <a:ext cx="1192680" cy="214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9D15-ABF8-4AA6-8775-3646412A186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51460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350532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8" idx="2"/>
            <a:endCxn id="199" idx="0"/>
          </p:cNvCxnSpPr>
          <p:nvPr/>
        </p:nvCxnSpPr>
        <p:spPr>
          <a:xfrm>
            <a:off x="1844280" y="2941560"/>
            <a:ext cx="1080" cy="550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1898640" y="40593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1000" y="307332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1560" y="464976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99" idx="2"/>
            <a:endCxn id="203" idx="0"/>
          </p:cNvCxnSpPr>
          <p:nvPr/>
        </p:nvCxnSpPr>
        <p:spPr>
          <a:xfrm flipH="1">
            <a:off x="1842840" y="3927240"/>
            <a:ext cx="2160" cy="70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1488960" y="566100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27280" y="5678640"/>
            <a:ext cx="88452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5240" y="569592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0440" y="56624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2"/>
            <a:endCxn id="205" idx="0"/>
          </p:cNvCxnSpPr>
          <p:nvPr/>
        </p:nvCxnSpPr>
        <p:spPr>
          <a:xfrm>
            <a:off x="1842840" y="5076360"/>
            <a:ext cx="89640" cy="57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0" name=""/>
          <p:cNvCxnSpPr>
            <a:stCxn id="203" idx="2"/>
            <a:endCxn id="207" idx="1"/>
          </p:cNvCxnSpPr>
          <p:nvPr/>
        </p:nvCxnSpPr>
        <p:spPr>
          <a:xfrm>
            <a:off x="1843200" y="5076360"/>
            <a:ext cx="792720" cy="653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1" name=""/>
          <p:cNvCxnSpPr>
            <a:stCxn id="206" idx="1"/>
            <a:endCxn id="203" idx="2"/>
          </p:cNvCxnSpPr>
          <p:nvPr/>
        </p:nvCxnSpPr>
        <p:spPr>
          <a:xfrm flipH="1" flipV="1">
            <a:off x="1842840" y="5076360"/>
            <a:ext cx="1815120" cy="6357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2" name=""/>
          <p:cNvCxnSpPr>
            <a:stCxn id="208" idx="7"/>
            <a:endCxn id="203" idx="2"/>
          </p:cNvCxnSpPr>
          <p:nvPr/>
        </p:nvCxnSpPr>
        <p:spPr>
          <a:xfrm flipV="1">
            <a:off x="1213920" y="5076360"/>
            <a:ext cx="629640" cy="619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4952880" y="2514600"/>
            <a:ext cx="140364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251460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98" idx="3"/>
            <a:endCxn id="214" idx="1"/>
          </p:cNvCxnSpPr>
          <p:nvPr/>
        </p:nvCxnSpPr>
        <p:spPr>
          <a:xfrm>
            <a:off x="2565000" y="2719080"/>
            <a:ext cx="46908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6" name=""/>
          <p:cNvCxnSpPr>
            <a:stCxn id="214" idx="3"/>
            <a:endCxn id="213" idx="1"/>
          </p:cNvCxnSpPr>
          <p:nvPr/>
        </p:nvCxnSpPr>
        <p:spPr>
          <a:xfrm>
            <a:off x="4465800" y="2719080"/>
            <a:ext cx="46872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2664000" y="242100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29160" y="2395440"/>
            <a:ext cx="2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07320" y="2820960"/>
            <a:ext cx="1155600" cy="358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11720" y="3440160"/>
            <a:ext cx="8841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0000" y="1727280"/>
            <a:ext cx="8589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9400" y="175248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62920" y="236700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0640" y="17780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1" idx="5"/>
            <a:endCxn id="213" idx="0"/>
          </p:cNvCxnSpPr>
          <p:nvPr/>
        </p:nvCxnSpPr>
        <p:spPr>
          <a:xfrm>
            <a:off x="5143320" y="1990800"/>
            <a:ext cx="511560" cy="505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6" name=""/>
          <p:cNvCxnSpPr>
            <a:stCxn id="222" idx="4"/>
            <a:endCxn id="213" idx="0"/>
          </p:cNvCxnSpPr>
          <p:nvPr/>
        </p:nvCxnSpPr>
        <p:spPr>
          <a:xfrm flipH="1">
            <a:off x="5654160" y="2058480"/>
            <a:ext cx="248400" cy="437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7" name=""/>
          <p:cNvCxnSpPr>
            <a:stCxn id="224" idx="3"/>
            <a:endCxn id="213" idx="0"/>
          </p:cNvCxnSpPr>
          <p:nvPr/>
        </p:nvCxnSpPr>
        <p:spPr>
          <a:xfrm flipH="1">
            <a:off x="5653800" y="2041200"/>
            <a:ext cx="947160" cy="454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8" name=""/>
          <p:cNvCxnSpPr>
            <a:stCxn id="223" idx="2"/>
            <a:endCxn id="213" idx="3"/>
          </p:cNvCxnSpPr>
          <p:nvPr/>
        </p:nvCxnSpPr>
        <p:spPr>
          <a:xfrm flipH="1">
            <a:off x="6374520" y="2515680"/>
            <a:ext cx="778680" cy="2041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9" name=""/>
          <p:cNvCxnSpPr>
            <a:stCxn id="219" idx="1"/>
            <a:endCxn id="213" idx="3"/>
          </p:cNvCxnSpPr>
          <p:nvPr/>
        </p:nvCxnSpPr>
        <p:spPr>
          <a:xfrm flipH="1" flipV="1">
            <a:off x="6374880" y="2719080"/>
            <a:ext cx="702720" cy="144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30" name=""/>
          <p:cNvCxnSpPr>
            <a:stCxn id="220" idx="0"/>
            <a:endCxn id="213" idx="2"/>
          </p:cNvCxnSpPr>
          <p:nvPr/>
        </p:nvCxnSpPr>
        <p:spPr>
          <a:xfrm flipV="1">
            <a:off x="5654160" y="2941200"/>
            <a:ext cx="1080" cy="4896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6429240" y="334008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1"/>
            <a:endCxn id="213" idx="2"/>
          </p:cNvCxnSpPr>
          <p:nvPr/>
        </p:nvCxnSpPr>
        <p:spPr>
          <a:xfrm flipH="1" flipV="1">
            <a:off x="5654160" y="2941200"/>
            <a:ext cx="905760" cy="432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21C0-E767-40BA-A5C8-96B4D22BB7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 ( ID, Password )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( game name, company name, genre, price, birth date, quality, and so on )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with several opti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ensitive”, “case insensitive”, “exact match”, “partial match”, “AND” , “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game list, quality, requirement, staff and company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C801-0548-43C7-BEE0-BFED99A508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 game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the game list that the user bough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and update the user’s profil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game freely if the user buy many gam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n email if the new game is inserted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C36-7FCF-44F9-8B44-B5A750731C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3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o what the user can do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, insert, delete and update distribute company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the game, company, staff, quality and requirement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user and supplie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AFE-D7BB-43B3-A3E1-4FB002684D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  <a:ea typeface="굴림체"/>
              </a:rPr>
              <a:t>Syste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54960" y="4913280"/>
            <a:ext cx="1508040" cy="808200"/>
          </a:xfrm>
          <a:prstGeom prst="flowChartMagneticDisk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3279600"/>
            <a:ext cx="1508040" cy="63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13680" y="4019400"/>
            <a:ext cx="485640" cy="806760"/>
          </a:xfrm>
          <a:prstGeom prst="upDownArrow">
            <a:avLst>
              <a:gd name="adj1" fmla="val 50000"/>
              <a:gd name="adj2" fmla="val 330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63920" y="2573280"/>
            <a:ext cx="143496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11840" y="3227400"/>
            <a:ext cx="606240" cy="766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91160" y="346392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45160" y="37274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35080" y="4286160"/>
            <a:ext cx="1074600" cy="1886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25320" y="1720800"/>
            <a:ext cx="1525680" cy="1736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273320" y="368460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0" y="366552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51080" y="465120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4320" y="51386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5A8-8E24-4160-8091-7AD316FEC1C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Joon-Myung Kang</cp:lastModifiedBy>
  <cp:lastPrinted>1997-02-26T15:00:00Z</cp:lastPrinted>
  <dcterms:modified xsi:type="dcterms:W3CDTF">1999-05-22T07:30:02Z</dcterms:modified>
  <cp:revision>19</cp:revision>
  <dc:subject/>
  <dc:title>Lab Project presentation Computer Game Databa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ohhara.postech.ac.kr/~joe</vt:lpwstr>
  </property>
  <property fmtid="{D5CDD505-2E9C-101B-9397-08002B2CF9AE}" pid="10" name="LinkColor">
    <vt:r8>16711782</vt:r8>
  </property>
  <property fmtid="{D5CDD505-2E9C-101B-9397-08002B2CF9AE}" pid="11" name="MailAddress">
    <vt:lpwstr>joe@ohhara.postech.edu</vt:lpwstr>
  </property>
  <property fmtid="{D5CDD505-2E9C-101B-9397-08002B2CF9AE}" pid="12" name="NavBtnPos">
    <vt:r8>3</vt:r8>
  </property>
  <property fmtid="{D5CDD505-2E9C-101B-9397-08002B2CF9AE}" pid="13" name="Other">
    <vt:lpwstr/>
  </property>
  <property fmtid="{D5CDD505-2E9C-101B-9397-08002B2CF9AE}" pid="14" name="OutputDir">
    <vt:lpwstr>X:\public_html\project\lab</vt:lpwstr>
  </property>
  <property fmtid="{D5CDD505-2E9C-101B-9397-08002B2CF9AE}" pid="15" name="ScreenSize">
    <vt:r8>3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