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2F42-19E2-4C46-BD40-1206CAAB9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6147-62AB-4810-B896-152E494C3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3E8C-7DFC-45A6-A6A9-5593E49E3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B7B0-BF29-43D8-887B-E30864B44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1828A-692F-4426-86F1-D442A13F7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CE672-A383-4434-BB8E-B1EB172F3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A89BE-5DF1-4DC8-BCED-5F297E6C2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7B034-A5A8-4F3C-A5AD-8BA9BE51E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5590D-E872-42D0-AB77-5BDB41F3C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19BC4-AAE2-4BE0-B70D-2CC0D457C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BA596-86CD-4490-9C0C-3012E381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0380-C02B-4803-BBA7-C08EAB320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0CEEA-08D6-4EBA-BC0B-10CCBB73B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9E3B4-4BF1-46E7-ABC5-8F40DD23C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9CC34-E597-4D47-B36F-8AFC0CAC1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33A0F-16AD-409E-AD88-20334F201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6DD51-ECF7-49C6-A457-65F866A6B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2625-A27F-4756-A8F3-55DC1BC2F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9C57-2663-4B66-834D-DD3A3E2EA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E119-B8DF-4AAE-9FBC-6A7AD4ADF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3DA4-8AAC-4209-9142-9402C7AFA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05EB-2BEB-4E7B-AD55-DCDCEACDF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560D-6C73-4EE8-A2DB-9C688FD77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EA78-F139-461D-A631-45C54781B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279DC-4325-4E19-B543-E959C3F2E344}" type="slidenum">
              <a:rPr b="0" lang="ko-KR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48576-7934-47C1-84B4-0C489034D31D}" type="slidenum">
              <a:rPr b="0" lang="ko-KR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B*-tree structure</a:t>
            </a:r>
            <a:r>
              <a:rPr b="0" lang="ko-KR" sz="4400" spc="-1" strike="noStrike">
                <a:solidFill>
                  <a:srgbClr val="008000"/>
                </a:solidFill>
                <a:latin typeface="Times New Roman"/>
              </a:rPr>
              <a:t>와 </a:t>
            </a: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database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bda9"/>
                </a:solidFill>
                <a:latin typeface="Times New Roman"/>
              </a:rPr>
              <a:t>SKA</a:t>
            </a:r>
            <a:r>
              <a:rPr b="0" lang="ko-KR" sz="3200" spc="-1" strike="noStrike">
                <a:solidFill>
                  <a:srgbClr val="a9bda9"/>
                </a:solidFill>
                <a:latin typeface="Times New Roman"/>
              </a:rPr>
              <a:t>조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a9bda9"/>
                </a:solidFill>
                <a:latin typeface="Times New Roman"/>
              </a:rPr>
              <a:t>9625014 </a:t>
            </a:r>
            <a:r>
              <a:rPr b="0" lang="ko-KR" sz="3200" spc="-1" strike="noStrike">
                <a:solidFill>
                  <a:srgbClr val="a9bda9"/>
                </a:solidFill>
                <a:latin typeface="Times New Roman"/>
              </a:rPr>
              <a:t>박종훈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a9bda9"/>
                </a:solidFill>
                <a:latin typeface="Times New Roman"/>
              </a:rPr>
              <a:t>9725024 </a:t>
            </a:r>
            <a:r>
              <a:rPr b="0" lang="ko-KR" sz="3200" spc="-1" strike="noStrike">
                <a:solidFill>
                  <a:srgbClr val="a9bda9"/>
                </a:solidFill>
                <a:latin typeface="Times New Roman"/>
              </a:rPr>
              <a:t>장진아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a9bda9"/>
                </a:solidFill>
                <a:latin typeface="Times New Roman"/>
              </a:rPr>
              <a:t>9725031 </a:t>
            </a:r>
            <a:r>
              <a:rPr b="0" lang="ko-KR" sz="3200" spc="-1" strike="noStrike">
                <a:solidFill>
                  <a:srgbClr val="a9bda9"/>
                </a:solidFill>
                <a:latin typeface="Times New Roman"/>
              </a:rPr>
              <a:t>조명우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5" name="db" descr=""/>
          <p:cNvPicPr/>
          <p:nvPr/>
        </p:nvPicPr>
        <p:blipFill>
          <a:blip r:embed="rId2"/>
          <a:stretch/>
        </p:blipFill>
        <p:spPr>
          <a:xfrm>
            <a:off x="2666880" y="228600"/>
            <a:ext cx="38862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Analysis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performance</a:t>
            </a:r>
            <a:r>
              <a:rPr b="0" lang="ko-KR" sz="3200" spc="-1" strike="noStrike">
                <a:solidFill>
                  <a:srgbClr val="333333"/>
                </a:solidFill>
                <a:latin typeface="Times New Roman"/>
              </a:rPr>
              <a:t>의 측정 </a:t>
            </a:r>
            <a:r>
              <a:rPr b="0" lang="ko-KR" sz="3200" spc="-1" strike="noStrike">
                <a:solidFill>
                  <a:srgbClr val="333333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n node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block access time - height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log n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(cf. BST - log n on average case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block size of a nod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node block size</a:t>
            </a:r>
            <a:r>
              <a:rPr b="0" lang="ko-KR" sz="2800" spc="-1" strike="noStrike">
                <a:solidFill>
                  <a:srgbClr val="333333"/>
                </a:solidFill>
                <a:latin typeface="Times New Roman"/>
              </a:rPr>
              <a:t>와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order</a:t>
            </a:r>
            <a:r>
              <a:rPr b="0" lang="ko-KR" sz="2800" spc="-1" strike="noStrike">
                <a:solidFill>
                  <a:srgbClr val="333333"/>
                </a:solidFill>
                <a:latin typeface="Times New Roman"/>
              </a:rPr>
              <a:t>와의 관계를 고려해서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order</a:t>
            </a:r>
            <a:r>
              <a:rPr b="0" lang="ko-KR" sz="2800" spc="-1" strike="noStrike">
                <a:solidFill>
                  <a:srgbClr val="333333"/>
                </a:solidFill>
                <a:latin typeface="Times New Roman"/>
              </a:rPr>
              <a:t>의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optimum value</a:t>
            </a:r>
            <a:r>
              <a:rPr b="0" lang="ko-KR" sz="2800" spc="-1" strike="noStrike">
                <a:solidFill>
                  <a:srgbClr val="333333"/>
                </a:solidFill>
                <a:latin typeface="Times New Roman"/>
              </a:rPr>
              <a:t>를 구해야 한다</a:t>
            </a:r>
            <a:r>
              <a:rPr b="0" lang="ko-KR" sz="28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ko-KR" sz="2800" spc="-1" strike="noStrike">
                <a:solidFill>
                  <a:srgbClr val="333333"/>
                </a:solidFill>
                <a:latin typeface="Times New Roman"/>
              </a:rPr>
              <a:t>(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arameter</a:t>
            </a:r>
            <a:r>
              <a:rPr b="0" lang="ko-KR" sz="2800" spc="-1" strike="noStrike">
                <a:solidFill>
                  <a:srgbClr val="333333"/>
                </a:solidFill>
                <a:latin typeface="Times New Roman"/>
              </a:rPr>
              <a:t>로 결정가능하게</a:t>
            </a:r>
            <a:r>
              <a:rPr b="0" lang="ko-KR" sz="28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B tree</a:t>
            </a:r>
            <a:r>
              <a:rPr b="0" lang="ko-KR" sz="4400" spc="-1" strike="noStrike">
                <a:solidFill>
                  <a:srgbClr val="004c2b"/>
                </a:solidFill>
                <a:latin typeface="Times New Roman"/>
              </a:rPr>
              <a:t>의 특징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advantag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ordered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balanced : searching time</a:t>
            </a:r>
            <a:r>
              <a:rPr b="0" lang="ko-KR" sz="2800" spc="-1" strike="noStrike">
                <a:solidFill>
                  <a:srgbClr val="333333"/>
                </a:solidFill>
                <a:latin typeface="Times New Roman"/>
              </a:rPr>
              <a:t>이 일정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deletion</a:t>
            </a:r>
            <a:r>
              <a:rPr b="0" lang="ko-KR" sz="2800" spc="-1" strike="noStrike">
                <a:solidFill>
                  <a:srgbClr val="333333"/>
                </a:solidFill>
                <a:latin typeface="Times New Roman"/>
              </a:rPr>
              <a:t>시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torage</a:t>
            </a:r>
            <a:r>
              <a:rPr b="0" lang="ko-KR" sz="2800" spc="-1" strike="noStrike">
                <a:solidFill>
                  <a:srgbClr val="333333"/>
                </a:solidFill>
                <a:latin typeface="Times New Roman"/>
              </a:rPr>
              <a:t>낭비를 줄일 수 있다</a:t>
            </a:r>
            <a:r>
              <a:rPr b="0" lang="ko-KR" sz="2800" spc="-1" strike="noStrike">
                <a:solidFill>
                  <a:srgbClr val="333333"/>
                </a:solidFill>
                <a:latin typeface="Times New Roman"/>
              </a:rPr>
              <a:t>. (</a:t>
            </a:r>
            <a:r>
              <a:rPr b="0" lang="ko-KR" sz="2800" spc="-1" strike="noStrike">
                <a:solidFill>
                  <a:srgbClr val="333333"/>
                </a:solidFill>
                <a:latin typeface="Times New Roman"/>
              </a:rPr>
              <a:t>항상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node</a:t>
            </a:r>
            <a:r>
              <a:rPr b="0" lang="ko-KR" sz="2800" spc="-1" strike="noStrike">
                <a:solidFill>
                  <a:srgbClr val="333333"/>
                </a:solidFill>
                <a:latin typeface="Times New Roman"/>
              </a:rPr>
              <a:t>의 사용부분을 </a:t>
            </a:r>
            <a:r>
              <a:rPr b="0" lang="ko-KR" sz="2800" spc="-1" strike="noStrike">
                <a:solidFill>
                  <a:srgbClr val="333333"/>
                </a:solidFill>
                <a:latin typeface="Times New Roman"/>
              </a:rPr>
              <a:t>1/2 </a:t>
            </a:r>
            <a:r>
              <a:rPr b="0" lang="ko-KR" sz="2800" spc="-1" strike="noStrike">
                <a:solidFill>
                  <a:srgbClr val="333333"/>
                </a:solidFill>
                <a:latin typeface="Times New Roman"/>
              </a:rPr>
              <a:t>이상으로</a:t>
            </a:r>
            <a:r>
              <a:rPr b="0" lang="ko-KR" sz="2800" spc="-1" strike="noStrike">
                <a:solidFill>
                  <a:srgbClr val="333333"/>
                </a:solidFill>
                <a:latin typeface="Times New Roman"/>
              </a:rPr>
              <a:t>...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disadvantag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complex in insertion/deletio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B* tree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Defini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Difference between B-Tree and B*-Tre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Inser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Dele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Implemen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Definition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Properties of order 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Root </a:t>
            </a:r>
            <a:r>
              <a:rPr b="0" lang="ko-KR" sz="2800" spc="-1" strike="noStrike">
                <a:solidFill>
                  <a:srgbClr val="333333"/>
                </a:solidFill>
                <a:latin typeface="Times New Roman"/>
              </a:rPr>
              <a:t>를 제외한 모든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node</a:t>
            </a:r>
            <a:r>
              <a:rPr b="0" lang="ko-KR" sz="2800" spc="-1" strike="noStrike">
                <a:solidFill>
                  <a:srgbClr val="333333"/>
                </a:solidFill>
                <a:latin typeface="Times New Roman"/>
              </a:rPr>
              <a:t>는 최대한  </a:t>
            </a:r>
            <a:r>
              <a:rPr b="0" lang="en-US" sz="2800" spc="-1" strike="noStrike">
                <a:solidFill>
                  <a:srgbClr val="310c7c"/>
                </a:solidFill>
                <a:latin typeface="Times New Roman"/>
              </a:rPr>
              <a:t>m</a:t>
            </a:r>
            <a:r>
              <a:rPr b="0" lang="ko-KR" sz="2800" spc="-1" strike="noStrike">
                <a:solidFill>
                  <a:srgbClr val="310c7c"/>
                </a:solidFill>
                <a:latin typeface="Times New Roman"/>
              </a:rPr>
              <a:t>개의 </a:t>
            </a:r>
            <a:r>
              <a:rPr b="0" lang="ko-KR" sz="2800" spc="-1" strike="noStrike">
                <a:solidFill>
                  <a:srgbClr val="766cfa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children </a:t>
            </a:r>
            <a:r>
              <a:rPr b="0" lang="ko-KR" sz="2800" spc="-1" strike="noStrike">
                <a:solidFill>
                  <a:srgbClr val="333333"/>
                </a:solidFill>
                <a:latin typeface="Times New Roman"/>
              </a:rPr>
              <a:t>을 가진다</a:t>
            </a:r>
            <a:r>
              <a:rPr b="0" lang="ko-KR" sz="2800" spc="-1" strike="noStrike">
                <a:solidFill>
                  <a:srgbClr val="00008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Root </a:t>
            </a:r>
            <a:r>
              <a:rPr b="0" lang="ko-KR" sz="2800" spc="-1" strike="noStrike">
                <a:solidFill>
                  <a:srgbClr val="333333"/>
                </a:solidFill>
                <a:latin typeface="Times New Roman"/>
              </a:rPr>
              <a:t>와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leaf</a:t>
            </a:r>
            <a:r>
              <a:rPr b="0" lang="ko-KR" sz="2800" spc="-1" strike="noStrike">
                <a:solidFill>
                  <a:srgbClr val="333333"/>
                </a:solidFill>
                <a:latin typeface="Times New Roman"/>
              </a:rPr>
              <a:t>를 제외한 모든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node</a:t>
            </a:r>
            <a:r>
              <a:rPr b="0" lang="ko-KR" sz="2800" spc="-1" strike="noStrike">
                <a:solidFill>
                  <a:srgbClr val="333333"/>
                </a:solidFill>
                <a:latin typeface="Times New Roman"/>
              </a:rPr>
              <a:t>는 적어도    </a:t>
            </a:r>
            <a:r>
              <a:rPr b="0" lang="ko-KR" sz="2800" spc="-1" strike="noStrike">
                <a:solidFill>
                  <a:srgbClr val="333333"/>
                </a:solidFill>
                <a:latin typeface="Symbol"/>
                <a:ea typeface="Symbol"/>
              </a:rPr>
              <a:t></a:t>
            </a:r>
            <a:r>
              <a:rPr b="0" lang="ko-KR" sz="2800" spc="-1" strike="noStrike">
                <a:solidFill>
                  <a:srgbClr val="000080"/>
                </a:solidFill>
                <a:latin typeface="Times New Roman"/>
              </a:rPr>
              <a:t>(2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m-1)/3</a:t>
            </a:r>
            <a:r>
              <a:rPr b="0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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+ 1 </a:t>
            </a:r>
            <a:r>
              <a:rPr b="0" lang="ko-KR" sz="2800" spc="-1" strike="noStrike">
                <a:solidFill>
                  <a:srgbClr val="333333"/>
                </a:solidFill>
                <a:latin typeface="Times New Roman"/>
              </a:rPr>
              <a:t>개의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children </a:t>
            </a:r>
            <a:r>
              <a:rPr b="0" lang="ko-KR" sz="2800" spc="-1" strike="noStrike">
                <a:solidFill>
                  <a:srgbClr val="333333"/>
                </a:solidFill>
                <a:latin typeface="Times New Roman"/>
              </a:rPr>
              <a:t>을 가진다</a:t>
            </a:r>
            <a:r>
              <a:rPr b="0" lang="ko-KR" sz="2800" spc="-1" strike="noStrike">
                <a:solidFill>
                  <a:srgbClr val="333333"/>
                </a:solidFill>
                <a:latin typeface="Times New Roman"/>
              </a:rPr>
              <a:t>.(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DB : Parameter</a:t>
            </a:r>
            <a:r>
              <a:rPr b="0" lang="ko-KR" sz="2800" spc="-1" strike="noStrike">
                <a:solidFill>
                  <a:srgbClr val="333333"/>
                </a:solidFill>
                <a:latin typeface="Times New Roman"/>
              </a:rPr>
              <a:t>를 이용해서</a:t>
            </a:r>
            <a:r>
              <a:rPr b="0" lang="ko-KR" sz="2800" spc="-1" strike="noStrike">
                <a:solidFill>
                  <a:srgbClr val="333333"/>
                </a:solidFill>
                <a:latin typeface="Times New Roman"/>
              </a:rPr>
              <a:t>, 0.5~1.0</a:t>
            </a:r>
            <a:r>
              <a:rPr b="0" lang="ko-KR" sz="2800" spc="-1" strike="noStrike">
                <a:solidFill>
                  <a:srgbClr val="333333"/>
                </a:solidFill>
                <a:latin typeface="Times New Roman"/>
              </a:rPr>
              <a:t>의 값을 정한다</a:t>
            </a:r>
            <a:r>
              <a:rPr b="0" lang="ko-KR" sz="2800" spc="-1" strike="noStrike">
                <a:solidFill>
                  <a:srgbClr val="333333"/>
                </a:solidFill>
                <a:latin typeface="Times New Roman"/>
              </a:rPr>
              <a:t>.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Root</a:t>
            </a:r>
            <a:r>
              <a:rPr b="0" lang="ko-KR" sz="2800" spc="-1" strike="noStrike">
                <a:solidFill>
                  <a:srgbClr val="333333"/>
                </a:solidFill>
                <a:latin typeface="Times New Roman"/>
              </a:rPr>
              <a:t>는 적어도 </a:t>
            </a:r>
            <a:r>
              <a:rPr b="0" lang="ko-KR" sz="2800" spc="-1" strike="noStrike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ko-KR" sz="2800" spc="-1" strike="noStrike">
                <a:solidFill>
                  <a:srgbClr val="333333"/>
                </a:solidFill>
                <a:latin typeface="Times New Roman"/>
              </a:rPr>
              <a:t>개</a:t>
            </a:r>
            <a:r>
              <a:rPr b="0" lang="ko-KR" sz="2800" spc="-1" strike="noStrike">
                <a:solidFill>
                  <a:srgbClr val="333333"/>
                </a:solidFill>
                <a:latin typeface="Times New Roman"/>
              </a:rPr>
              <a:t>,  </a:t>
            </a:r>
            <a:r>
              <a:rPr b="0" lang="ko-KR" sz="2800" spc="-1" strike="noStrike">
                <a:solidFill>
                  <a:srgbClr val="333333"/>
                </a:solidFill>
                <a:latin typeface="Times New Roman"/>
              </a:rPr>
              <a:t>많아야 </a:t>
            </a:r>
            <a:r>
              <a:rPr b="0" lang="ko-KR" sz="2800" spc="-1" strike="noStrike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ko-KR" sz="2800" spc="-1" strike="noStrike">
                <a:solidFill>
                  <a:srgbClr val="333333"/>
                </a:solidFill>
                <a:latin typeface="Symbol"/>
                <a:ea typeface="Symbol"/>
              </a:rPr>
              <a:t></a:t>
            </a:r>
            <a:r>
              <a:rPr b="0" lang="ko-KR" sz="2800" spc="-1" strike="noStrike">
                <a:solidFill>
                  <a:srgbClr val="333333"/>
                </a:solidFill>
                <a:latin typeface="Times New Roman"/>
              </a:rPr>
              <a:t>(2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m-2)/3</a:t>
            </a:r>
            <a:r>
              <a:rPr b="0" lang="ko-KR" sz="2800" spc="-1" strike="noStrike">
                <a:solidFill>
                  <a:srgbClr val="333333"/>
                </a:solidFill>
                <a:latin typeface="Symbol"/>
                <a:ea typeface="Symbol"/>
              </a:rPr>
              <a:t></a:t>
            </a:r>
            <a:r>
              <a:rPr b="0" lang="ko-KR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+1 </a:t>
            </a:r>
            <a:r>
              <a:rPr b="0" lang="ko-KR" sz="2800" spc="-1" strike="noStrike">
                <a:solidFill>
                  <a:srgbClr val="333333"/>
                </a:solidFill>
                <a:latin typeface="Times New Roman"/>
              </a:rPr>
              <a:t>개의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children</a:t>
            </a:r>
            <a:r>
              <a:rPr b="0" lang="ko-KR" sz="2800" spc="-1" strike="noStrike">
                <a:solidFill>
                  <a:srgbClr val="333333"/>
                </a:solidFill>
                <a:latin typeface="Times New Roman"/>
              </a:rPr>
              <a:t>을 가진다</a:t>
            </a:r>
            <a:r>
              <a:rPr b="0" lang="ko-KR" sz="28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ontinue...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Properties of order m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leaf nodes are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at the sam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60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ko-KR" sz="2800" spc="-1" strike="noStrike">
                <a:solidFill>
                  <a:srgbClr val="ff0066"/>
                </a:solidFill>
                <a:latin typeface="Times New Roman"/>
              </a:rPr>
              <a:t>개의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children</a:t>
            </a:r>
            <a:r>
              <a:rPr b="1" lang="ko-KR" sz="2800" spc="-1" strike="noStrike">
                <a:solidFill>
                  <a:srgbClr val="333333"/>
                </a:solidFill>
                <a:latin typeface="Times New Roman"/>
              </a:rPr>
              <a:t>을 가지는 </a:t>
            </a:r>
            <a:r>
              <a:rPr b="1" lang="en-US" sz="2800" spc="-1" strike="noStrike">
                <a:solidFill>
                  <a:srgbClr val="004c2b"/>
                </a:solidFill>
                <a:latin typeface="Times New Roman"/>
              </a:rPr>
              <a:t>non-leaf node</a:t>
            </a:r>
            <a:r>
              <a:rPr b="1" lang="ko-KR" sz="2800" spc="-1" strike="noStrike">
                <a:solidFill>
                  <a:srgbClr val="333333"/>
                </a:solidFill>
                <a:latin typeface="Times New Roman"/>
              </a:rPr>
              <a:t>는  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k-1</a:t>
            </a:r>
            <a:r>
              <a:rPr b="1" lang="ko-KR" sz="2800" spc="-1" strike="noStrike">
                <a:solidFill>
                  <a:srgbClr val="ff0066"/>
                </a:solidFill>
                <a:latin typeface="Times New Roman"/>
              </a:rPr>
              <a:t>개의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records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ko-KR" sz="2800" spc="-1" strike="noStrike">
                <a:solidFill>
                  <a:srgbClr val="333333"/>
                </a:solidFill>
                <a:latin typeface="Times New Roman"/>
              </a:rPr>
              <a:t>를 가진다</a:t>
            </a:r>
            <a:r>
              <a:rPr b="1" lang="ko-KR" sz="28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60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Non-leaf node</a:t>
            </a:r>
            <a:r>
              <a:rPr b="1" lang="ko-KR" sz="2800" spc="-1" strike="noStrike">
                <a:solidFill>
                  <a:srgbClr val="333333"/>
                </a:solidFill>
                <a:latin typeface="Times New Roman"/>
              </a:rPr>
              <a:t>는 적어도 </a:t>
            </a:r>
            <a:r>
              <a:rPr b="1" lang="ko-KR" sz="2800" spc="-1" strike="noStrike">
                <a:solidFill>
                  <a:srgbClr val="333333"/>
                </a:solidFill>
                <a:latin typeface="Symbol"/>
                <a:ea typeface="Symbol"/>
              </a:rPr>
              <a:t></a:t>
            </a:r>
            <a:r>
              <a:rPr b="1" lang="ko-KR" sz="2800" spc="-1" strike="noStrike">
                <a:solidFill>
                  <a:srgbClr val="333333"/>
                </a:solidFill>
                <a:latin typeface="Times New Roman"/>
              </a:rPr>
              <a:t>(2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m-2)/3</a:t>
            </a:r>
            <a:r>
              <a:rPr b="1" lang="ko-KR" sz="2800" spc="-1" strike="noStrike">
                <a:solidFill>
                  <a:srgbClr val="333333"/>
                </a:solidFill>
                <a:latin typeface="Symbol"/>
                <a:ea typeface="Symbol"/>
              </a:rPr>
              <a:t></a:t>
            </a:r>
            <a:r>
              <a:rPr b="1" lang="ko-KR" sz="2800" spc="-1" strike="noStrike">
                <a:solidFill>
                  <a:srgbClr val="333333"/>
                </a:solidFill>
                <a:latin typeface="Times New Roman"/>
              </a:rPr>
              <a:t>개</a:t>
            </a:r>
            <a:r>
              <a:rPr b="1" lang="ko-KR" sz="28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1" lang="ko-KR" sz="2800" spc="-1" strike="noStrike">
                <a:solidFill>
                  <a:srgbClr val="333333"/>
                </a:solidFill>
                <a:latin typeface="Times New Roman"/>
              </a:rPr>
              <a:t>많아야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m-1</a:t>
            </a:r>
            <a:r>
              <a:rPr b="1" lang="ko-KR" sz="2800" spc="-1" strike="noStrike">
                <a:solidFill>
                  <a:srgbClr val="333333"/>
                </a:solidFill>
                <a:latin typeface="Times New Roman"/>
              </a:rPr>
              <a:t>개의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records</a:t>
            </a:r>
            <a:r>
              <a:rPr b="1" lang="ko-KR" sz="2800" spc="-1" strike="noStrike">
                <a:solidFill>
                  <a:srgbClr val="333333"/>
                </a:solidFill>
                <a:latin typeface="Times New Roman"/>
              </a:rPr>
              <a:t>를 갖는다</a:t>
            </a:r>
            <a:r>
              <a:rPr b="1" lang="ko-KR" sz="28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60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Example of B* Tree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4419720"/>
            <a:ext cx="6019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38080" y="1295280"/>
            <a:ext cx="6172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돋움"/>
              </a:rPr>
              <a:t>order  m =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  <a:ea typeface="돋움"/>
              </a:rPr>
              <a:t>4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돋움"/>
              </a:rPr>
              <a:t>root  node : 2</a:t>
            </a:r>
            <a:r>
              <a:rPr b="0" lang="ko-KR" sz="2400" spc="-1" strike="noStrike">
                <a:solidFill>
                  <a:srgbClr val="333333"/>
                </a:solidFill>
                <a:latin typeface="Arial"/>
                <a:ea typeface="돋움"/>
              </a:rPr>
              <a:t>개 에서 </a:t>
            </a:r>
            <a:r>
              <a:rPr b="0" lang="ko-KR" sz="2400" spc="-1" strike="noStrike">
                <a:solidFill>
                  <a:srgbClr val="333333"/>
                </a:solidFill>
                <a:latin typeface="Arial"/>
                <a:ea typeface="돋움"/>
              </a:rPr>
              <a:t>5</a:t>
            </a:r>
            <a:r>
              <a:rPr b="0" lang="ko-KR" sz="2400" spc="-1" strike="noStrike">
                <a:solidFill>
                  <a:srgbClr val="333333"/>
                </a:solidFill>
                <a:latin typeface="Arial"/>
                <a:ea typeface="돋움"/>
              </a:rPr>
              <a:t>개까지의 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돋움"/>
              </a:rPr>
              <a:t>childre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돋움"/>
              </a:rPr>
              <a:t> 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돋움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돋움"/>
              </a:rPr>
              <a:t>       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돋움"/>
              </a:rPr>
              <a:t>(2 </a:t>
            </a:r>
            <a:r>
              <a:rPr b="0" lang="en-US" sz="2400" spc="-1" strike="noStrike">
                <a:solidFill>
                  <a:srgbClr val="333333"/>
                </a:solidFill>
                <a:latin typeface="Symbol"/>
                <a:ea typeface="Symbol"/>
              </a:rPr>
              <a:t>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돋움"/>
              </a:rPr>
              <a:t>(2m-2)/3</a:t>
            </a:r>
            <a:r>
              <a:rPr b="0" lang="en-US" sz="2400" spc="-1" strike="noStrike">
                <a:solidFill>
                  <a:srgbClr val="333333"/>
                </a:solidFill>
                <a:latin typeface="Symbol"/>
                <a:ea typeface="Symbol"/>
              </a:rPr>
              <a:t>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돋움"/>
              </a:rPr>
              <a:t> +1 =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  <a:ea typeface="돋움"/>
              </a:rPr>
              <a:t>5 children</a:t>
            </a:r>
            <a:r>
              <a:rPr b="0" lang="ko-KR" sz="2400" spc="-1" strike="noStrike">
                <a:solidFill>
                  <a:srgbClr val="ff0066"/>
                </a:solidFill>
                <a:latin typeface="Arial"/>
                <a:ea typeface="돋움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돋움"/>
              </a:rPr>
              <a:t>interior  node :3</a:t>
            </a:r>
            <a:r>
              <a:rPr b="0" lang="ko-KR" sz="2400" spc="-1" strike="noStrike">
                <a:solidFill>
                  <a:srgbClr val="333333"/>
                </a:solidFill>
                <a:latin typeface="Arial"/>
                <a:ea typeface="돋움"/>
              </a:rPr>
              <a:t>개에서 </a:t>
            </a:r>
            <a:r>
              <a:rPr b="0" lang="ko-KR" sz="2400" spc="-1" strike="noStrike">
                <a:solidFill>
                  <a:srgbClr val="333333"/>
                </a:solidFill>
                <a:latin typeface="Arial"/>
                <a:ea typeface="돋움"/>
              </a:rPr>
              <a:t>4</a:t>
            </a:r>
            <a:r>
              <a:rPr b="0" lang="ko-KR" sz="2400" spc="-1" strike="noStrike">
                <a:solidFill>
                  <a:srgbClr val="333333"/>
                </a:solidFill>
                <a:latin typeface="Arial"/>
                <a:ea typeface="돋움"/>
              </a:rPr>
              <a:t>개까지의 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돋움"/>
              </a:rPr>
              <a:t>childre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돋움"/>
              </a:rPr>
              <a:t>	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돋움"/>
              </a:rPr>
              <a:t>           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돋움"/>
              </a:rPr>
              <a:t>( </a:t>
            </a:r>
            <a:r>
              <a:rPr b="0" lang="en-US" sz="2400" spc="-1" strike="noStrike">
                <a:solidFill>
                  <a:srgbClr val="333333"/>
                </a:solidFill>
                <a:latin typeface="Symbol"/>
                <a:ea typeface="Symbol"/>
              </a:rPr>
              <a:t>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돋움"/>
              </a:rPr>
              <a:t>(2m-1)/3</a:t>
            </a:r>
            <a:r>
              <a:rPr b="0" lang="en-US" sz="2400" spc="-1" strike="noStrike">
                <a:solidFill>
                  <a:srgbClr val="333333"/>
                </a:solidFill>
                <a:latin typeface="Symbol"/>
                <a:ea typeface="Symbol"/>
              </a:rPr>
              <a:t>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돋움"/>
              </a:rPr>
              <a:t> +1=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  <a:ea typeface="돋움"/>
              </a:rPr>
              <a:t>3 children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5791320"/>
            <a:ext cx="1206720" cy="291960"/>
          </a:xfrm>
          <a:prstGeom prst="rect">
            <a:avLst/>
          </a:prstGeom>
          <a:solidFill>
            <a:srgbClr val="3399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33"/>
                </a:solidFill>
                <a:latin typeface="Arial"/>
                <a:ea typeface="돋움"/>
              </a:rPr>
              <a:t>10   15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5791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47920" y="5791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81080" y="5791320"/>
            <a:ext cx="1130400" cy="291960"/>
          </a:xfrm>
          <a:prstGeom prst="rect">
            <a:avLst/>
          </a:prstGeom>
          <a:solidFill>
            <a:srgbClr val="3399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33"/>
                </a:solidFill>
                <a:latin typeface="Arial"/>
                <a:ea typeface="돋움"/>
              </a:rPr>
              <a:t>25   30   33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791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743200" y="5791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00400" y="5791320"/>
            <a:ext cx="1130400" cy="291960"/>
          </a:xfrm>
          <a:prstGeom prst="rect">
            <a:avLst/>
          </a:prstGeom>
          <a:solidFill>
            <a:srgbClr val="3399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33"/>
                </a:solidFill>
                <a:latin typeface="Arial"/>
                <a:ea typeface="돋움"/>
              </a:rPr>
              <a:t>40   41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81280" y="5791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62520" y="5791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419720" y="5791320"/>
            <a:ext cx="1206360" cy="291960"/>
          </a:xfrm>
          <a:prstGeom prst="rect">
            <a:avLst/>
          </a:prstGeom>
          <a:solidFill>
            <a:srgbClr val="3399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33"/>
                </a:solidFill>
                <a:latin typeface="Arial"/>
                <a:ea typeface="돋움"/>
              </a:rPr>
              <a:t>45    49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00600" y="5791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181480" y="5791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791320" y="5791320"/>
            <a:ext cx="1206360" cy="291960"/>
          </a:xfrm>
          <a:prstGeom prst="rect">
            <a:avLst/>
          </a:prstGeom>
          <a:solidFill>
            <a:srgbClr val="3399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33"/>
                </a:solidFill>
                <a:latin typeface="Arial"/>
                <a:ea typeface="돋움"/>
              </a:rPr>
              <a:t>60   70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72200" y="5791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553080" y="5791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238880" y="5791320"/>
            <a:ext cx="1359000" cy="291960"/>
          </a:xfrm>
          <a:prstGeom prst="rect">
            <a:avLst/>
          </a:prstGeom>
          <a:solidFill>
            <a:srgbClr val="3399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33"/>
                </a:solidFill>
                <a:latin typeface="Arial"/>
                <a:ea typeface="돋움"/>
              </a:rPr>
              <a:t>100  150</a:t>
            </a:r>
            <a:r>
              <a:rPr b="0" lang="ko-KR" sz="1600" spc="-1" strike="noStrike">
                <a:solidFill>
                  <a:srgbClr val="333333"/>
                </a:solidFill>
                <a:latin typeface="Arial"/>
                <a:ea typeface="돋움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153280" y="5791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696080" y="5791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444760" y="4654440"/>
            <a:ext cx="1206360" cy="292320"/>
          </a:xfrm>
          <a:prstGeom prst="rect">
            <a:avLst/>
          </a:prstGeom>
          <a:solidFill>
            <a:srgbClr val="3399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33"/>
                </a:solidFill>
                <a:latin typeface="Arial"/>
                <a:ea typeface="돋움"/>
              </a:rPr>
              <a:t>20   35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1952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20040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30760" y="4654440"/>
            <a:ext cx="1206360" cy="292320"/>
          </a:xfrm>
          <a:prstGeom prst="rect">
            <a:avLst/>
          </a:prstGeom>
          <a:solidFill>
            <a:srgbClr val="3399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33"/>
                </a:solidFill>
                <a:latin typeface="Arial"/>
                <a:ea typeface="돋움"/>
              </a:rPr>
              <a:t>50</a:t>
            </a:r>
            <a:r>
              <a:rPr b="0" lang="ko-KR" sz="1600" spc="-1" strike="noStrike">
                <a:solidFill>
                  <a:srgbClr val="333333"/>
                </a:solidFill>
                <a:latin typeface="Arial"/>
                <a:ea typeface="돋움"/>
              </a:rPr>
              <a:t>   </a:t>
            </a:r>
            <a:r>
              <a:rPr b="1" lang="ko-KR" sz="1600" spc="-1" strike="noStrike">
                <a:solidFill>
                  <a:srgbClr val="333333"/>
                </a:solidFill>
                <a:latin typeface="Arial"/>
                <a:ea typeface="돋움"/>
              </a:rPr>
              <a:t>90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10552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562720" y="4648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505320" y="3657600"/>
            <a:ext cx="1511280" cy="291960"/>
          </a:xfrm>
          <a:prstGeom prst="rect">
            <a:avLst/>
          </a:prstGeom>
          <a:solidFill>
            <a:srgbClr val="3399ff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33"/>
                </a:solidFill>
                <a:latin typeface="Arial"/>
                <a:ea typeface="돋움"/>
              </a:rPr>
              <a:t>44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86200" y="36576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267080" y="36576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648320" y="365760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2971800" y="3962520"/>
            <a:ext cx="533520" cy="609480"/>
          </a:xfrm>
          <a:prstGeom prst="line">
            <a:avLst/>
          </a:prstGeom>
          <a:ln w="12600">
            <a:solidFill>
              <a:srgbClr val="00008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86200" y="3962520"/>
            <a:ext cx="1219320" cy="609480"/>
          </a:xfrm>
          <a:prstGeom prst="line">
            <a:avLst/>
          </a:prstGeom>
          <a:ln w="12600">
            <a:solidFill>
              <a:srgbClr val="00008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1219320" y="4952880"/>
            <a:ext cx="1218960" cy="762120"/>
          </a:xfrm>
          <a:prstGeom prst="line">
            <a:avLst/>
          </a:prstGeom>
          <a:ln w="12600">
            <a:solidFill>
              <a:srgbClr val="00008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2514240" y="4952880"/>
            <a:ext cx="304920" cy="762120"/>
          </a:xfrm>
          <a:prstGeom prst="line">
            <a:avLst/>
          </a:prstGeom>
          <a:ln w="12600">
            <a:solidFill>
              <a:srgbClr val="00008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4952880"/>
            <a:ext cx="457200" cy="762120"/>
          </a:xfrm>
          <a:prstGeom prst="line">
            <a:avLst/>
          </a:prstGeom>
          <a:ln w="12600">
            <a:solidFill>
              <a:srgbClr val="00008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724280" y="4952880"/>
            <a:ext cx="228600" cy="762120"/>
          </a:xfrm>
          <a:prstGeom prst="line">
            <a:avLst/>
          </a:prstGeom>
          <a:ln w="12600">
            <a:solidFill>
              <a:srgbClr val="00008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05520" y="4952880"/>
            <a:ext cx="1143000" cy="762120"/>
          </a:xfrm>
          <a:prstGeom prst="line">
            <a:avLst/>
          </a:prstGeom>
          <a:ln w="12600">
            <a:solidFill>
              <a:srgbClr val="00008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562720" y="4952880"/>
            <a:ext cx="2057400" cy="762120"/>
          </a:xfrm>
          <a:prstGeom prst="line">
            <a:avLst/>
          </a:prstGeom>
          <a:ln w="12600">
            <a:solidFill>
              <a:srgbClr val="00008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791320" y="579132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Difference </a:t>
            </a:r>
            <a:r>
              <a:rPr b="0" lang="en-US" sz="3200" spc="-1" strike="noStrike">
                <a:solidFill>
                  <a:srgbClr val="004c2b"/>
                </a:solidFill>
                <a:latin typeface="Times New Roman"/>
              </a:rPr>
              <a:t>between B tree and B* tree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1676520"/>
            <a:ext cx="71625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돋움"/>
              </a:rPr>
              <a:t>order =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  <a:ea typeface="돋움"/>
              </a:rPr>
              <a:t>4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돋움"/>
              </a:rPr>
              <a:t>insert : 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  <a:ea typeface="돋움"/>
              </a:rPr>
              <a:t>10 30 90 50 20 100 150 25 70 60 40 49 45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3124080"/>
            <a:ext cx="1752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638000" y="2819520"/>
            <a:ext cx="1802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돋움"/>
              </a:rPr>
              <a:t>B-Tre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676480" y="2819520"/>
            <a:ext cx="1904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  <a:ea typeface="돋움"/>
              </a:rPr>
              <a:t>B* Tre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228600" y="3657600"/>
            <a:ext cx="4863600" cy="2133720"/>
            <a:chOff x="228600" y="3657600"/>
            <a:chExt cx="4863600" cy="2133720"/>
          </a:xfrm>
        </p:grpSpPr>
        <p:sp>
          <p:nvSpPr>
            <p:cNvPr id="164" name=""/>
            <p:cNvSpPr/>
            <p:nvPr/>
          </p:nvSpPr>
          <p:spPr>
            <a:xfrm>
              <a:off x="4190760" y="5492880"/>
              <a:ext cx="901440" cy="29196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80"/>
                  </a:solidFill>
                  <a:latin typeface="Arial"/>
                  <a:ea typeface="돋움"/>
                </a:rPr>
                <a:t>150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489200" y="5486400"/>
              <a:ext cx="0" cy="30492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794120" y="5486400"/>
              <a:ext cx="0" cy="30492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200040" y="5492880"/>
              <a:ext cx="901440" cy="29196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80"/>
                  </a:solidFill>
                  <a:latin typeface="Arial"/>
                  <a:ea typeface="돋움"/>
                </a:rPr>
                <a:t>60   90  70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498480" y="5486400"/>
              <a:ext cx="0" cy="30492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3400" y="5486400"/>
              <a:ext cx="0" cy="30492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209680" y="5492880"/>
              <a:ext cx="901080" cy="29196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80"/>
                  </a:solidFill>
                  <a:latin typeface="Arial"/>
                  <a:ea typeface="돋움"/>
                </a:rPr>
                <a:t>49 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508120" y="5486400"/>
              <a:ext cx="0" cy="30492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12680" y="5486400"/>
              <a:ext cx="0" cy="30492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218960" y="5492880"/>
              <a:ext cx="901440" cy="29196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80"/>
                  </a:solidFill>
                  <a:latin typeface="Arial"/>
                  <a:ea typeface="돋움"/>
                </a:rPr>
                <a:t>30  40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7400" y="5486400"/>
              <a:ext cx="0" cy="30492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822320" y="5486400"/>
              <a:ext cx="0" cy="30492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28600" y="5492880"/>
              <a:ext cx="901440" cy="29196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80"/>
                  </a:solidFill>
                  <a:latin typeface="Arial"/>
                  <a:ea typeface="돋움"/>
                </a:rPr>
                <a:t>10   20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26680" y="5486400"/>
              <a:ext cx="0" cy="30492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31600" y="5486400"/>
              <a:ext cx="0" cy="30492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895480" y="4502160"/>
              <a:ext cx="901080" cy="29196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80"/>
                  </a:solidFill>
                  <a:latin typeface="Arial"/>
                  <a:ea typeface="돋움"/>
                </a:rPr>
                <a:t>100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193920" y="4495680"/>
              <a:ext cx="0" cy="30492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498480" y="4495680"/>
              <a:ext cx="0" cy="30492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371240" y="4502160"/>
              <a:ext cx="901440" cy="29196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80"/>
                  </a:solidFill>
                  <a:latin typeface="Arial"/>
                  <a:ea typeface="돋움"/>
                </a:rPr>
                <a:t>25  45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669680" y="4495680"/>
              <a:ext cx="0" cy="30492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74600" y="4495680"/>
              <a:ext cx="0" cy="30492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209680" y="3664080"/>
              <a:ext cx="901080" cy="29196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80"/>
                  </a:solidFill>
                  <a:latin typeface="Arial"/>
                  <a:ea typeface="돋움"/>
                </a:rPr>
                <a:t>50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508120" y="3657600"/>
              <a:ext cx="0" cy="30492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812680" y="3657600"/>
              <a:ext cx="0" cy="30492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1821960" y="3962520"/>
              <a:ext cx="380520" cy="45720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08120" y="3962520"/>
              <a:ext cx="685440" cy="45720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754920" y="4800600"/>
              <a:ext cx="609480" cy="60948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669680" y="4800600"/>
              <a:ext cx="0" cy="60948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974600" y="4800600"/>
              <a:ext cx="533160" cy="60948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889000" y="4800600"/>
              <a:ext cx="685440" cy="60948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193920" y="4800600"/>
              <a:ext cx="1371240" cy="60948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4800600" y="3809880"/>
            <a:ext cx="3873600" cy="1447920"/>
            <a:chOff x="4800600" y="3809880"/>
            <a:chExt cx="3873600" cy="1447920"/>
          </a:xfrm>
        </p:grpSpPr>
        <p:sp>
          <p:nvSpPr>
            <p:cNvPr id="196" name=""/>
            <p:cNvSpPr/>
            <p:nvPr/>
          </p:nvSpPr>
          <p:spPr>
            <a:xfrm>
              <a:off x="7772400" y="4959360"/>
              <a:ext cx="901800" cy="29196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80"/>
                  </a:solidFill>
                  <a:latin typeface="Arial"/>
                  <a:ea typeface="돋움"/>
                </a:rPr>
                <a:t>100 150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070840" y="4952880"/>
              <a:ext cx="0" cy="30492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375760" y="4952880"/>
              <a:ext cx="0" cy="30492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82040" y="4959360"/>
              <a:ext cx="901440" cy="29196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80"/>
                  </a:solidFill>
                  <a:latin typeface="Arial"/>
                  <a:ea typeface="돋움"/>
                </a:rPr>
                <a:t>60  70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80480" y="4952880"/>
              <a:ext cx="0" cy="30492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385040" y="4952880"/>
              <a:ext cx="0" cy="30492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791320" y="4959360"/>
              <a:ext cx="901800" cy="29196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80"/>
                  </a:solidFill>
                  <a:latin typeface="Arial"/>
                  <a:ea typeface="돋움"/>
                </a:rPr>
                <a:t>40  45    49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089760" y="4952880"/>
              <a:ext cx="0" cy="30492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394680" y="4952880"/>
              <a:ext cx="0" cy="30492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800600" y="4959360"/>
              <a:ext cx="901800" cy="29196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80"/>
                  </a:solidFill>
                  <a:latin typeface="Arial"/>
                  <a:ea typeface="돋움"/>
                </a:rPr>
                <a:t>10  20    25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099040" y="4952880"/>
              <a:ext cx="0" cy="30492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403960" y="4952880"/>
              <a:ext cx="0" cy="30492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400800" y="3816360"/>
              <a:ext cx="1206720" cy="29196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80"/>
                  </a:solidFill>
                  <a:latin typeface="Arial"/>
                  <a:ea typeface="돋움"/>
                </a:rPr>
                <a:t>30   50   90</a:t>
              </a:r>
              <a:endParaRPr b="0" lang="en-US" sz="1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699240" y="3809880"/>
              <a:ext cx="0" cy="30492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004160" y="3809880"/>
              <a:ext cx="0" cy="30492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309080" y="3809880"/>
              <a:ext cx="0" cy="30492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5327640" y="4114800"/>
              <a:ext cx="1067040" cy="76176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6318360" y="4114800"/>
              <a:ext cx="380880" cy="76176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004160" y="4114800"/>
              <a:ext cx="152280" cy="76176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309080" y="4114800"/>
              <a:ext cx="761760" cy="76176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Insertion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arch oper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recursive operation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from leaf node to roo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as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when node is </a:t>
            </a: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not ful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when node is </a:t>
            </a: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full (loadfactor</a:t>
            </a:r>
            <a:r>
              <a:rPr b="0" lang="ko-KR" sz="2800" spc="-1" strike="noStrike">
                <a:solidFill>
                  <a:srgbClr val="004c2b"/>
                </a:solidFill>
                <a:latin typeface="Times New Roman"/>
              </a:rPr>
              <a:t>로 결정</a:t>
            </a:r>
            <a:r>
              <a:rPr b="0" lang="ko-KR" sz="2800" spc="-1" strike="noStrike">
                <a:solidFill>
                  <a:srgbClr val="004c2b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spli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redistributio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Deletion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arch oper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as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delete key from interior nod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delete key from leaf nod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when deleted node has keys </a:t>
            </a:r>
            <a:r>
              <a:rPr b="0" lang="en-US" sz="2400" spc="-1" strike="noStrike">
                <a:solidFill>
                  <a:srgbClr val="ff99ff"/>
                </a:solidFill>
                <a:latin typeface="Times New Roman"/>
              </a:rPr>
              <a:t>more than or equal to 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33"/>
                </a:solidFill>
                <a:latin typeface="Symbol"/>
                <a:ea typeface="Symbol"/>
              </a:rPr>
              <a:t>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(2m-2)/3</a:t>
            </a:r>
            <a:r>
              <a:rPr b="0" lang="en-US" sz="2400" spc="-1" strike="noStrike">
                <a:solidFill>
                  <a:srgbClr val="333333"/>
                </a:solidFill>
                <a:latin typeface="Symbol"/>
                <a:ea typeface="Symbol"/>
              </a:rPr>
              <a:t>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+1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when deleted node has keys  </a:t>
            </a:r>
            <a:r>
              <a:rPr b="0" lang="en-US" sz="2400" spc="-1" strike="noStrike">
                <a:solidFill>
                  <a:srgbClr val="ff99ff"/>
                </a:solidFill>
                <a:latin typeface="Times New Roman"/>
              </a:rPr>
              <a:t>less than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33"/>
                </a:solidFill>
                <a:latin typeface="Symbol"/>
                <a:ea typeface="Symbol"/>
              </a:rPr>
              <a:t>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(2m-2)/3</a:t>
            </a:r>
            <a:r>
              <a:rPr b="0" lang="en-US" sz="2400" spc="-1" strike="noStrike">
                <a:solidFill>
                  <a:srgbClr val="333333"/>
                </a:solidFill>
                <a:latin typeface="Symbol"/>
                <a:ea typeface="Symbol"/>
              </a:rPr>
              <a:t>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+1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8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merge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8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redistribution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B*-tree Design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B*-tree structure desig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node, logical blocks( index, data 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B*-tree Exampl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example tabl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B*-tree by primary ke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B*-tree by an attribut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Implemen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4c2b"/>
                </a:solidFill>
                <a:latin typeface="Times New Roman"/>
              </a:rPr>
              <a:t>차 례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Disadvantages of Hashing,ISAM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B-tree &amp; Databas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B*-tre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B*-tree Design(node, blocks, etc.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Example(table, block structure, etc.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Implementat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B*-tree Design - nodes, blocks -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38080" y="19051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Index Nod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838080" y="2514600"/>
            <a:ext cx="7314840" cy="914400"/>
            <a:chOff x="838080" y="2514600"/>
            <a:chExt cx="7314840" cy="914400"/>
          </a:xfrm>
        </p:grpSpPr>
        <p:sp>
          <p:nvSpPr>
            <p:cNvPr id="225" name=""/>
            <p:cNvSpPr/>
            <p:nvPr/>
          </p:nvSpPr>
          <p:spPr>
            <a:xfrm>
              <a:off x="838080" y="2514600"/>
              <a:ext cx="7314840" cy="914400"/>
            </a:xfrm>
            <a:prstGeom prst="rect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813560" y="2514600"/>
              <a:ext cx="477000" cy="914400"/>
            </a:xfrm>
            <a:prstGeom prst="rect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33"/>
                  </a:solidFill>
                  <a:latin typeface="Times New Roman"/>
                </a:rPr>
                <a:t>offset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315080" y="2514600"/>
              <a:ext cx="1510200" cy="914400"/>
            </a:xfrm>
            <a:prstGeom prst="rect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33"/>
                  </a:solidFill>
                  <a:latin typeface="Times New Roman"/>
                </a:rPr>
                <a:t>Key</a:t>
              </a:r>
              <a:r>
                <a:rPr b="0" lang="en-US" sz="1800" spc="-1" strike="noStrike" baseline="-25000">
                  <a:solidFill>
                    <a:srgbClr val="333333"/>
                  </a:solidFill>
                  <a:latin typeface="Times New Roman"/>
                </a:rPr>
                <a:t>0 </a:t>
              </a:r>
              <a:r>
                <a:rPr b="0" lang="en-US" sz="1800" spc="-1" strike="noStrike">
                  <a:solidFill>
                    <a:srgbClr val="333333"/>
                  </a:solidFill>
                  <a:latin typeface="Times New Roman"/>
                </a:rPr>
                <a:t>+ RIDlist0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290560" y="2514600"/>
              <a:ext cx="635760" cy="914400"/>
            </a:xfrm>
            <a:prstGeom prst="rect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333333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38080" y="2514600"/>
              <a:ext cx="477000" cy="914400"/>
            </a:xfrm>
            <a:prstGeom prst="rect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33"/>
                  </a:solidFill>
                  <a:latin typeface="Times New Roman"/>
                </a:rPr>
                <a:t>offset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825640" y="2514600"/>
              <a:ext cx="477000" cy="914400"/>
            </a:xfrm>
            <a:prstGeom prst="rect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33"/>
                  </a:solidFill>
                  <a:latin typeface="Times New Roman"/>
                </a:rPr>
                <a:t>offset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926680" y="2514600"/>
              <a:ext cx="1749240" cy="914400"/>
            </a:xfrm>
            <a:prstGeom prst="rect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33"/>
                  </a:solidFill>
                  <a:latin typeface="Times New Roman"/>
                </a:rPr>
                <a:t>Key</a:t>
              </a:r>
              <a:r>
                <a:rPr b="0" lang="en-US" sz="1800" spc="-1" strike="noStrike" baseline="-25000">
                  <a:solidFill>
                    <a:srgbClr val="333333"/>
                  </a:solidFill>
                  <a:latin typeface="Times New Roman"/>
                </a:rPr>
                <a:t>m-2 </a:t>
              </a:r>
              <a:r>
                <a:rPr b="0" lang="en-US" sz="1800" spc="-1" strike="noStrike">
                  <a:solidFill>
                    <a:srgbClr val="333333"/>
                  </a:solidFill>
                  <a:latin typeface="Times New Roman"/>
                </a:rPr>
                <a:t>+ RIDlist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302640" y="2514600"/>
              <a:ext cx="1510560" cy="914400"/>
            </a:xfrm>
            <a:prstGeom prst="rect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33"/>
                  </a:solidFill>
                  <a:latin typeface="Times New Roman"/>
                </a:rPr>
                <a:t>Key</a:t>
              </a:r>
              <a:r>
                <a:rPr b="0" lang="en-US" sz="1800" spc="-1" strike="noStrike" baseline="-25000">
                  <a:solidFill>
                    <a:srgbClr val="333333"/>
                  </a:solidFill>
                  <a:latin typeface="Times New Roman"/>
                </a:rPr>
                <a:t>1 </a:t>
              </a:r>
              <a:r>
                <a:rPr b="0" lang="en-US" sz="1800" spc="-1" strike="noStrike">
                  <a:solidFill>
                    <a:srgbClr val="333333"/>
                  </a:solidFill>
                  <a:latin typeface="Times New Roman"/>
                </a:rPr>
                <a:t>+ RIDlist1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75920" y="2514600"/>
              <a:ext cx="477000" cy="914400"/>
            </a:xfrm>
            <a:prstGeom prst="rect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33"/>
                  </a:solidFill>
                  <a:latin typeface="Times New Roman"/>
                </a:rPr>
                <a:t>offset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838080" y="3657600"/>
            <a:ext cx="2743200" cy="2513880"/>
            <a:chOff x="838080" y="3657600"/>
            <a:chExt cx="2743200" cy="2513880"/>
          </a:xfrm>
        </p:grpSpPr>
        <p:grpSp>
          <p:nvGrpSpPr>
            <p:cNvPr id="235" name=""/>
            <p:cNvGrpSpPr/>
            <p:nvPr/>
          </p:nvGrpSpPr>
          <p:grpSpPr>
            <a:xfrm>
              <a:off x="838080" y="4207680"/>
              <a:ext cx="2743200" cy="1963800"/>
              <a:chOff x="838080" y="4207680"/>
              <a:chExt cx="2743200" cy="1963800"/>
            </a:xfrm>
          </p:grpSpPr>
          <p:sp>
            <p:nvSpPr>
              <p:cNvPr id="236" name=""/>
              <p:cNvSpPr/>
              <p:nvPr/>
            </p:nvSpPr>
            <p:spPr>
              <a:xfrm>
                <a:off x="838080" y="4207680"/>
                <a:ext cx="2743200" cy="1963800"/>
              </a:xfrm>
              <a:prstGeom prst="rect">
                <a:avLst/>
              </a:prstGeom>
              <a:noFill/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33"/>
                    </a:solidFill>
                    <a:latin typeface="Times New Roman"/>
                  </a:rPr>
                  <a:t>B*-tree structure</a:t>
                </a: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640880" y="4207680"/>
                <a:ext cx="802800" cy="597600"/>
              </a:xfrm>
              <a:prstGeom prst="rect">
                <a:avLst/>
              </a:prstGeom>
              <a:noFill/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33"/>
                    </a:solidFill>
                    <a:latin typeface="Times New Roman"/>
                  </a:rPr>
                  <a:t>NBP</a:t>
                </a: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838080" y="4207680"/>
                <a:ext cx="802800" cy="597600"/>
              </a:xfrm>
              <a:prstGeom prst="rect">
                <a:avLst/>
              </a:prstGeom>
              <a:noFill/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33"/>
                    </a:solidFill>
                    <a:latin typeface="Times New Roman"/>
                  </a:rPr>
                  <a:t>B#</a:t>
                </a: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838080" y="3657600"/>
              <a:ext cx="2169000" cy="55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Logical index block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3809880" y="3657600"/>
            <a:ext cx="2895840" cy="2513520"/>
            <a:chOff x="3809880" y="3657600"/>
            <a:chExt cx="2895840" cy="2513520"/>
          </a:xfrm>
        </p:grpSpPr>
        <p:grpSp>
          <p:nvGrpSpPr>
            <p:cNvPr id="241" name=""/>
            <p:cNvGrpSpPr/>
            <p:nvPr/>
          </p:nvGrpSpPr>
          <p:grpSpPr>
            <a:xfrm>
              <a:off x="3809880" y="4207320"/>
              <a:ext cx="2895840" cy="1963800"/>
              <a:chOff x="3809880" y="4207320"/>
              <a:chExt cx="2895840" cy="196380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3809880" y="4207320"/>
                <a:ext cx="2895840" cy="1963800"/>
                <a:chOff x="3809880" y="4207320"/>
                <a:chExt cx="2895840" cy="196380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3809880" y="4207320"/>
                  <a:ext cx="2895840" cy="1963800"/>
                </a:xfrm>
                <a:prstGeom prst="rect">
                  <a:avLst/>
                </a:prstGeom>
                <a:noFill/>
                <a:ln w="93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333333"/>
                      </a:solidFill>
                      <a:latin typeface="Times New Roman"/>
                    </a:rPr>
                    <a:t>tuples</a:t>
                  </a:r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4657320" y="4207320"/>
                  <a:ext cx="847440" cy="597600"/>
                </a:xfrm>
                <a:prstGeom prst="rect">
                  <a:avLst/>
                </a:prstGeom>
                <a:noFill/>
                <a:ln w="93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333333"/>
                      </a:solidFill>
                      <a:latin typeface="Times New Roman"/>
                    </a:rPr>
                    <a:t>NBP</a:t>
                  </a:r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3809880" y="4207320"/>
                  <a:ext cx="847440" cy="597600"/>
                </a:xfrm>
                <a:prstGeom prst="rect">
                  <a:avLst/>
                </a:prstGeom>
                <a:noFill/>
                <a:ln w="93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333333"/>
                      </a:solidFill>
                      <a:latin typeface="Times New Roman"/>
                    </a:rPr>
                    <a:t>B#</a:t>
                  </a:r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6" name=""/>
              <p:cNvSpPr/>
              <p:nvPr/>
            </p:nvSpPr>
            <p:spPr>
              <a:xfrm>
                <a:off x="6069960" y="5744520"/>
                <a:ext cx="635400" cy="426600"/>
              </a:xfrm>
              <a:prstGeom prst="rect">
                <a:avLst/>
              </a:prstGeom>
              <a:noFill/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33"/>
                    </a:solidFill>
                    <a:latin typeface="Times New Roman"/>
                  </a:rPr>
                  <a:t>FC</a:t>
                </a: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162680" y="5744520"/>
                <a:ext cx="635400" cy="426600"/>
              </a:xfrm>
              <a:prstGeom prst="rect">
                <a:avLst/>
              </a:prstGeom>
              <a:noFill/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798440" y="5744520"/>
                <a:ext cx="635400" cy="426600"/>
              </a:xfrm>
              <a:prstGeom prst="rect">
                <a:avLst/>
              </a:prstGeom>
              <a:noFill/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434200" y="5744520"/>
                <a:ext cx="635400" cy="426600"/>
              </a:xfrm>
              <a:prstGeom prst="rect">
                <a:avLst/>
              </a:prstGeom>
              <a:noFill/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33"/>
                    </a:solidFill>
                    <a:latin typeface="Times New Roman"/>
                  </a:rPr>
                  <a:t>offsets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3809880" y="3657600"/>
              <a:ext cx="2188080" cy="54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Logical data block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7010280" y="3733920"/>
            <a:ext cx="1371600" cy="2438280"/>
            <a:chOff x="7010280" y="3733920"/>
            <a:chExt cx="1371600" cy="2438280"/>
          </a:xfrm>
        </p:grpSpPr>
        <p:sp>
          <p:nvSpPr>
            <p:cNvPr id="252" name=""/>
            <p:cNvSpPr/>
            <p:nvPr/>
          </p:nvSpPr>
          <p:spPr>
            <a:xfrm>
              <a:off x="7086600" y="4191120"/>
              <a:ext cx="1295280" cy="1981080"/>
            </a:xfrm>
            <a:prstGeom prst="rect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010280" y="3733920"/>
              <a:ext cx="12193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RID list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7086600" y="4191120"/>
            <a:ext cx="1295280" cy="45720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Rid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086600" y="4648320"/>
            <a:ext cx="1295280" cy="45720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Rid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086600" y="5715000"/>
            <a:ext cx="1295280" cy="45720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Rid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B*-tree Example( primary key )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657600" y="2057400"/>
            <a:ext cx="1371600" cy="60948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333333"/>
                </a:solidFill>
                <a:latin typeface="Times New Roman"/>
              </a:rPr>
              <a:t>9710000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33520" y="3276720"/>
            <a:ext cx="3429000" cy="45720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333333"/>
                </a:solidFill>
                <a:latin typeface="Times New Roman"/>
              </a:rPr>
              <a:t>9700232      9700808      9701433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800600" y="3276720"/>
            <a:ext cx="3429000" cy="45720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333333"/>
                </a:solidFill>
                <a:latin typeface="Times New Roman"/>
              </a:rPr>
              <a:t>9800601      9801204      9801601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52280" y="4191120"/>
            <a:ext cx="2210040" cy="38088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333333"/>
                </a:solidFill>
                <a:latin typeface="Times New Roman"/>
              </a:rPr>
              <a:t>970004 9700104 9700105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066680" y="4876920"/>
            <a:ext cx="1752840" cy="38088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333333"/>
                </a:solidFill>
                <a:latin typeface="Times New Roman"/>
              </a:rPr>
              <a:t>9700301  9700503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523880" y="5486400"/>
            <a:ext cx="1752840" cy="38088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333333"/>
                </a:solidFill>
                <a:latin typeface="Times New Roman"/>
              </a:rPr>
              <a:t>9700902  9701104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447920" y="6095880"/>
            <a:ext cx="2361960" cy="38124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333333"/>
                </a:solidFill>
                <a:latin typeface="Times New Roman"/>
              </a:rPr>
              <a:t>9701703 9701804 9710000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800600" y="6095880"/>
            <a:ext cx="2286000" cy="38124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333333"/>
                </a:solidFill>
                <a:latin typeface="Times New Roman"/>
              </a:rPr>
              <a:t>980023 9800210 9800311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5880" y="4800600"/>
            <a:ext cx="2286000" cy="38088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333333"/>
                </a:solidFill>
                <a:latin typeface="Times New Roman"/>
              </a:rPr>
              <a:t>9801302 9801405 9801501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486400" y="5410080"/>
            <a:ext cx="2286000" cy="38124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333333"/>
                </a:solidFill>
                <a:latin typeface="Times New Roman"/>
              </a:rPr>
              <a:t>9800702 9800910 9801004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4191120"/>
            <a:ext cx="2286000" cy="38088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333333"/>
                </a:solidFill>
                <a:latin typeface="Times New Roman"/>
              </a:rPr>
              <a:t>9801705 9801903 9801910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2209320" y="2362320"/>
            <a:ext cx="1600200" cy="9144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3505320"/>
            <a:ext cx="0" cy="6858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600200" y="3581280"/>
            <a:ext cx="762120" cy="38124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819520" y="3581280"/>
            <a:ext cx="304560" cy="190512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733560" y="3505320"/>
            <a:ext cx="152280" cy="259056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876920" y="3505320"/>
            <a:ext cx="0" cy="259056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5562720" y="3505320"/>
            <a:ext cx="380880" cy="190476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6172200" y="3505320"/>
            <a:ext cx="914400" cy="129528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077320" y="3505320"/>
            <a:ext cx="152280" cy="6858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876920" y="2362320"/>
            <a:ext cx="1752480" cy="9144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362320" y="3962520"/>
            <a:ext cx="304560" cy="9144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523880" y="3276720"/>
            <a:ext cx="0" cy="4572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676520" y="3276720"/>
            <a:ext cx="0" cy="4572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743200" y="3276720"/>
            <a:ext cx="0" cy="4572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895480" y="3276720"/>
            <a:ext cx="0" cy="4572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86200" y="2057400"/>
            <a:ext cx="0" cy="60948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800600" y="2057400"/>
            <a:ext cx="0" cy="60948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09880" y="3276720"/>
            <a:ext cx="0" cy="4572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952880" y="3276720"/>
            <a:ext cx="0" cy="4572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867280" y="3276720"/>
            <a:ext cx="0" cy="4572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85800" y="3276720"/>
            <a:ext cx="0" cy="4572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00200" y="4191120"/>
            <a:ext cx="0" cy="38088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838080" y="4191120"/>
            <a:ext cx="0" cy="38088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077320" y="3276720"/>
            <a:ext cx="0" cy="4572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162920" y="3276720"/>
            <a:ext cx="0" cy="4572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010280" y="3276720"/>
            <a:ext cx="0" cy="4572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019920" y="3276720"/>
            <a:ext cx="0" cy="4572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981080" y="4876920"/>
            <a:ext cx="0" cy="38088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467480" y="4191120"/>
            <a:ext cx="0" cy="38088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229600" y="4191120"/>
            <a:ext cx="0" cy="38088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62320" y="5486400"/>
            <a:ext cx="0" cy="38088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09680" y="6095880"/>
            <a:ext cx="0" cy="38124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971800" y="6095880"/>
            <a:ext cx="0" cy="38124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86400" y="6095880"/>
            <a:ext cx="0" cy="38124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24480" y="6095880"/>
            <a:ext cx="0" cy="38124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0" y="4800600"/>
            <a:ext cx="0" cy="38088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20120" y="4800600"/>
            <a:ext cx="0" cy="38088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248520" y="5410080"/>
            <a:ext cx="0" cy="38124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010280" y="5410080"/>
            <a:ext cx="0" cy="38124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B*-tree Design - Example -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962520" y="1676520"/>
            <a:ext cx="5029200" cy="4724280"/>
            <a:chOff x="3962520" y="1676520"/>
            <a:chExt cx="5029200" cy="4724280"/>
          </a:xfrm>
        </p:grpSpPr>
        <p:sp>
          <p:nvSpPr>
            <p:cNvPr id="310" name=""/>
            <p:cNvSpPr/>
            <p:nvPr/>
          </p:nvSpPr>
          <p:spPr>
            <a:xfrm>
              <a:off x="3962520" y="1676520"/>
              <a:ext cx="5029200" cy="4724280"/>
            </a:xfrm>
            <a:prstGeom prst="rect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311" name=""/>
            <p:cNvGrpSpPr/>
            <p:nvPr/>
          </p:nvGrpSpPr>
          <p:grpSpPr>
            <a:xfrm>
              <a:off x="3962520" y="1676520"/>
              <a:ext cx="2514240" cy="1260000"/>
              <a:chOff x="3962520" y="1676520"/>
              <a:chExt cx="2514240" cy="1260000"/>
            </a:xfrm>
          </p:grpSpPr>
          <p:sp>
            <p:nvSpPr>
              <p:cNvPr id="312" name=""/>
              <p:cNvSpPr/>
              <p:nvPr/>
            </p:nvSpPr>
            <p:spPr>
              <a:xfrm>
                <a:off x="3962520" y="1676520"/>
                <a:ext cx="2514240" cy="1260000"/>
              </a:xfrm>
              <a:prstGeom prst="rect">
                <a:avLst/>
              </a:prstGeom>
              <a:noFill/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926680" y="1676520"/>
                <a:ext cx="550080" cy="406800"/>
              </a:xfrm>
              <a:prstGeom prst="rect">
                <a:avLst/>
              </a:prstGeom>
              <a:noFill/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333333"/>
                    </a:solidFill>
                    <a:latin typeface="Times New Roman"/>
                  </a:rPr>
                  <a:t>5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962520" y="1676520"/>
                <a:ext cx="574560" cy="406800"/>
              </a:xfrm>
              <a:prstGeom prst="rect">
                <a:avLst/>
              </a:prstGeom>
              <a:noFill/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333333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005520" y="2700360"/>
                <a:ext cx="471240" cy="236160"/>
              </a:xfrm>
              <a:prstGeom prst="rect">
                <a:avLst/>
              </a:prstGeom>
              <a:noFill/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333333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962520" y="2070360"/>
                <a:ext cx="2514240" cy="314640"/>
              </a:xfrm>
              <a:prstGeom prst="rect">
                <a:avLst/>
              </a:prstGeom>
              <a:noFill/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000" spc="-1" strike="noStrike">
                    <a:solidFill>
                      <a:srgbClr val="333333"/>
                    </a:solidFill>
                    <a:latin typeface="Times New Roman"/>
                  </a:rPr>
                  <a:t>9701104 </a:t>
                </a:r>
                <a:r>
                  <a:rPr b="0" lang="en-US" sz="1000" spc="-1" strike="noStrike">
                    <a:solidFill>
                      <a:srgbClr val="333333"/>
                    </a:solidFill>
                    <a:latin typeface="Times New Roman"/>
                  </a:rPr>
                  <a:t>Rave E-motion E.O.S 4 3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962520" y="2385360"/>
                <a:ext cx="2514240" cy="315000"/>
              </a:xfrm>
              <a:prstGeom prst="rect">
                <a:avLst/>
              </a:prstGeom>
              <a:noFill/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000" spc="-1" strike="noStrike">
                    <a:solidFill>
                      <a:srgbClr val="333333"/>
                    </a:solidFill>
                    <a:latin typeface="Times New Roman"/>
                  </a:rPr>
                  <a:t>9700232 </a:t>
                </a:r>
                <a:r>
                  <a:rPr b="0" lang="en-US" sz="1000" spc="-1" strike="noStrike">
                    <a:solidFill>
                      <a:srgbClr val="333333"/>
                    </a:solidFill>
                    <a:latin typeface="Times New Roman"/>
                  </a:rPr>
                  <a:t>Soul Love so groovy Meg A-Mix 4 3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3962520" y="2936880"/>
              <a:ext cx="2514240" cy="1258560"/>
              <a:chOff x="3962520" y="2936880"/>
              <a:chExt cx="2514240" cy="1258560"/>
            </a:xfrm>
          </p:grpSpPr>
          <p:sp>
            <p:nvSpPr>
              <p:cNvPr id="319" name=""/>
              <p:cNvSpPr/>
              <p:nvPr/>
            </p:nvSpPr>
            <p:spPr>
              <a:xfrm>
                <a:off x="3962520" y="2936880"/>
                <a:ext cx="2514240" cy="1258560"/>
              </a:xfrm>
              <a:prstGeom prst="rect">
                <a:avLst/>
              </a:prstGeom>
              <a:noFill/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926680" y="2936880"/>
                <a:ext cx="550080" cy="406440"/>
              </a:xfrm>
              <a:prstGeom prst="rect">
                <a:avLst/>
              </a:prstGeom>
              <a:noFill/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333333"/>
                    </a:solidFill>
                    <a:latin typeface="Times New Roman"/>
                  </a:rPr>
                  <a:t>4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962520" y="2936880"/>
                <a:ext cx="574560" cy="406440"/>
              </a:xfrm>
              <a:prstGeom prst="rect">
                <a:avLst/>
              </a:prstGeom>
              <a:noFill/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333333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005520" y="3959640"/>
                <a:ext cx="471240" cy="235800"/>
              </a:xfrm>
              <a:prstGeom prst="rect">
                <a:avLst/>
              </a:prstGeom>
              <a:noFill/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333333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962520" y="3330360"/>
                <a:ext cx="2514240" cy="314280"/>
              </a:xfrm>
              <a:prstGeom prst="rect">
                <a:avLst/>
              </a:prstGeom>
              <a:noFill/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000" spc="-1" strike="noStrike">
                    <a:solidFill>
                      <a:srgbClr val="333333"/>
                    </a:solidFill>
                    <a:latin typeface="Times New Roman"/>
                  </a:rPr>
                  <a:t>9700902 </a:t>
                </a:r>
                <a:r>
                  <a:rPr b="0" lang="en-US" sz="1000" spc="-1" strike="noStrike">
                    <a:solidFill>
                      <a:srgbClr val="333333"/>
                    </a:solidFill>
                    <a:latin typeface="Times New Roman"/>
                  </a:rPr>
                  <a:t>House 20, November n.a.r.d 4 4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962520" y="3644640"/>
                <a:ext cx="2514240" cy="314640"/>
              </a:xfrm>
              <a:prstGeom prst="rect">
                <a:avLst/>
              </a:prstGeom>
              <a:noFill/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000" spc="-1" strike="noStrike">
                    <a:solidFill>
                      <a:srgbClr val="333333"/>
                    </a:solidFill>
                    <a:latin typeface="Times New Roman"/>
                  </a:rPr>
                  <a:t>9701104 </a:t>
                </a:r>
                <a:r>
                  <a:rPr b="0" lang="en-US" sz="1000" spc="-1" strike="noStrike">
                    <a:solidFill>
                      <a:srgbClr val="333333"/>
                    </a:solidFill>
                    <a:latin typeface="Times New Roman"/>
                  </a:rPr>
                  <a:t>Rave E-motion(2nd mix) E.O.S 5 4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6477120" y="1676520"/>
              <a:ext cx="2514240" cy="1260000"/>
              <a:chOff x="6477120" y="1676520"/>
              <a:chExt cx="2514240" cy="1260000"/>
            </a:xfrm>
          </p:grpSpPr>
          <p:sp>
            <p:nvSpPr>
              <p:cNvPr id="326" name=""/>
              <p:cNvSpPr/>
              <p:nvPr/>
            </p:nvSpPr>
            <p:spPr>
              <a:xfrm>
                <a:off x="6477120" y="1676520"/>
                <a:ext cx="2514240" cy="1260000"/>
              </a:xfrm>
              <a:prstGeom prst="rect">
                <a:avLst/>
              </a:prstGeom>
              <a:noFill/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8441280" y="1676520"/>
                <a:ext cx="550080" cy="406800"/>
              </a:xfrm>
              <a:prstGeom prst="rect">
                <a:avLst/>
              </a:prstGeom>
              <a:noFill/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333333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477120" y="1676520"/>
                <a:ext cx="574560" cy="406800"/>
              </a:xfrm>
              <a:prstGeom prst="rect">
                <a:avLst/>
              </a:prstGeom>
              <a:noFill/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333333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8520120" y="2700360"/>
                <a:ext cx="471240" cy="236160"/>
              </a:xfrm>
              <a:prstGeom prst="rect">
                <a:avLst/>
              </a:prstGeom>
              <a:noFill/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333333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477120" y="2070360"/>
                <a:ext cx="2514240" cy="314640"/>
              </a:xfrm>
              <a:prstGeom prst="rect">
                <a:avLst/>
              </a:prstGeom>
              <a:noFill/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000" spc="-1" strike="noStrike">
                    <a:solidFill>
                      <a:srgbClr val="333333"/>
                    </a:solidFill>
                    <a:latin typeface="Times New Roman"/>
                  </a:rPr>
                  <a:t>9800311 </a:t>
                </a:r>
                <a:r>
                  <a:rPr b="0" lang="en-US" sz="1000" spc="-1" strike="noStrike">
                    <a:solidFill>
                      <a:srgbClr val="333333"/>
                    </a:solidFill>
                    <a:latin typeface="Times New Roman"/>
                  </a:rPr>
                  <a:t>Hip-hop s.d.z DJ Mazinger 2 2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477120" y="2385360"/>
                <a:ext cx="2514240" cy="315000"/>
              </a:xfrm>
              <a:prstGeom prst="rect">
                <a:avLst/>
              </a:prstGeom>
              <a:noFill/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000" spc="-1" strike="noStrike">
                    <a:solidFill>
                      <a:srgbClr val="333333"/>
                    </a:solidFill>
                    <a:latin typeface="Times New Roman"/>
                  </a:rPr>
                  <a:t>9700808 </a:t>
                </a:r>
                <a:r>
                  <a:rPr b="0" lang="en-US" sz="1000" spc="-1" strike="noStrike">
                    <a:solidFill>
                      <a:srgbClr val="333333"/>
                    </a:solidFill>
                    <a:latin typeface="Times New Roman"/>
                  </a:rPr>
                  <a:t>Techno Overdoser DJ FX 3 2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6477120" y="2936880"/>
              <a:ext cx="2514600" cy="1258920"/>
            </a:xfrm>
            <a:prstGeom prst="rect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442360" y="2936880"/>
              <a:ext cx="549360" cy="406440"/>
            </a:xfrm>
            <a:prstGeom prst="rect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333333"/>
                  </a:solidFill>
                  <a:latin typeface="Times New Roman"/>
                </a:rPr>
                <a:t>7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477120" y="2936880"/>
              <a:ext cx="574560" cy="406440"/>
            </a:xfrm>
            <a:prstGeom prst="rect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333333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520120" y="3959280"/>
              <a:ext cx="471600" cy="236520"/>
            </a:xfrm>
            <a:prstGeom prst="rect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333333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477120" y="3330720"/>
              <a:ext cx="2514600" cy="314280"/>
            </a:xfrm>
            <a:prstGeom prst="rect">
              <a:avLst/>
            </a:prstGeom>
            <a:solidFill>
              <a:srgbClr val="c7c8cb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333333"/>
                  </a:solidFill>
                  <a:latin typeface="Times New Roman"/>
                </a:rPr>
                <a:t>9800210 </a:t>
              </a:r>
              <a:r>
                <a:rPr b="0" lang="en-US" sz="1000" spc="-1" strike="noStrike">
                  <a:solidFill>
                    <a:srgbClr val="333333"/>
                  </a:solidFill>
                  <a:latin typeface="Times New Roman"/>
                </a:rPr>
                <a:t>Soul Find out nouvo nude 1 1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477120" y="3645000"/>
              <a:ext cx="2514600" cy="314280"/>
            </a:xfrm>
            <a:prstGeom prst="rect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000" spc="-1" strike="noStrike">
                  <a:solidFill>
                    <a:srgbClr val="333333"/>
                  </a:solidFill>
                  <a:latin typeface="Times New Roman"/>
                </a:rPr>
                <a:t>9800910 </a:t>
              </a:r>
              <a:r>
                <a:rPr b="0" lang="en-US" sz="1000" spc="-1" strike="noStrike">
                  <a:solidFill>
                    <a:srgbClr val="333333"/>
                  </a:solidFill>
                  <a:latin typeface="Times New Roman"/>
                </a:rPr>
                <a:t>House Wild I/O nouvo nude 3 2</a:t>
              </a:r>
              <a:endParaRPr b="0" lang="en-US" sz="1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338" name=""/>
            <p:cNvGrpSpPr/>
            <p:nvPr/>
          </p:nvGrpSpPr>
          <p:grpSpPr>
            <a:xfrm>
              <a:off x="3962520" y="4195800"/>
              <a:ext cx="2514240" cy="1260000"/>
              <a:chOff x="3962520" y="4195800"/>
              <a:chExt cx="2514240" cy="1260000"/>
            </a:xfrm>
          </p:grpSpPr>
          <p:sp>
            <p:nvSpPr>
              <p:cNvPr id="339" name=""/>
              <p:cNvSpPr/>
              <p:nvPr/>
            </p:nvSpPr>
            <p:spPr>
              <a:xfrm>
                <a:off x="3962520" y="4195800"/>
                <a:ext cx="2514240" cy="1260000"/>
              </a:xfrm>
              <a:prstGeom prst="rect">
                <a:avLst/>
              </a:prstGeom>
              <a:noFill/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926680" y="4195800"/>
                <a:ext cx="550080" cy="406800"/>
              </a:xfrm>
              <a:prstGeom prst="rect">
                <a:avLst/>
              </a:prstGeom>
              <a:noFill/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333333"/>
                    </a:solidFill>
                    <a:latin typeface="Times New Roman"/>
                  </a:rPr>
                  <a:t>11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962520" y="4195800"/>
                <a:ext cx="574560" cy="406800"/>
              </a:xfrm>
              <a:prstGeom prst="rect">
                <a:avLst/>
              </a:prstGeom>
              <a:noFill/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333333"/>
                    </a:solidFill>
                    <a:latin typeface="Times New Roman"/>
                  </a:rPr>
                  <a:t>4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005520" y="5219640"/>
                <a:ext cx="471240" cy="236160"/>
              </a:xfrm>
              <a:prstGeom prst="rect">
                <a:avLst/>
              </a:prstGeom>
              <a:noFill/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333333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3962520" y="4589640"/>
                <a:ext cx="2514240" cy="314640"/>
              </a:xfrm>
              <a:prstGeom prst="rect">
                <a:avLst/>
              </a:prstGeom>
              <a:noFill/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000" spc="-1" strike="noStrike">
                    <a:solidFill>
                      <a:srgbClr val="333333"/>
                    </a:solidFill>
                    <a:latin typeface="Times New Roman"/>
                  </a:rPr>
                  <a:t>9701804 </a:t>
                </a:r>
                <a:r>
                  <a:rPr b="0" lang="en-US" sz="1000" spc="-1" strike="noStrike">
                    <a:solidFill>
                      <a:srgbClr val="333333"/>
                    </a:solidFill>
                    <a:latin typeface="Times New Roman"/>
                  </a:rPr>
                  <a:t>Ska Ska a go go The bald heads 6 5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3962520" y="4904640"/>
                <a:ext cx="2514240" cy="315000"/>
              </a:xfrm>
              <a:prstGeom prst="rect">
                <a:avLst/>
              </a:prstGeom>
              <a:noFill/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000" spc="-1" strike="noStrike">
                    <a:solidFill>
                      <a:srgbClr val="333333"/>
                    </a:solidFill>
                    <a:latin typeface="Times New Roman"/>
                  </a:rPr>
                  <a:t>9801601 </a:t>
                </a:r>
                <a:r>
                  <a:rPr b="0" lang="en-US" sz="1000" spc="-1" strike="noStrike">
                    <a:solidFill>
                      <a:srgbClr val="333333"/>
                    </a:solidFill>
                    <a:latin typeface="Times New Roman"/>
                  </a:rPr>
                  <a:t>Digi rock Area code nouvo nude 5 4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345" name=""/>
            <p:cNvGrpSpPr/>
            <p:nvPr/>
          </p:nvGrpSpPr>
          <p:grpSpPr>
            <a:xfrm>
              <a:off x="6477120" y="4195800"/>
              <a:ext cx="2514240" cy="1260000"/>
              <a:chOff x="6477120" y="4195800"/>
              <a:chExt cx="2514240" cy="1260000"/>
            </a:xfrm>
          </p:grpSpPr>
          <p:sp>
            <p:nvSpPr>
              <p:cNvPr id="346" name=""/>
              <p:cNvSpPr/>
              <p:nvPr/>
            </p:nvSpPr>
            <p:spPr>
              <a:xfrm>
                <a:off x="6477120" y="4195800"/>
                <a:ext cx="2514240" cy="1260000"/>
              </a:xfrm>
              <a:prstGeom prst="rect">
                <a:avLst/>
              </a:prstGeom>
              <a:noFill/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8441280" y="4195800"/>
                <a:ext cx="550080" cy="406800"/>
              </a:xfrm>
              <a:prstGeom prst="rect">
                <a:avLst/>
              </a:prstGeom>
              <a:noFill/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333333"/>
                    </a:solidFill>
                    <a:latin typeface="Times New Roman"/>
                  </a:rPr>
                  <a:t>21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477120" y="4195800"/>
                <a:ext cx="574560" cy="406800"/>
              </a:xfrm>
              <a:prstGeom prst="rect">
                <a:avLst/>
              </a:prstGeom>
              <a:noFill/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333333"/>
                    </a:solidFill>
                    <a:latin typeface="Times New Roman"/>
                  </a:rPr>
                  <a:t>5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8520120" y="5219640"/>
                <a:ext cx="471240" cy="236160"/>
              </a:xfrm>
              <a:prstGeom prst="rect">
                <a:avLst/>
              </a:prstGeom>
              <a:noFill/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333333"/>
                    </a:solidFill>
                    <a:latin typeface="Times New Roman"/>
                  </a:rPr>
                  <a:t>1</a:t>
                </a:r>
                <a:endParaRPr b="0" lang="en-US" sz="16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477120" y="4589280"/>
                <a:ext cx="2514240" cy="315000"/>
              </a:xfrm>
              <a:prstGeom prst="rect">
                <a:avLst/>
              </a:prstGeom>
              <a:noFill/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000" spc="-1" strike="noStrike">
                    <a:solidFill>
                      <a:srgbClr val="333333"/>
                    </a:solidFill>
                    <a:latin typeface="Times New Roman"/>
                  </a:rPr>
                  <a:t>9801903 </a:t>
                </a:r>
                <a:r>
                  <a:rPr b="0" lang="en-US" sz="1000" spc="-1" strike="noStrike">
                    <a:solidFill>
                      <a:srgbClr val="333333"/>
                    </a:solidFill>
                    <a:latin typeface="Times New Roman"/>
                  </a:rPr>
                  <a:t>Eurobeat Luv to me reo miryam 6 5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477120" y="4904640"/>
                <a:ext cx="2514240" cy="315000"/>
              </a:xfrm>
              <a:prstGeom prst="rect">
                <a:avLst/>
              </a:prstGeom>
              <a:noFill/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000" spc="-1" strike="noStrike">
                    <a:solidFill>
                      <a:srgbClr val="333333"/>
                    </a:solidFill>
                    <a:latin typeface="Times New Roman"/>
                  </a:rPr>
                  <a:t>9701703 </a:t>
                </a:r>
                <a:r>
                  <a:rPr b="0" lang="en-US" sz="1000" spc="-1" strike="noStrike">
                    <a:solidFill>
                      <a:srgbClr val="333333"/>
                    </a:solidFill>
                    <a:latin typeface="Times New Roman"/>
                  </a:rPr>
                  <a:t>Hardtechno Acid bomb DJ FX 6 5</a:t>
                </a:r>
                <a:endParaRPr b="0" lang="en-US" sz="10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352" name=""/>
            <p:cNvSpPr/>
            <p:nvPr/>
          </p:nvSpPr>
          <p:spPr>
            <a:xfrm>
              <a:off x="3962520" y="5456160"/>
              <a:ext cx="5029200" cy="944640"/>
            </a:xfrm>
            <a:prstGeom prst="rect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333333"/>
                  </a:solidFill>
                  <a:latin typeface="Times New Roman"/>
                </a:rPr>
                <a:t>. . .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1523880" y="1676520"/>
            <a:ext cx="24386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Logical data block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228600" y="2743200"/>
            <a:ext cx="3429000" cy="1447920"/>
            <a:chOff x="228600" y="2743200"/>
            <a:chExt cx="3429000" cy="1447920"/>
          </a:xfrm>
        </p:grpSpPr>
        <p:grpSp>
          <p:nvGrpSpPr>
            <p:cNvPr id="355" name=""/>
            <p:cNvGrpSpPr/>
            <p:nvPr/>
          </p:nvGrpSpPr>
          <p:grpSpPr>
            <a:xfrm>
              <a:off x="228600" y="3124080"/>
              <a:ext cx="3429000" cy="1067040"/>
              <a:chOff x="228600" y="3124080"/>
              <a:chExt cx="3429000" cy="1067040"/>
            </a:xfrm>
          </p:grpSpPr>
          <p:sp>
            <p:nvSpPr>
              <p:cNvPr id="356" name=""/>
              <p:cNvSpPr/>
              <p:nvPr/>
            </p:nvSpPr>
            <p:spPr>
              <a:xfrm>
                <a:off x="228600" y="3124080"/>
                <a:ext cx="3429000" cy="1067040"/>
              </a:xfrm>
              <a:prstGeom prst="rect">
                <a:avLst/>
              </a:prstGeom>
              <a:noFill/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28600" y="3124080"/>
                <a:ext cx="838080" cy="1067040"/>
              </a:xfrm>
              <a:prstGeom prst="rect">
                <a:avLst/>
              </a:prstGeom>
              <a:noFill/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33"/>
                    </a:solidFill>
                    <a:latin typeface="Times New Roman"/>
                  </a:rPr>
                  <a:t>offset</a:t>
                </a: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066680" y="3124080"/>
                <a:ext cx="1295640" cy="1067040"/>
              </a:xfrm>
              <a:prstGeom prst="rect">
                <a:avLst/>
              </a:prstGeom>
              <a:noFill/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333333"/>
                    </a:solidFill>
                    <a:latin typeface="Times New Roman"/>
                  </a:rPr>
                  <a:t>9800210</a:t>
                </a: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362320" y="3124080"/>
                <a:ext cx="1295280" cy="1067040"/>
              </a:xfrm>
              <a:prstGeom prst="rect">
                <a:avLst/>
              </a:prstGeom>
              <a:noFill/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333333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228600" y="2743200"/>
              <a:ext cx="3429000" cy="380880"/>
              <a:chOff x="228600" y="2743200"/>
              <a:chExt cx="3429000" cy="380880"/>
            </a:xfrm>
          </p:grpSpPr>
          <p:sp>
            <p:nvSpPr>
              <p:cNvPr id="361" name=""/>
              <p:cNvSpPr/>
              <p:nvPr/>
            </p:nvSpPr>
            <p:spPr>
              <a:xfrm>
                <a:off x="228600" y="2743200"/>
                <a:ext cx="342900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28600" y="2743200"/>
                <a:ext cx="83808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33333"/>
                    </a:solidFill>
                    <a:latin typeface="Times New Roman"/>
                  </a:rPr>
                  <a:t>Offset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333333"/>
                    </a:solidFill>
                    <a:latin typeface="Times New Roman"/>
                  </a:rPr>
                  <a:t>of node</a:t>
                </a:r>
                <a:endParaRPr b="0" lang="en-US" sz="1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066680" y="2743200"/>
                <a:ext cx="129564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33"/>
                    </a:solidFill>
                    <a:latin typeface="Times New Roman"/>
                  </a:rPr>
                  <a:t>Key</a:t>
                </a: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362320" y="2743200"/>
                <a:ext cx="129528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33"/>
                    </a:solidFill>
                    <a:latin typeface="Times New Roman"/>
                  </a:rPr>
                  <a:t>RID list</a:t>
                </a:r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365" name=""/>
          <p:cNvCxnSpPr>
            <a:stCxn id="359" idx="3"/>
            <a:endCxn id="366" idx="0"/>
          </p:cNvCxnSpPr>
          <p:nvPr/>
        </p:nvCxnSpPr>
        <p:spPr>
          <a:xfrm flipH="1">
            <a:off x="1637640" y="3657600"/>
            <a:ext cx="2019960" cy="1296000"/>
          </a:xfrm>
          <a:prstGeom prst="bentConnector4">
            <a:avLst>
              <a:gd name="adj1" fmla="val -4081"/>
              <a:gd name="adj2" fmla="val 70575"/>
            </a:avLst>
          </a:prstGeom>
          <a:ln w="12600">
            <a:solidFill>
              <a:srgbClr val="333333"/>
            </a:solidFill>
            <a:miter/>
            <a:tailEnd len="med" type="triangle" w="med"/>
          </a:ln>
        </p:spPr>
      </p:cxnSp>
      <p:grpSp>
        <p:nvGrpSpPr>
          <p:cNvPr id="367" name=""/>
          <p:cNvGrpSpPr/>
          <p:nvPr/>
        </p:nvGrpSpPr>
        <p:grpSpPr>
          <a:xfrm>
            <a:off x="609480" y="4648320"/>
            <a:ext cx="1905120" cy="1676160"/>
            <a:chOff x="609480" y="4648320"/>
            <a:chExt cx="1905120" cy="1676160"/>
          </a:xfrm>
        </p:grpSpPr>
        <p:sp>
          <p:nvSpPr>
            <p:cNvPr id="368" name=""/>
            <p:cNvSpPr/>
            <p:nvPr/>
          </p:nvSpPr>
          <p:spPr>
            <a:xfrm>
              <a:off x="762120" y="4952880"/>
              <a:ext cx="1752480" cy="1371600"/>
            </a:xfrm>
            <a:prstGeom prst="rect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99"/>
                </a:spcBef>
                <a:buClr>
                  <a:srgbClr val="333333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09480" y="4648320"/>
              <a:ext cx="9144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33"/>
                  </a:solidFill>
                  <a:latin typeface="Times New Roman"/>
                </a:rPr>
                <a:t>RID list 1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62120" y="4952880"/>
              <a:ext cx="1752480" cy="38124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b60000"/>
                  </a:solidFill>
                  <a:latin typeface="Times New Roman"/>
                </a:rPr>
                <a:t>3;0</a:t>
              </a:r>
              <a:endParaRPr b="0" lang="en-US" sz="2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62120" y="5334120"/>
              <a:ext cx="1752480" cy="3808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62120" y="5943600"/>
              <a:ext cx="1752480" cy="3808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cxnSp>
        <p:nvCxnSpPr>
          <p:cNvPr id="372" name=""/>
          <p:cNvCxnSpPr>
            <a:stCxn id="366" idx="3"/>
          </p:cNvCxnSpPr>
          <p:nvPr/>
        </p:nvCxnSpPr>
        <p:spPr>
          <a:xfrm flipV="1">
            <a:off x="2514240" y="3580920"/>
            <a:ext cx="3963240" cy="1563120"/>
          </a:xfrm>
          <a:prstGeom prst="bentConnector3">
            <a:avLst>
              <a:gd name="adj1" fmla="val 35728"/>
            </a:avLst>
          </a:prstGeom>
          <a:ln w="38160">
            <a:solidFill>
              <a:srgbClr val="333333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B*-tree Design ( Example) 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33333"/>
                </a:solidFill>
                <a:latin typeface="Times New Roman"/>
              </a:rPr>
              <a:t>들어갈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key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ambient, Bigbeat Mix, DigiRock, Eurobeat, House, HardTechno, Rave, Reggae, Ska, Soul, Techn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33333"/>
                </a:solidFill>
                <a:latin typeface="Times New Roman"/>
              </a:rPr>
              <a:t>위의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keys</a:t>
            </a:r>
            <a:r>
              <a:rPr b="0" lang="ko-KR" sz="3200" spc="-1" strike="noStrike">
                <a:solidFill>
                  <a:srgbClr val="333333"/>
                </a:solidFill>
                <a:latin typeface="Times New Roman"/>
              </a:rPr>
              <a:t>로 이루어진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B*-tree</a:t>
            </a:r>
            <a:r>
              <a:rPr b="0" lang="ko-KR" sz="3200" spc="-1" strike="noStrike">
                <a:solidFill>
                  <a:srgbClr val="333333"/>
                </a:solidFill>
                <a:latin typeface="Times New Roman"/>
              </a:rPr>
              <a:t>에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insertion</a:t>
            </a:r>
            <a:r>
              <a:rPr b="0" lang="ko-KR" sz="32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deletion, searching operation</a:t>
            </a:r>
            <a:r>
              <a:rPr b="0" lang="ko-KR" sz="3200" spc="-1" strike="noStrike">
                <a:solidFill>
                  <a:srgbClr val="333333"/>
                </a:solidFill>
                <a:latin typeface="Times New Roman"/>
              </a:rPr>
              <a:t>을 하는 과정을 예로 제시</a:t>
            </a:r>
            <a:r>
              <a:rPr b="0" lang="ko-KR" sz="3200" spc="-1" strike="noStrike">
                <a:solidFill>
                  <a:srgbClr val="333333"/>
                </a:solidFill>
                <a:latin typeface="Times New Roman"/>
              </a:rPr>
              <a:t>.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Order = 4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Example - insertion -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752480" y="3505320"/>
            <a:ext cx="533520" cy="609480"/>
          </a:xfrm>
          <a:prstGeom prst="downArrow">
            <a:avLst>
              <a:gd name="adj1" fmla="val 38093"/>
              <a:gd name="adj2" fmla="val 45219"/>
            </a:avLst>
          </a:prstGeom>
          <a:solidFill>
            <a:srgbClr val="c7c8cb"/>
          </a:solidFill>
          <a:ln w="9360">
            <a:solidFill>
              <a:srgbClr val="333333"/>
            </a:solidFill>
            <a:miter/>
          </a:ln>
          <a:effectLst>
            <a:outerShdw dist="17819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267080" y="4419720"/>
            <a:ext cx="762120" cy="533160"/>
          </a:xfrm>
          <a:prstGeom prst="rightArrow">
            <a:avLst>
              <a:gd name="adj1" fmla="val 50000"/>
              <a:gd name="adj2" fmla="val 35736"/>
            </a:avLst>
          </a:prstGeom>
          <a:solidFill>
            <a:srgbClr val="c7c8cb"/>
          </a:solidFill>
          <a:ln w="9360">
            <a:solidFill>
              <a:srgbClr val="333333"/>
            </a:solidFill>
            <a:miter/>
          </a:ln>
          <a:effectLst>
            <a:outerShdw dist="17819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1066680" y="2361960"/>
            <a:ext cx="3048120" cy="1067040"/>
            <a:chOff x="1066680" y="2361960"/>
            <a:chExt cx="3048120" cy="1067040"/>
          </a:xfrm>
        </p:grpSpPr>
        <p:sp>
          <p:nvSpPr>
            <p:cNvPr id="379" name=""/>
            <p:cNvSpPr/>
            <p:nvPr/>
          </p:nvSpPr>
          <p:spPr>
            <a:xfrm>
              <a:off x="1066680" y="2971800"/>
              <a:ext cx="3048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33"/>
                  </a:solidFill>
                  <a:latin typeface="Times New Roman"/>
                </a:rPr>
                <a:t>Bigbeat Mix, DigiRock, Eurobeat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 flipV="1">
              <a:off x="1752120" y="2361960"/>
              <a:ext cx="304920" cy="6094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33520" y="1600200"/>
            <a:ext cx="2590560" cy="762120"/>
            <a:chOff x="533520" y="1600200"/>
            <a:chExt cx="2590560" cy="762120"/>
          </a:xfrm>
        </p:grpSpPr>
        <p:sp>
          <p:nvSpPr>
            <p:cNvPr id="382" name=""/>
            <p:cNvSpPr/>
            <p:nvPr/>
          </p:nvSpPr>
          <p:spPr>
            <a:xfrm>
              <a:off x="533520" y="1752480"/>
              <a:ext cx="1447560" cy="60984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33"/>
                  </a:solidFill>
                  <a:latin typeface="Times New Roman"/>
                </a:rPr>
                <a:t>ambient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209680" y="1600200"/>
              <a:ext cx="914400" cy="533520"/>
            </a:xfrm>
            <a:prstGeom prst="wedgeRectCallout">
              <a:avLst>
                <a:gd name="adj1" fmla="val -70314"/>
                <a:gd name="adj2" fmla="val 41962"/>
              </a:avLst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root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5029200" y="2971800"/>
            <a:ext cx="3886200" cy="2590920"/>
            <a:chOff x="5029200" y="2971800"/>
            <a:chExt cx="3886200" cy="2590920"/>
          </a:xfrm>
        </p:grpSpPr>
        <p:sp>
          <p:nvSpPr>
            <p:cNvPr id="385" name=""/>
            <p:cNvSpPr/>
            <p:nvPr/>
          </p:nvSpPr>
          <p:spPr>
            <a:xfrm>
              <a:off x="6248520" y="3657600"/>
              <a:ext cx="1447560" cy="60948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33"/>
                  </a:solidFill>
                  <a:latin typeface="Times New Roman"/>
                </a:rPr>
                <a:t>DigiRock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238880" y="4952880"/>
              <a:ext cx="1676520" cy="60984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33"/>
                  </a:solidFill>
                  <a:latin typeface="Times New Roman"/>
                </a:rPr>
                <a:t>Eurobeat, House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029200" y="4952880"/>
              <a:ext cx="1981080" cy="60984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33"/>
                  </a:solidFill>
                  <a:latin typeface="Times New Roman"/>
                </a:rPr>
                <a:t>Ambient,</a:t>
              </a: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333333"/>
                  </a:solidFill>
                  <a:latin typeface="Times New Roman"/>
                </a:rPr>
                <a:t>Bigbeat Mix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6172200" y="4266720"/>
              <a:ext cx="457200" cy="68580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315200" y="4267080"/>
              <a:ext cx="457200" cy="68580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696080" y="2971800"/>
              <a:ext cx="914400" cy="533520"/>
            </a:xfrm>
            <a:prstGeom prst="wedgeRectCallout">
              <a:avLst>
                <a:gd name="adj1" fmla="val -83333"/>
                <a:gd name="adj2" fmla="val 72620"/>
              </a:avLst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root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228600" y="3886200"/>
            <a:ext cx="3809880" cy="1295280"/>
            <a:chOff x="228600" y="3886200"/>
            <a:chExt cx="3809880" cy="1295280"/>
          </a:xfrm>
        </p:grpSpPr>
        <p:sp>
          <p:nvSpPr>
            <p:cNvPr id="392" name=""/>
            <p:cNvSpPr/>
            <p:nvPr/>
          </p:nvSpPr>
          <p:spPr>
            <a:xfrm>
              <a:off x="228600" y="4572000"/>
              <a:ext cx="3809880" cy="60948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33"/>
                  </a:solidFill>
                  <a:latin typeface="Times New Roman"/>
                </a:rPr>
                <a:t>Ambient, Bigbeat Mix, DigiRock, Eurobeat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895480" y="3886200"/>
              <a:ext cx="914400" cy="533520"/>
            </a:xfrm>
            <a:prstGeom prst="wedgeRectCallout">
              <a:avLst>
                <a:gd name="adj1" fmla="val -91842"/>
                <a:gd name="adj2" fmla="val 41370"/>
              </a:avLst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root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3200400" y="5181480"/>
            <a:ext cx="914400" cy="990720"/>
            <a:chOff x="3200400" y="5181480"/>
            <a:chExt cx="914400" cy="990720"/>
          </a:xfrm>
        </p:grpSpPr>
        <p:sp>
          <p:nvSpPr>
            <p:cNvPr id="395" name=""/>
            <p:cNvSpPr/>
            <p:nvPr/>
          </p:nvSpPr>
          <p:spPr>
            <a:xfrm>
              <a:off x="3200400" y="5715000"/>
              <a:ext cx="914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33"/>
                  </a:solidFill>
                  <a:latin typeface="Times New Roman"/>
                </a:rPr>
                <a:t>House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3886200" y="5181480"/>
              <a:ext cx="76320" cy="5335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276720" y="5715000"/>
              <a:ext cx="761760" cy="457200"/>
            </a:xfrm>
            <a:prstGeom prst="ellipse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7772400" y="5562720"/>
            <a:ext cx="1143000" cy="914400"/>
            <a:chOff x="7772400" y="5562720"/>
            <a:chExt cx="1143000" cy="914400"/>
          </a:xfrm>
        </p:grpSpPr>
        <p:sp>
          <p:nvSpPr>
            <p:cNvPr id="399" name=""/>
            <p:cNvSpPr/>
            <p:nvPr/>
          </p:nvSpPr>
          <p:spPr>
            <a:xfrm>
              <a:off x="7848720" y="6019920"/>
              <a:ext cx="10666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33"/>
                  </a:solidFill>
                  <a:latin typeface="Times New Roman"/>
                </a:rPr>
                <a:t>Hardtechno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8686800" y="5562720"/>
              <a:ext cx="76320" cy="4572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772400" y="6019920"/>
              <a:ext cx="1143000" cy="457200"/>
            </a:xfrm>
            <a:prstGeom prst="ellipse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4572000" y="198108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Ambient, Bigbeat Mix, </a:t>
            </a:r>
            <a:r>
              <a:rPr b="0" lang="en-US" sz="1400" spc="-1" strike="noStrike">
                <a:solidFill>
                  <a:srgbClr val="b60000"/>
                </a:solidFill>
                <a:latin typeface="Times New Roman"/>
              </a:rPr>
              <a:t>DigiRock</a:t>
            </a: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, Eurobeat, House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cxnSp>
        <p:nvCxnSpPr>
          <p:cNvPr id="403" name=""/>
          <p:cNvCxnSpPr/>
          <p:nvPr/>
        </p:nvCxnSpPr>
        <p:spPr>
          <a:xfrm flipH="1" flipV="1" rot="5400000">
            <a:off x="4476240" y="2609280"/>
            <a:ext cx="1905840" cy="1562760"/>
          </a:xfrm>
          <a:prstGeom prst="bentConnector3">
            <a:avLst>
              <a:gd name="adj1" fmla="val 49990"/>
            </a:avLst>
          </a:prstGeom>
          <a:ln w="9360">
            <a:solidFill>
              <a:srgbClr val="333333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Example - insertion -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362320" y="3733920"/>
            <a:ext cx="6094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7c8cb"/>
          </a:solidFill>
          <a:ln w="9360">
            <a:solidFill>
              <a:srgbClr val="333333"/>
            </a:solidFill>
            <a:miter/>
          </a:ln>
          <a:effectLst>
            <a:outerShdw dist="17819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029200" y="4572000"/>
            <a:ext cx="685800" cy="457200"/>
          </a:xfrm>
          <a:prstGeom prst="rightArrow">
            <a:avLst>
              <a:gd name="adj1" fmla="val 50000"/>
              <a:gd name="adj2" fmla="val 37500"/>
            </a:avLst>
          </a:prstGeom>
          <a:solidFill>
            <a:srgbClr val="c7c8cb"/>
          </a:solidFill>
          <a:ln w="9360">
            <a:solidFill>
              <a:srgbClr val="333333"/>
            </a:solidFill>
            <a:miter/>
          </a:ln>
          <a:effectLst>
            <a:outerShdw dist="17819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152280" y="4038480"/>
            <a:ext cx="5486400" cy="1905120"/>
            <a:chOff x="152280" y="4038480"/>
            <a:chExt cx="5486400" cy="1905120"/>
          </a:xfrm>
        </p:grpSpPr>
        <p:sp>
          <p:nvSpPr>
            <p:cNvPr id="408" name=""/>
            <p:cNvSpPr/>
            <p:nvPr/>
          </p:nvSpPr>
          <p:spPr>
            <a:xfrm>
              <a:off x="1981080" y="4267080"/>
              <a:ext cx="1447920" cy="60984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33"/>
                  </a:solidFill>
                  <a:latin typeface="Times New Roman"/>
                </a:rPr>
                <a:t>Eurobeat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048120" y="5334120"/>
              <a:ext cx="2590560" cy="60948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33"/>
                  </a:solidFill>
                  <a:latin typeface="Times New Roman"/>
                </a:rPr>
                <a:t>House, Hardtechno, Rave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52280" y="5334120"/>
              <a:ext cx="2819520" cy="60948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33"/>
                  </a:solidFill>
                  <a:latin typeface="Times New Roman"/>
                </a:rPr>
                <a:t>Ambient, Bigbeat Mix, DigiRock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2057400" y="4876920"/>
              <a:ext cx="380880" cy="45720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971800" y="4876920"/>
              <a:ext cx="380880" cy="45720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38080" y="4038480"/>
              <a:ext cx="914400" cy="533520"/>
            </a:xfrm>
            <a:prstGeom prst="wedgeRectCallout">
              <a:avLst>
                <a:gd name="adj1" fmla="val 74305"/>
                <a:gd name="adj2" fmla="val 75597"/>
              </a:avLst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root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5105520" y="1981080"/>
            <a:ext cx="3886200" cy="3353040"/>
            <a:chOff x="5105520" y="1981080"/>
            <a:chExt cx="3886200" cy="3353040"/>
          </a:xfrm>
        </p:grpSpPr>
        <p:sp>
          <p:nvSpPr>
            <p:cNvPr id="415" name=""/>
            <p:cNvSpPr/>
            <p:nvPr/>
          </p:nvSpPr>
          <p:spPr>
            <a:xfrm>
              <a:off x="7696080" y="3733920"/>
              <a:ext cx="1295640" cy="60948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33"/>
                  </a:solidFill>
                  <a:latin typeface="Times New Roman"/>
                </a:rPr>
                <a:t>Rave, Reggae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858000" y="4724280"/>
              <a:ext cx="1447920" cy="60984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33"/>
                  </a:solidFill>
                  <a:latin typeface="Times New Roman"/>
                </a:rPr>
                <a:t>Eurobeat, House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105520" y="3733920"/>
              <a:ext cx="1981080" cy="60948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33"/>
                  </a:solidFill>
                  <a:latin typeface="Times New Roman"/>
                </a:rPr>
                <a:t>Ambient, Bigbeat Mix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400800" y="2666880"/>
              <a:ext cx="2133720" cy="60984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33"/>
                  </a:solidFill>
                  <a:latin typeface="Times New Roman"/>
                </a:rPr>
                <a:t>DigiRock, HardTechno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6019920" y="3276720"/>
              <a:ext cx="457200" cy="45720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391520" y="3276720"/>
              <a:ext cx="75960" cy="144756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381880" y="3276720"/>
              <a:ext cx="76320" cy="45720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848720" y="1981080"/>
              <a:ext cx="914400" cy="533520"/>
            </a:xfrm>
            <a:prstGeom prst="wedgeRectCallout">
              <a:avLst>
                <a:gd name="adj1" fmla="val -91842"/>
                <a:gd name="adj2" fmla="val 69939"/>
              </a:avLst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root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152280" y="1600200"/>
            <a:ext cx="4572000" cy="2057400"/>
            <a:chOff x="152280" y="1600200"/>
            <a:chExt cx="4572000" cy="2057400"/>
          </a:xfrm>
        </p:grpSpPr>
        <p:sp>
          <p:nvSpPr>
            <p:cNvPr id="424" name=""/>
            <p:cNvSpPr/>
            <p:nvPr/>
          </p:nvSpPr>
          <p:spPr>
            <a:xfrm>
              <a:off x="1371600" y="1752480"/>
              <a:ext cx="1447920" cy="60984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33"/>
                  </a:solidFill>
                  <a:latin typeface="Times New Roman"/>
                </a:rPr>
                <a:t>DigiRock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209680" y="3048120"/>
              <a:ext cx="2514600" cy="60948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33"/>
                  </a:solidFill>
                  <a:latin typeface="Times New Roman"/>
                </a:rPr>
                <a:t>Eurobeat, House, Hardtechno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52280" y="3048120"/>
              <a:ext cx="1981440" cy="60948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33"/>
                  </a:solidFill>
                  <a:latin typeface="Times New Roman"/>
                </a:rPr>
                <a:t>Ambient, Bigbeat Mix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1371600" y="2361960"/>
              <a:ext cx="533520" cy="68580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286000" y="2362320"/>
              <a:ext cx="609480" cy="68580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200400" y="1600200"/>
              <a:ext cx="914400" cy="380880"/>
            </a:xfrm>
            <a:prstGeom prst="wedgeRectCallout">
              <a:avLst>
                <a:gd name="adj1" fmla="val -91842"/>
                <a:gd name="adj2" fmla="val 77916"/>
              </a:avLst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root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4191120" y="3657240"/>
            <a:ext cx="761760" cy="686160"/>
            <a:chOff x="4191120" y="3657240"/>
            <a:chExt cx="761760" cy="686160"/>
          </a:xfrm>
        </p:grpSpPr>
        <p:sp>
          <p:nvSpPr>
            <p:cNvPr id="431" name=""/>
            <p:cNvSpPr/>
            <p:nvPr/>
          </p:nvSpPr>
          <p:spPr>
            <a:xfrm>
              <a:off x="4191120" y="4038480"/>
              <a:ext cx="761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33"/>
                  </a:solidFill>
                  <a:latin typeface="Times New Roman"/>
                </a:rPr>
                <a:t>Rave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4572000" y="3657240"/>
              <a:ext cx="0" cy="3049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191120" y="3886200"/>
              <a:ext cx="761760" cy="457200"/>
            </a:xfrm>
            <a:prstGeom prst="ellipse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4876920" y="6019920"/>
            <a:ext cx="914400" cy="532800"/>
            <a:chOff x="4876920" y="6019920"/>
            <a:chExt cx="914400" cy="532800"/>
          </a:xfrm>
        </p:grpSpPr>
        <p:sp>
          <p:nvSpPr>
            <p:cNvPr id="435" name=""/>
            <p:cNvSpPr/>
            <p:nvPr/>
          </p:nvSpPr>
          <p:spPr>
            <a:xfrm>
              <a:off x="4876920" y="6248160"/>
              <a:ext cx="9144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33"/>
                  </a:solidFill>
                  <a:latin typeface="Times New Roman"/>
                </a:rPr>
                <a:t>Reggae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5334120" y="6019920"/>
              <a:ext cx="152280" cy="22824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952880" y="6095880"/>
              <a:ext cx="762120" cy="456840"/>
            </a:xfrm>
            <a:prstGeom prst="ellipse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8381880" y="4419720"/>
            <a:ext cx="762120" cy="1600200"/>
            <a:chOff x="8381880" y="4419720"/>
            <a:chExt cx="762120" cy="1600200"/>
          </a:xfrm>
        </p:grpSpPr>
        <p:sp>
          <p:nvSpPr>
            <p:cNvPr id="439" name=""/>
            <p:cNvSpPr/>
            <p:nvPr/>
          </p:nvSpPr>
          <p:spPr>
            <a:xfrm>
              <a:off x="8381880" y="556272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ska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8686800" y="4419720"/>
              <a:ext cx="228600" cy="12189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381880" y="5562720"/>
              <a:ext cx="762120" cy="457200"/>
            </a:xfrm>
            <a:prstGeom prst="ellipse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Example -insertion-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495680" y="2666880"/>
            <a:ext cx="6858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7c8cb"/>
          </a:solidFill>
          <a:ln w="9360">
            <a:solidFill>
              <a:srgbClr val="333333"/>
            </a:solidFill>
            <a:miter/>
          </a:ln>
          <a:effectLst>
            <a:outerShdw dist="17819" dir="2700000" blurRad="0" rotWithShape="0">
              <a:srgbClr val="5789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152280" y="1752480"/>
            <a:ext cx="4343400" cy="3276720"/>
            <a:chOff x="152280" y="1752480"/>
            <a:chExt cx="4343400" cy="3276720"/>
          </a:xfrm>
        </p:grpSpPr>
        <p:sp>
          <p:nvSpPr>
            <p:cNvPr id="445" name=""/>
            <p:cNvSpPr/>
            <p:nvPr/>
          </p:nvSpPr>
          <p:spPr>
            <a:xfrm>
              <a:off x="1371600" y="2133720"/>
              <a:ext cx="2057400" cy="60948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33"/>
                  </a:solidFill>
                  <a:latin typeface="Times New Roman"/>
                </a:rPr>
                <a:t>DigiRock, Hardtechno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52280" y="3352680"/>
              <a:ext cx="1905120" cy="60984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33"/>
                  </a:solidFill>
                  <a:latin typeface="Times New Roman"/>
                </a:rPr>
                <a:t>Ambient, Bigbeat Mix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600200" y="4419720"/>
              <a:ext cx="1447920" cy="60948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33"/>
                  </a:solidFill>
                  <a:latin typeface="Times New Roman"/>
                </a:rPr>
                <a:t>Eurobeat, House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819520" y="3352680"/>
              <a:ext cx="1676160" cy="60984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33"/>
                  </a:solidFill>
                  <a:latin typeface="Times New Roman"/>
                </a:rPr>
                <a:t>Rave, Reggae, Ska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1066680" y="2742840"/>
              <a:ext cx="381240" cy="60948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286000" y="2743200"/>
              <a:ext cx="0" cy="167652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2743200"/>
              <a:ext cx="228600" cy="60948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28600" y="1752480"/>
              <a:ext cx="914400" cy="533520"/>
            </a:xfrm>
            <a:prstGeom prst="wedgeRectCallout">
              <a:avLst>
                <a:gd name="adj1" fmla="val 74305"/>
                <a:gd name="adj2" fmla="val 75597"/>
              </a:avLst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root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5105520" y="1600200"/>
            <a:ext cx="3886200" cy="3352680"/>
            <a:chOff x="5105520" y="1600200"/>
            <a:chExt cx="3886200" cy="3352680"/>
          </a:xfrm>
        </p:grpSpPr>
        <p:sp>
          <p:nvSpPr>
            <p:cNvPr id="454" name=""/>
            <p:cNvSpPr/>
            <p:nvPr/>
          </p:nvSpPr>
          <p:spPr>
            <a:xfrm>
              <a:off x="5105520" y="3352680"/>
              <a:ext cx="1904760" cy="60984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33"/>
                  </a:solidFill>
                  <a:latin typeface="Times New Roman"/>
                </a:rPr>
                <a:t>Ambient, Bigbeat Mix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238880" y="3352680"/>
              <a:ext cx="1752840" cy="60984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33"/>
                  </a:solidFill>
                  <a:latin typeface="Times New Roman"/>
                </a:rPr>
                <a:t>Reggae, Ska, Soul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943600" y="4343400"/>
              <a:ext cx="2514600" cy="60948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33"/>
                  </a:solidFill>
                  <a:latin typeface="Times New Roman"/>
                </a:rPr>
                <a:t>Eurobeat, House, Hardtechno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477120" y="1981080"/>
              <a:ext cx="1447560" cy="60984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33"/>
                  </a:solidFill>
                  <a:latin typeface="Times New Roman"/>
                </a:rPr>
                <a:t>DigiRock, Rave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5714640" y="2514600"/>
              <a:ext cx="762120" cy="83808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>
              <a:off x="7009920" y="2590920"/>
              <a:ext cx="304920" cy="175248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848720" y="2590920"/>
              <a:ext cx="380880" cy="76176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8001000" y="1600200"/>
              <a:ext cx="914400" cy="533520"/>
            </a:xfrm>
            <a:prstGeom prst="wedgeRectCallout">
              <a:avLst>
                <a:gd name="adj1" fmla="val -57638"/>
                <a:gd name="adj2" fmla="val 87203"/>
              </a:avLst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root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3429000" y="3962160"/>
            <a:ext cx="990720" cy="1600560"/>
            <a:chOff x="3429000" y="3962160"/>
            <a:chExt cx="990720" cy="1600560"/>
          </a:xfrm>
        </p:grpSpPr>
        <p:sp>
          <p:nvSpPr>
            <p:cNvPr id="463" name=""/>
            <p:cNvSpPr/>
            <p:nvPr/>
          </p:nvSpPr>
          <p:spPr>
            <a:xfrm>
              <a:off x="3429000" y="5258160"/>
              <a:ext cx="990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33"/>
                  </a:solidFill>
                  <a:latin typeface="Times New Roman"/>
                </a:rPr>
                <a:t>Soul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>
              <a:off x="3886200" y="3962160"/>
              <a:ext cx="533520" cy="121932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505320" y="5105520"/>
              <a:ext cx="761760" cy="457200"/>
            </a:xfrm>
            <a:prstGeom prst="ellipse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7924680" y="3962520"/>
            <a:ext cx="990360" cy="1523880"/>
            <a:chOff x="7924680" y="3962520"/>
            <a:chExt cx="990360" cy="1523880"/>
          </a:xfrm>
        </p:grpSpPr>
        <p:sp>
          <p:nvSpPr>
            <p:cNvPr id="467" name=""/>
            <p:cNvSpPr/>
            <p:nvPr/>
          </p:nvSpPr>
          <p:spPr>
            <a:xfrm>
              <a:off x="7924680" y="5181480"/>
              <a:ext cx="914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33"/>
                  </a:solidFill>
                  <a:latin typeface="Times New Roman"/>
                </a:rPr>
                <a:t>Techno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8000640" y="3962520"/>
              <a:ext cx="914400" cy="1523880"/>
              <a:chOff x="8000640" y="3962520"/>
              <a:chExt cx="914400" cy="1523880"/>
            </a:xfrm>
          </p:grpSpPr>
          <p:sp>
            <p:nvSpPr>
              <p:cNvPr id="469" name=""/>
              <p:cNvSpPr/>
              <p:nvPr/>
            </p:nvSpPr>
            <p:spPr>
              <a:xfrm flipV="1">
                <a:off x="8610120" y="3962520"/>
                <a:ext cx="304920" cy="12189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8000640" y="5029200"/>
                <a:ext cx="762120" cy="457200"/>
              </a:xfrm>
              <a:prstGeom prst="ellipse">
                <a:avLst/>
              </a:prstGeom>
              <a:noFill/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Example -insertion </a:t>
            </a:r>
            <a:r>
              <a:rPr b="0" lang="ko-KR" sz="4400" spc="-1" strike="noStrike">
                <a:solidFill>
                  <a:srgbClr val="004c2b"/>
                </a:solidFill>
                <a:latin typeface="Times New Roman"/>
              </a:rPr>
              <a:t>완성품</a:t>
            </a:r>
            <a:r>
              <a:rPr b="0" lang="ko-KR" sz="4400" spc="-1" strike="noStrike">
                <a:solidFill>
                  <a:srgbClr val="004c2b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304920" y="1752480"/>
            <a:ext cx="8381880" cy="3048120"/>
            <a:chOff x="304920" y="1752480"/>
            <a:chExt cx="8381880" cy="3048120"/>
          </a:xfrm>
        </p:grpSpPr>
        <p:sp>
          <p:nvSpPr>
            <p:cNvPr id="473" name=""/>
            <p:cNvSpPr/>
            <p:nvPr/>
          </p:nvSpPr>
          <p:spPr>
            <a:xfrm>
              <a:off x="3124080" y="2057400"/>
              <a:ext cx="2590920" cy="60948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33"/>
                  </a:solidFill>
                  <a:latin typeface="Times New Roman"/>
                </a:rPr>
                <a:t>DigiRock, Hardtechno, Ska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648320" y="4191120"/>
              <a:ext cx="1676160" cy="60948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33"/>
                  </a:solidFill>
                  <a:latin typeface="Times New Roman"/>
                </a:rPr>
                <a:t>Rave, Reggae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04920" y="4191120"/>
              <a:ext cx="2057400" cy="60948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33"/>
                  </a:solidFill>
                  <a:latin typeface="Times New Roman"/>
                </a:rPr>
                <a:t>Ambient, Bigbeat Mix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590920" y="4191120"/>
              <a:ext cx="1752480" cy="60948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33"/>
                  </a:solidFill>
                  <a:latin typeface="Times New Roman"/>
                </a:rPr>
                <a:t>Eurobeat, House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629400" y="4191120"/>
              <a:ext cx="2057400" cy="60948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33"/>
                  </a:solidFill>
                  <a:latin typeface="Times New Roman"/>
                </a:rPr>
                <a:t>Soul, Techno</a:t>
              </a:r>
              <a:endParaRPr b="0" lang="en-US" sz="1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V="1">
              <a:off x="1523880" y="2362320"/>
              <a:ext cx="1600200" cy="182880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715000" y="2286000"/>
              <a:ext cx="1828800" cy="190512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>
              <a:off x="3428640" y="2666880"/>
              <a:ext cx="685800" cy="152424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181480" y="2666880"/>
              <a:ext cx="228600" cy="152424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477120" y="1752480"/>
              <a:ext cx="914400" cy="533520"/>
            </a:xfrm>
            <a:prstGeom prst="wedgeRectCallout">
              <a:avLst>
                <a:gd name="adj1" fmla="val -135416"/>
                <a:gd name="adj2" fmla="val 25597"/>
              </a:avLst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root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483" name=""/>
          <p:cNvSpPr/>
          <p:nvPr/>
        </p:nvSpPr>
        <p:spPr>
          <a:xfrm>
            <a:off x="3048120" y="4952880"/>
            <a:ext cx="28191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Order = 4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Example - Index block -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80880" y="1676520"/>
            <a:ext cx="8382240" cy="4647960"/>
          </a:xfrm>
          <a:prstGeom prst="rect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143000" y="1676520"/>
            <a:ext cx="838080" cy="53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NBP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80880" y="1676520"/>
            <a:ext cx="762120" cy="53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B#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80880" y="2209680"/>
            <a:ext cx="8382240" cy="68580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80880" y="2895480"/>
            <a:ext cx="8382240" cy="68580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80880" y="3581280"/>
            <a:ext cx="8382240" cy="68580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80880" y="4267080"/>
            <a:ext cx="8382240" cy="68580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80880" y="4952880"/>
            <a:ext cx="8382240" cy="68580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80880" y="5638680"/>
            <a:ext cx="8382240" cy="68580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609480" y="2666880"/>
            <a:ext cx="4953240" cy="533520"/>
            <a:chOff x="609480" y="2666880"/>
            <a:chExt cx="4953240" cy="533520"/>
          </a:xfrm>
        </p:grpSpPr>
        <p:sp>
          <p:nvSpPr>
            <p:cNvPr id="495" name=""/>
            <p:cNvSpPr/>
            <p:nvPr/>
          </p:nvSpPr>
          <p:spPr>
            <a:xfrm flipV="1">
              <a:off x="609480" y="2666880"/>
              <a:ext cx="0" cy="53352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09480" y="2666880"/>
              <a:ext cx="4953240" cy="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562720" y="2666880"/>
              <a:ext cx="0" cy="22860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498" name=""/>
          <p:cNvGrpSpPr/>
          <p:nvPr/>
        </p:nvGrpSpPr>
        <p:grpSpPr>
          <a:xfrm>
            <a:off x="761760" y="3352680"/>
            <a:ext cx="1447920" cy="914400"/>
            <a:chOff x="761760" y="3352680"/>
            <a:chExt cx="1447920" cy="914400"/>
          </a:xfrm>
        </p:grpSpPr>
        <p:sp>
          <p:nvSpPr>
            <p:cNvPr id="499" name=""/>
            <p:cNvSpPr/>
            <p:nvPr/>
          </p:nvSpPr>
          <p:spPr>
            <a:xfrm>
              <a:off x="2209680" y="3352680"/>
              <a:ext cx="0" cy="45720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761760" y="3809880"/>
              <a:ext cx="1447560" cy="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62120" y="3809880"/>
              <a:ext cx="0" cy="45720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3733920" y="3276720"/>
            <a:ext cx="228600" cy="990360"/>
            <a:chOff x="3733920" y="3276720"/>
            <a:chExt cx="228600" cy="990360"/>
          </a:xfrm>
        </p:grpSpPr>
        <p:sp>
          <p:nvSpPr>
            <p:cNvPr id="503" name=""/>
            <p:cNvSpPr/>
            <p:nvPr/>
          </p:nvSpPr>
          <p:spPr>
            <a:xfrm>
              <a:off x="3733920" y="3276720"/>
              <a:ext cx="0" cy="45720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733920" y="3733920"/>
              <a:ext cx="228600" cy="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962520" y="3733920"/>
              <a:ext cx="0" cy="53316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5334120" y="3276720"/>
            <a:ext cx="1904760" cy="990360"/>
            <a:chOff x="5334120" y="3276720"/>
            <a:chExt cx="1904760" cy="990360"/>
          </a:xfrm>
        </p:grpSpPr>
        <p:sp>
          <p:nvSpPr>
            <p:cNvPr id="507" name=""/>
            <p:cNvSpPr/>
            <p:nvPr/>
          </p:nvSpPr>
          <p:spPr>
            <a:xfrm>
              <a:off x="5334120" y="3276720"/>
              <a:ext cx="0" cy="45720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334120" y="3733920"/>
              <a:ext cx="1904760" cy="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238880" y="3733920"/>
              <a:ext cx="0" cy="53316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685800" y="2895480"/>
            <a:ext cx="4572000" cy="685800"/>
            <a:chOff x="685800" y="2895480"/>
            <a:chExt cx="4572000" cy="685800"/>
          </a:xfrm>
        </p:grpSpPr>
        <p:sp>
          <p:nvSpPr>
            <p:cNvPr id="511" name=""/>
            <p:cNvSpPr/>
            <p:nvPr/>
          </p:nvSpPr>
          <p:spPr>
            <a:xfrm>
              <a:off x="685800" y="2895480"/>
              <a:ext cx="1371600" cy="685800"/>
            </a:xfrm>
            <a:prstGeom prst="rect">
              <a:avLst/>
            </a:prstGeom>
            <a:solidFill>
              <a:srgbClr val="c7c8cb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DigiRock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286000" y="2895480"/>
              <a:ext cx="1371600" cy="685800"/>
            </a:xfrm>
            <a:prstGeom prst="rect">
              <a:avLst/>
            </a:prstGeom>
            <a:solidFill>
              <a:srgbClr val="c7c8cb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HardTech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886200" y="2895480"/>
              <a:ext cx="1371600" cy="685800"/>
            </a:xfrm>
            <a:prstGeom prst="rect">
              <a:avLst/>
            </a:prstGeom>
            <a:solidFill>
              <a:srgbClr val="c7c8cb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Ska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5486400" y="2895480"/>
            <a:ext cx="3276360" cy="685800"/>
            <a:chOff x="5486400" y="2895480"/>
            <a:chExt cx="3276360" cy="685800"/>
          </a:xfrm>
        </p:grpSpPr>
        <p:sp>
          <p:nvSpPr>
            <p:cNvPr id="515" name=""/>
            <p:cNvSpPr/>
            <p:nvPr/>
          </p:nvSpPr>
          <p:spPr>
            <a:xfrm>
              <a:off x="7086600" y="2895480"/>
              <a:ext cx="1371600" cy="685800"/>
            </a:xfrm>
            <a:prstGeom prst="rect">
              <a:avLst/>
            </a:prstGeom>
            <a:solidFill>
              <a:srgbClr val="c7c8cb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Bigbeat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486400" y="2895480"/>
              <a:ext cx="1371600" cy="685800"/>
            </a:xfrm>
            <a:prstGeom prst="rect">
              <a:avLst/>
            </a:prstGeom>
            <a:solidFill>
              <a:srgbClr val="c7c8cb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Ambient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H="1">
              <a:off x="8457840" y="2895480"/>
              <a:ext cx="304920" cy="6858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>
              <a:off x="6857640" y="2895480"/>
              <a:ext cx="228600" cy="6858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380520" y="4267080"/>
            <a:ext cx="3505320" cy="685800"/>
            <a:chOff x="380520" y="4267080"/>
            <a:chExt cx="3505320" cy="685800"/>
          </a:xfrm>
        </p:grpSpPr>
        <p:sp>
          <p:nvSpPr>
            <p:cNvPr id="520" name=""/>
            <p:cNvSpPr/>
            <p:nvPr/>
          </p:nvSpPr>
          <p:spPr>
            <a:xfrm>
              <a:off x="2286000" y="4267080"/>
              <a:ext cx="1371600" cy="685800"/>
            </a:xfrm>
            <a:prstGeom prst="rect">
              <a:avLst/>
            </a:prstGeom>
            <a:solidFill>
              <a:srgbClr val="c7c8cb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House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85800" y="4267080"/>
              <a:ext cx="1371600" cy="685800"/>
            </a:xfrm>
            <a:prstGeom prst="rect">
              <a:avLst/>
            </a:prstGeom>
            <a:solidFill>
              <a:srgbClr val="c7c8cb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Eurobeat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>
              <a:off x="2057040" y="4267080"/>
              <a:ext cx="228600" cy="6858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>
              <a:off x="3657240" y="4267080"/>
              <a:ext cx="228600" cy="6858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H="1">
              <a:off x="380520" y="4267080"/>
              <a:ext cx="304920" cy="6858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525" name=""/>
          <p:cNvSpPr/>
          <p:nvPr/>
        </p:nvSpPr>
        <p:spPr>
          <a:xfrm>
            <a:off x="2057400" y="5638680"/>
            <a:ext cx="228600" cy="68580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3886200" y="4267080"/>
            <a:ext cx="3200040" cy="685800"/>
            <a:chOff x="3886200" y="4267080"/>
            <a:chExt cx="3200040" cy="685800"/>
          </a:xfrm>
        </p:grpSpPr>
        <p:sp>
          <p:nvSpPr>
            <p:cNvPr id="527" name=""/>
            <p:cNvSpPr/>
            <p:nvPr/>
          </p:nvSpPr>
          <p:spPr>
            <a:xfrm>
              <a:off x="3886200" y="4267080"/>
              <a:ext cx="1371600" cy="685800"/>
            </a:xfrm>
            <a:prstGeom prst="rect">
              <a:avLst/>
            </a:prstGeom>
            <a:solidFill>
              <a:srgbClr val="c7c8cb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Rave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486400" y="4267080"/>
              <a:ext cx="1371600" cy="685800"/>
            </a:xfrm>
            <a:prstGeom prst="rect">
              <a:avLst/>
            </a:prstGeom>
            <a:solidFill>
              <a:srgbClr val="c7c8cb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Reggae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H="1">
              <a:off x="6857640" y="4267080"/>
              <a:ext cx="228600" cy="6858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>
              <a:off x="5257440" y="4267080"/>
              <a:ext cx="228600" cy="6858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380520" y="4267080"/>
            <a:ext cx="8382240" cy="2057400"/>
            <a:chOff x="380520" y="4267080"/>
            <a:chExt cx="8382240" cy="2057400"/>
          </a:xfrm>
        </p:grpSpPr>
        <p:sp>
          <p:nvSpPr>
            <p:cNvPr id="532" name=""/>
            <p:cNvSpPr/>
            <p:nvPr/>
          </p:nvSpPr>
          <p:spPr>
            <a:xfrm>
              <a:off x="685800" y="5638680"/>
              <a:ext cx="1371600" cy="685800"/>
            </a:xfrm>
            <a:prstGeom prst="rect">
              <a:avLst/>
            </a:prstGeom>
            <a:solidFill>
              <a:srgbClr val="c7c8cb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Techno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086600" y="4267080"/>
              <a:ext cx="1371600" cy="685800"/>
            </a:xfrm>
            <a:prstGeom prst="rect">
              <a:avLst/>
            </a:prstGeom>
            <a:solidFill>
              <a:srgbClr val="c7c8cb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33"/>
                  </a:solidFill>
                  <a:latin typeface="Times New Roman"/>
                </a:rPr>
                <a:t>Soul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H="1">
              <a:off x="8457840" y="4267080"/>
              <a:ext cx="304920" cy="6858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flipH="1">
              <a:off x="380520" y="5638680"/>
              <a:ext cx="304920" cy="6858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2057040" y="5638680"/>
              <a:ext cx="228600" cy="685800"/>
            </a:xfrm>
            <a:prstGeom prst="line">
              <a:avLst/>
            </a:prstGeom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How implementation?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538" name=""/>
          <p:cNvGraphicFramePr/>
          <p:nvPr/>
        </p:nvGraphicFramePr>
        <p:xfrm>
          <a:off x="1219320" y="2286000"/>
          <a:ext cx="6781680" cy="3809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2286000"/>
                    <a:ext cx="67816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Disadvantage of Hashing 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Hashing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Records are difficult to process in key order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"/>
              </a:rPr>
              <a:t>difficulty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"/>
              </a:rPr>
              <a:t> :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if  we access all records sequentially with keys in a certain range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Buffer Implementation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541" name=""/>
          <p:cNvGraphicFramePr/>
          <p:nvPr/>
        </p:nvGraphicFramePr>
        <p:xfrm>
          <a:off x="1809720" y="1981080"/>
          <a:ext cx="5524560" cy="3886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9720" y="1981080"/>
                    <a:ext cx="552456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Peter D. Smith &amp;  G.Michael Barnes , Files and Databases : an introduction ,  Addison-Wesley, 1988.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Harry R. Lewis &amp; Larry Denenberg , Data Structures &amp; Their Algorithms , HarperCollinsPublishers , 1991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C.J.Date , An introduction to Database Systems , 6th . Addison-Wesley, 1995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Reference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ISAM</a:t>
            </a:r>
            <a:br>
              <a:rPr sz="4400"/>
            </a:b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(Indexed Sequential Access Method)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ndex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tatic Index(ISAM) -IBM-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Dynamic Index(VSAM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1028520" indent="-20556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B+ Tre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028520" indent="-20556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B* Tre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isadvantage</a:t>
            </a:r>
            <a:r>
              <a:rPr b="0" lang="en-US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of ISA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Not change of Structur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1028520" indent="-20556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overflow, underflow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eriodic maintenance is required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6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828800" y="5029200"/>
            <a:ext cx="6172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B tree </a:t>
            </a:r>
            <a:r>
              <a:rPr b="0" lang="ko-KR" sz="4400" spc="-1" strike="noStrike">
                <a:solidFill>
                  <a:srgbClr val="004c2b"/>
                </a:solidFill>
                <a:latin typeface="Times New Roman"/>
              </a:rPr>
              <a:t>란</a:t>
            </a:r>
            <a:r>
              <a:rPr b="0" lang="ko-KR" sz="4400" spc="-1" strike="noStrike">
                <a:solidFill>
                  <a:srgbClr val="004c2b"/>
                </a:solidFill>
                <a:latin typeface="Times New Roman"/>
              </a:rPr>
              <a:t>??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a special kind of 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balanced m-ary search tree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to work well on </a:t>
            </a:r>
            <a:r>
              <a:rPr b="0" lang="en-US" sz="3200" spc="-1" strike="noStrike" u="sng">
                <a:solidFill>
                  <a:srgbClr val="333333"/>
                </a:solidFill>
                <a:uFillTx/>
                <a:latin typeface="Times New Roman"/>
              </a:rPr>
              <a:t>direct-access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secondary storage device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dynamic multi - level indexes to guide the search for record in a data fil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B tree </a:t>
            </a:r>
            <a:r>
              <a:rPr b="0" lang="ko-KR" sz="4400" spc="-1" strike="noStrike">
                <a:solidFill>
                  <a:srgbClr val="004c2b"/>
                </a:solidFill>
                <a:latin typeface="Times New Roman"/>
              </a:rPr>
              <a:t>의 정의</a:t>
            </a:r>
            <a:r>
              <a:rPr b="0" lang="ko-KR" sz="4400" spc="-1" strike="noStrike">
                <a:solidFill>
                  <a:srgbClr val="004c2b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property of order m tre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4c2b"/>
                </a:solidFill>
                <a:latin typeface="Times New Roman"/>
              </a:rPr>
              <a:t>모든 </a:t>
            </a:r>
            <a:r>
              <a:rPr b="1" lang="en-US" sz="2800" spc="-1" strike="noStrike">
                <a:solidFill>
                  <a:srgbClr val="004c2b"/>
                </a:solidFill>
                <a:latin typeface="Times New Roman"/>
              </a:rPr>
              <a:t>node</a:t>
            </a:r>
            <a:r>
              <a:rPr b="1" lang="ko-KR" sz="2800" spc="-1" strike="noStrike">
                <a:solidFill>
                  <a:srgbClr val="333333"/>
                </a:solidFill>
                <a:latin typeface="Times New Roman"/>
              </a:rPr>
              <a:t>는 </a:t>
            </a:r>
            <a:r>
              <a:rPr b="1" lang="ko-KR" sz="2800" spc="-1" strike="noStrike">
                <a:solidFill>
                  <a:srgbClr val="ff0066"/>
                </a:solidFill>
                <a:latin typeface="Times New Roman"/>
              </a:rPr>
              <a:t>많아야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m children</a:t>
            </a:r>
            <a:r>
              <a:rPr b="1" lang="ko-KR" sz="2800" spc="-1" strike="noStrike">
                <a:solidFill>
                  <a:srgbClr val="333333"/>
                </a:solidFill>
                <a:latin typeface="Times New Roman"/>
              </a:rPr>
              <a:t>를 가진다</a:t>
            </a:r>
            <a:r>
              <a:rPr b="1" lang="ko-KR" sz="28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c2b"/>
                </a:solidFill>
                <a:latin typeface="Times New Roman"/>
              </a:rPr>
              <a:t>root</a:t>
            </a:r>
            <a:r>
              <a:rPr b="1" lang="ko-KR" sz="2800" spc="-1" strike="noStrike">
                <a:solidFill>
                  <a:srgbClr val="004c2b"/>
                </a:solidFill>
                <a:latin typeface="Times New Roman"/>
              </a:rPr>
              <a:t>와 </a:t>
            </a:r>
            <a:r>
              <a:rPr b="1" lang="en-US" sz="2800" spc="-1" strike="noStrike">
                <a:solidFill>
                  <a:srgbClr val="004c2b"/>
                </a:solidFill>
                <a:latin typeface="Times New Roman"/>
              </a:rPr>
              <a:t>leaf</a:t>
            </a:r>
            <a:r>
              <a:rPr b="1" lang="ko-KR" sz="2800" spc="-1" strike="noStrike">
                <a:solidFill>
                  <a:srgbClr val="004c2b"/>
                </a:solidFill>
                <a:latin typeface="Times New Roman"/>
              </a:rPr>
              <a:t>를 제외</a:t>
            </a:r>
            <a:r>
              <a:rPr b="1" lang="ko-KR" sz="2800" spc="-1" strike="noStrike">
                <a:solidFill>
                  <a:srgbClr val="333333"/>
                </a:solidFill>
                <a:latin typeface="Times New Roman"/>
              </a:rPr>
              <a:t>한 모든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node</a:t>
            </a:r>
            <a:r>
              <a:rPr b="1" lang="ko-KR" sz="2800" spc="-1" strike="noStrike">
                <a:solidFill>
                  <a:srgbClr val="333333"/>
                </a:solidFill>
                <a:latin typeface="Times New Roman"/>
              </a:rPr>
              <a:t>은 </a:t>
            </a:r>
            <a:r>
              <a:rPr b="1" lang="ko-KR" sz="2800" spc="-1" strike="noStrike">
                <a:solidFill>
                  <a:srgbClr val="ff0066"/>
                </a:solidFill>
                <a:latin typeface="Times New Roman"/>
              </a:rPr>
              <a:t>적어도     </a:t>
            </a:r>
            <a:r>
              <a:rPr b="1" lang="ko-KR" sz="2800" spc="-1" strike="noStrike">
                <a:solidFill>
                  <a:srgbClr val="ff0066"/>
                </a:solidFill>
                <a:latin typeface="Symbol"/>
                <a:ea typeface="Symbol"/>
              </a:rPr>
              <a:t>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m/2</a:t>
            </a:r>
            <a:r>
              <a:rPr b="1" lang="en-US" sz="2800" spc="-1" strike="noStrike">
                <a:solidFill>
                  <a:srgbClr val="ff0066"/>
                </a:solidFill>
                <a:latin typeface="Symbol"/>
                <a:ea typeface="Symbol"/>
              </a:rPr>
              <a:t>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 children </a:t>
            </a:r>
            <a:r>
              <a:rPr b="1" lang="ko-KR" sz="2800" spc="-1" strike="noStrike">
                <a:solidFill>
                  <a:srgbClr val="333333"/>
                </a:solidFill>
                <a:latin typeface="Times New Roman"/>
              </a:rPr>
              <a:t>를 가진다</a:t>
            </a:r>
            <a:r>
              <a:rPr b="1" lang="ko-KR" sz="28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4c2b"/>
                </a:solidFill>
                <a:latin typeface="Times New Roman"/>
              </a:rPr>
              <a:t>root</a:t>
            </a:r>
            <a:r>
              <a:rPr b="1" lang="ko-KR" sz="2800" spc="-1" strike="noStrike">
                <a:solidFill>
                  <a:srgbClr val="333333"/>
                </a:solidFill>
                <a:latin typeface="Times New Roman"/>
              </a:rPr>
              <a:t>는 </a:t>
            </a:r>
            <a:r>
              <a:rPr b="1" lang="ko-KR" sz="2800" spc="-1" strike="noStrike">
                <a:solidFill>
                  <a:srgbClr val="ff0066"/>
                </a:solidFill>
                <a:latin typeface="Times New Roman"/>
              </a:rPr>
              <a:t>적어도 </a:t>
            </a:r>
            <a:r>
              <a:rPr b="1" lang="ko-KR" sz="2800" spc="-1" strike="noStrike">
                <a:solidFill>
                  <a:srgbClr val="ff0066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children</a:t>
            </a:r>
            <a:r>
              <a:rPr b="1" lang="ko-KR" sz="2800" spc="-1" strike="noStrike">
                <a:solidFill>
                  <a:srgbClr val="333333"/>
                </a:solidFill>
                <a:latin typeface="Times New Roman"/>
              </a:rPr>
              <a:t>를 가진다</a:t>
            </a:r>
            <a:r>
              <a:rPr b="1" lang="ko-KR" sz="28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ontinue...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property of order m tre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4c2b"/>
                </a:solidFill>
                <a:latin typeface="Times New Roman"/>
              </a:rPr>
              <a:t>모든 </a:t>
            </a:r>
            <a:r>
              <a:rPr b="1" lang="en-US" sz="2800" spc="-1" strike="noStrike">
                <a:solidFill>
                  <a:srgbClr val="004c2b"/>
                </a:solidFill>
                <a:latin typeface="Times New Roman"/>
              </a:rPr>
              <a:t>leaf</a:t>
            </a:r>
            <a:r>
              <a:rPr b="1" lang="ko-KR" sz="2800" spc="-1" strike="noStrike">
                <a:solidFill>
                  <a:srgbClr val="333333"/>
                </a:solidFill>
                <a:latin typeface="Times New Roman"/>
              </a:rPr>
              <a:t>는 </a:t>
            </a:r>
            <a:r>
              <a:rPr b="1" lang="ko-KR" sz="2800" spc="-1" strike="noStrike">
                <a:solidFill>
                  <a:srgbClr val="ff0066"/>
                </a:solidFill>
                <a:latin typeface="Times New Roman"/>
              </a:rPr>
              <a:t>같은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level</a:t>
            </a:r>
            <a:r>
              <a:rPr b="1" lang="ko-KR" sz="2800" spc="-1" strike="noStrike">
                <a:solidFill>
                  <a:srgbClr val="ff0066"/>
                </a:solidFill>
                <a:latin typeface="Times New Roman"/>
              </a:rPr>
              <a:t>상</a:t>
            </a:r>
            <a:r>
              <a:rPr b="1" lang="ko-KR" sz="2800" spc="-1" strike="noStrike">
                <a:solidFill>
                  <a:srgbClr val="333333"/>
                </a:solidFill>
                <a:latin typeface="Times New Roman"/>
              </a:rPr>
              <a:t>에 존재한다</a:t>
            </a:r>
            <a:r>
              <a:rPr b="1" lang="ko-KR" sz="28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60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ko-KR" sz="2800" spc="-1" strike="noStrike">
                <a:solidFill>
                  <a:srgbClr val="ff0066"/>
                </a:solidFill>
                <a:latin typeface="Times New Roman"/>
              </a:rPr>
              <a:t>개의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children</a:t>
            </a:r>
            <a:r>
              <a:rPr b="1" lang="ko-KR" sz="2800" spc="-1" strike="noStrike">
                <a:solidFill>
                  <a:srgbClr val="333333"/>
                </a:solidFill>
                <a:latin typeface="Times New Roman"/>
              </a:rPr>
              <a:t>을 가지는 </a:t>
            </a:r>
            <a:r>
              <a:rPr b="1" lang="en-US" sz="2800" spc="-1" strike="noStrike">
                <a:solidFill>
                  <a:srgbClr val="004c2b"/>
                </a:solidFill>
                <a:latin typeface="Times New Roman"/>
              </a:rPr>
              <a:t>non-leaf node</a:t>
            </a:r>
            <a:r>
              <a:rPr b="1" lang="ko-KR" sz="2800" spc="-1" strike="noStrike">
                <a:solidFill>
                  <a:srgbClr val="333333"/>
                </a:solidFill>
                <a:latin typeface="Times New Roman"/>
              </a:rPr>
              <a:t>는  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k-1</a:t>
            </a:r>
            <a:r>
              <a:rPr b="1" lang="ko-KR" sz="2800" spc="-1" strike="noStrike">
                <a:solidFill>
                  <a:srgbClr val="ff0066"/>
                </a:solidFill>
                <a:latin typeface="Times New Roman"/>
              </a:rPr>
              <a:t>개의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records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ko-KR" sz="2800" spc="-1" strike="noStrike">
                <a:solidFill>
                  <a:srgbClr val="333333"/>
                </a:solidFill>
                <a:latin typeface="Times New Roman"/>
              </a:rPr>
              <a:t>를 가진다</a:t>
            </a:r>
            <a:r>
              <a:rPr b="1" lang="ko-KR" sz="28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60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leaf node </a:t>
            </a:r>
            <a:r>
              <a:rPr b="1" lang="ko-KR" sz="2800" spc="-1" strike="noStrike">
                <a:solidFill>
                  <a:srgbClr val="333333"/>
                </a:solidFill>
                <a:latin typeface="Times New Roman"/>
              </a:rPr>
              <a:t>는 적어도 </a:t>
            </a:r>
            <a:r>
              <a:rPr b="1" lang="ko-KR" sz="2800" spc="-1" strike="noStrike">
                <a:solidFill>
                  <a:srgbClr val="333333"/>
                </a:solidFill>
                <a:latin typeface="Symbol"/>
                <a:ea typeface="Symbol"/>
              </a:rPr>
              <a:t>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m/2</a:t>
            </a:r>
            <a:r>
              <a:rPr b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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- 1 records </a:t>
            </a:r>
            <a:r>
              <a:rPr b="1" lang="ko-KR" sz="2800" spc="-1" strike="noStrike">
                <a:solidFill>
                  <a:srgbClr val="333333"/>
                </a:solidFill>
                <a:latin typeface="Times New Roman"/>
              </a:rPr>
              <a:t>와 많아야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m - 1 </a:t>
            </a:r>
            <a:r>
              <a:rPr b="1" lang="ko-KR" sz="2800" spc="-1" strike="noStrike">
                <a:solidFill>
                  <a:srgbClr val="333333"/>
                </a:solidFill>
                <a:latin typeface="Times New Roman"/>
              </a:rPr>
              <a:t>개의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records</a:t>
            </a:r>
            <a:r>
              <a:rPr b="1" lang="ko-KR" sz="2800" spc="-1" strike="noStrike">
                <a:solidFill>
                  <a:srgbClr val="333333"/>
                </a:solidFill>
                <a:latin typeface="Times New Roman"/>
              </a:rPr>
              <a:t>를 가진다</a:t>
            </a:r>
            <a:r>
              <a:rPr b="1" lang="ko-KR" sz="2800" spc="-1" strike="noStrike">
                <a:solidFill>
                  <a:srgbClr val="333333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B tree &amp; DataBase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33333"/>
                </a:solidFill>
                <a:latin typeface="Times New Roman"/>
              </a:rPr>
              <a:t>대부분의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relational system</a:t>
            </a:r>
            <a:r>
              <a:rPr b="0" lang="ko-KR" sz="3200" spc="-1" strike="noStrike">
                <a:solidFill>
                  <a:srgbClr val="333333"/>
                </a:solidFill>
                <a:latin typeface="Times New Roman"/>
              </a:rPr>
              <a:t>들이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torage structure</a:t>
            </a:r>
            <a:r>
              <a:rPr b="0" lang="ko-KR" sz="3200" spc="-1" strike="noStrike">
                <a:solidFill>
                  <a:srgbClr val="333333"/>
                </a:solidFill>
                <a:latin typeface="Times New Roman"/>
              </a:rPr>
              <a:t>의 기본형태로서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B-tree</a:t>
            </a:r>
            <a:r>
              <a:rPr b="0" lang="ko-KR" sz="3200" spc="-1" strike="noStrike">
                <a:solidFill>
                  <a:srgbClr val="333333"/>
                </a:solidFill>
                <a:latin typeface="Times New Roman"/>
              </a:rPr>
              <a:t>를 지원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Why?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B-tree is particularly well suited for external storage.( disk, tape, etc. 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B-tree is used to represent files in external storag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B tree &amp; DataBase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hierarchical structure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files, record / disk, cylinder, block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node / physical block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block acces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eek time, latency time</a:t>
            </a:r>
            <a:r>
              <a:rPr b="0" lang="ko-KR" sz="2400" spc="-1" strike="noStrike">
                <a:solidFill>
                  <a:srgbClr val="333333"/>
                </a:solidFill>
                <a:latin typeface="Times New Roman"/>
              </a:rPr>
              <a:t>의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cos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568160" indent="-223920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block access</a:t>
            </a:r>
            <a:r>
              <a:rPr b="0" lang="ko-KR" sz="2000" spc="-1" strike="noStrike">
                <a:solidFill>
                  <a:srgbClr val="333333"/>
                </a:solidFill>
                <a:latin typeface="Times New Roman"/>
              </a:rPr>
              <a:t>수를 줄이는 것이 중요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searching time</a:t>
            </a:r>
            <a:r>
              <a:rPr b="0" lang="ko-KR" sz="2400" spc="-1" strike="noStrike">
                <a:solidFill>
                  <a:srgbClr val="333333"/>
                </a:solidFill>
                <a:latin typeface="Times New Roman"/>
              </a:rPr>
              <a:t>이 일정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568160" indent="-223920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balance </a:t>
            </a:r>
            <a:r>
              <a:rPr b="0" lang="ko-KR" sz="2000" spc="-1" strike="noStrike">
                <a:solidFill>
                  <a:srgbClr val="333333"/>
                </a:solidFill>
                <a:latin typeface="Times New Roman"/>
              </a:rPr>
              <a:t>유지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ordered  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0" y="3657600"/>
            <a:ext cx="1981080" cy="19810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Disk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0" y="2057400"/>
            <a:ext cx="1752480" cy="121932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934320" y="3276720"/>
            <a:ext cx="685800" cy="1218960"/>
          </a:xfrm>
          <a:prstGeom prst="upArrowCallout">
            <a:avLst>
              <a:gd name="adj1" fmla="val 37966"/>
              <a:gd name="adj2" fmla="val 25000"/>
              <a:gd name="adj3" fmla="val 37959"/>
              <a:gd name="adj4" fmla="val 154177"/>
            </a:avLst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blocks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781680" y="1676520"/>
            <a:ext cx="838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l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0" y="2362320"/>
            <a:ext cx="1752480" cy="45720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records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31T05:37:27Z</dcterms:created>
  <dc:creator>sun</dc:creator>
  <dc:description/>
  <dc:language>en-US</dc:language>
  <cp:lastModifiedBy>sun</cp:lastModifiedBy>
  <cp:lastPrinted>1999-04-01T04:24:16Z</cp:lastPrinted>
  <dcterms:modified xsi:type="dcterms:W3CDTF">1999-04-05T16:27:04Z</dcterms:modified>
  <cp:revision>26</cp:revision>
  <dc:subject/>
  <dc:title>Disadvantage of Hashing </dc:title>
</cp:coreProperties>
</file>