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A89-505D-42AC-9CD6-B931BC97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4378-0A01-4908-BD17-D6910705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47F4-3CC5-42DA-967B-FE8E1C3E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8059-F02B-453A-96B5-8A5A37B2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D702F-BF70-402B-8F50-7085514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F3CE-84A4-4A7C-B4E2-0349B410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1BF7-2D0F-421F-A220-21F8C34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595-D2E6-4E98-BE17-3BC42ED7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4104-E854-46DD-A4D8-74E9D2E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1EA9-05C0-40D5-B7EE-61A5DA96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9613-E8D2-4A57-9CC2-4B999E81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DC6-5824-4C09-A83C-1BCC1B85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03EA-ABAD-4326-8CF9-A23A240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7385-C6F0-47EE-B07A-97F0D32C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F3C6-E04B-4C86-88E9-C90AEB5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F425E-BDDE-491A-AEF2-34CFADD3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4524-F2B0-498C-A063-097B309D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4D2-A54D-423F-B065-573D0833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1588-BEA2-4E7B-BF11-D31EF92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2785-9320-4599-87F4-104783A9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33D-5BF0-40E1-B32E-E086B8CA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1F4-F1EE-4592-80F2-7EC66A09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D842-0827-470A-891F-C19AD6D7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B59-AEEC-4987-AD46-FC110EA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8D93-A3F2-4753-B5E7-700911A9C566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460-A8F9-4A88-AF0A-0302997B3EA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547C-95C6-40A1-A2CD-4ACACE5C17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57AA-1794-4B42-A8AE-9F15F42DCD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2309-E415-4C50-80F1-546CC05CBF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AD7-4A22-432C-A872-DC1ED31763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230-75B3-4E73-AEF1-FC483DEAEFB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2FD0-91CA-42B6-8C18-BC65691C8F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7164-6F55-413B-9CFA-0EECA650A3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3B6C-7CB6-4C26-BFAE-2407D56EE9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E7E1-1A78-4169-8A56-B4EE24E8FE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A5AC-4522-4EAC-A005-9F4C476EF55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E8D5-8865-42A6-B7EB-D07B23FC9C4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Joon-Myung Kang</cp:lastModifiedBy>
  <cp:lastPrinted>1997-02-26T15:00:00Z</cp:lastPrinted>
  <dcterms:modified xsi:type="dcterms:W3CDTF">1999-05-21T06:52:06Z</dcterms:modified>
  <cp:revision>19</cp:revision>
  <dc:subject/>
  <dc:title>Lab Project presentation Computer Game Database</dc:title>
</cp:coreProperties>
</file>