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29BB-51BC-434A-8DCA-E55C503B57C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564F-BCB8-4FC0-B888-224F6D5275D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0ED8-C657-4AD5-BD16-63699B248B8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050-2D92-490A-91A0-C97E8C2B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118D-9788-4442-8063-F4E36D3D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21F-5524-4B64-B118-1E938E9F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100-47D4-470E-A0B4-0CA3F7CA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683A7-527B-4289-A640-5FC64C62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5EBE-6A9C-478C-BD82-1EC6EDD6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D44E-F671-47D1-8E46-172EB31B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9D68-89CC-489D-AABE-A3AC1E3C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9016A-3307-48A3-9AD0-AA563C87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31CC-5745-4415-BA4B-C3989096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7CC3-935C-475C-83D2-94FBFB35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A317-AE0A-42F4-A88F-F029BE25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5FB0-B6E0-466A-8617-C8532349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A0D6-762E-4A93-9097-C239E151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1CEF-96B1-45D1-9F09-E0B95909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EE2B-2D49-4A20-8706-A156A591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7FD0-2670-4E4E-B0F9-EE134DC7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3FD-AF39-4588-821F-9A78DB6C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14E-1E3D-4919-B5D3-18BC4993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97C-2EE4-4490-8992-947ADA39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776-4DF1-4431-B071-66A87F49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5D99-CA75-40A1-9AD0-BAA2EA38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BAB9-4120-43DF-A5C6-06BB1A2D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65E9-F536-4769-850D-8860E1A3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18C1-8746-43BD-9560-299929AD2996}" type="datetime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4F61-DC8E-45F6-A96D-41D854B30948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065B-BA6D-423E-AE26-C479A9AEEFC9}" type="datetime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5A85-6E32-4448-951B-567852A3CB52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4c2b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B-tree insertion/dele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B*-tree insertion/dele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606680" y="3886200"/>
            <a:ext cx="5397480" cy="1447920"/>
            <a:chOff x="1606680" y="3886200"/>
            <a:chExt cx="5397480" cy="1447920"/>
          </a:xfrm>
        </p:grpSpPr>
        <p:grpSp>
          <p:nvGrpSpPr>
            <p:cNvPr id="267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268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   45    49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274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7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968640" y="3886200"/>
              <a:ext cx="1206720" cy="304920"/>
              <a:chOff x="3968640" y="3886200"/>
              <a:chExt cx="1206720" cy="304920"/>
            </a:xfrm>
          </p:grpSpPr>
          <p:sp>
            <p:nvSpPr>
              <p:cNvPr id="280" name=""/>
              <p:cNvSpPr/>
              <p:nvPr/>
            </p:nvSpPr>
            <p:spPr>
              <a:xfrm>
                <a:off x="3968640" y="3892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0  50   9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41972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72428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8006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286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292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  20    2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 flipH="1">
              <a:off x="3352680" y="4191120"/>
              <a:ext cx="99072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24280" y="4191120"/>
              <a:ext cx="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181480" y="4191120"/>
              <a:ext cx="762120" cy="838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33720" y="4114800"/>
              <a:ext cx="1828800" cy="9144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1584360" y="1889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3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606680" y="2971800"/>
            <a:ext cx="6845040" cy="2362320"/>
            <a:chOff x="1606680" y="2971800"/>
            <a:chExt cx="6845040" cy="2362320"/>
          </a:xfrm>
        </p:grpSpPr>
        <p:grpSp>
          <p:nvGrpSpPr>
            <p:cNvPr id="304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305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311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  49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673360" y="3962520"/>
              <a:ext cx="1206360" cy="304560"/>
              <a:chOff x="2673360" y="3962520"/>
              <a:chExt cx="1206360" cy="304560"/>
            </a:xfrm>
          </p:grpSpPr>
          <p:sp>
            <p:nvSpPr>
              <p:cNvPr id="317" name=""/>
              <p:cNvSpPr/>
              <p:nvPr/>
            </p:nvSpPr>
            <p:spPr>
              <a:xfrm>
                <a:off x="2673360" y="39686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481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24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290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053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323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7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329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  20    2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797440" y="3962520"/>
              <a:ext cx="1206720" cy="304560"/>
              <a:chOff x="5797440" y="3962520"/>
              <a:chExt cx="1206720" cy="304560"/>
            </a:xfrm>
          </p:grpSpPr>
          <p:sp>
            <p:nvSpPr>
              <p:cNvPr id="335" name=""/>
              <p:cNvSpPr/>
              <p:nvPr/>
            </p:nvSpPr>
            <p:spPr>
              <a:xfrm>
                <a:off x="5797440" y="39686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50   9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722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485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553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94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245360" y="5029200"/>
              <a:ext cx="1206360" cy="304920"/>
              <a:chOff x="7245360" y="5029200"/>
              <a:chExt cx="1206360" cy="304920"/>
            </a:xfrm>
          </p:grpSpPr>
          <p:sp>
            <p:nvSpPr>
              <p:cNvPr id="341" name=""/>
              <p:cNvSpPr/>
              <p:nvPr/>
            </p:nvSpPr>
            <p:spPr>
              <a:xfrm>
                <a:off x="724536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201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696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001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077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"/>
            <p:cNvGrpSpPr/>
            <p:nvPr/>
          </p:nvGrpSpPr>
          <p:grpSpPr>
            <a:xfrm>
              <a:off x="4197240" y="2971800"/>
              <a:ext cx="1206720" cy="304920"/>
              <a:chOff x="4197240" y="2971800"/>
              <a:chExt cx="1206720" cy="304920"/>
            </a:xfrm>
          </p:grpSpPr>
          <p:sp>
            <p:nvSpPr>
              <p:cNvPr id="347" name=""/>
              <p:cNvSpPr/>
              <p:nvPr/>
            </p:nvSpPr>
            <p:spPr>
              <a:xfrm>
                <a:off x="4197240" y="29782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5720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64832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5288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0292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H="1">
              <a:off x="2971440" y="3276720"/>
              <a:ext cx="121932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48320" y="3276720"/>
              <a:ext cx="144756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1828800" y="4267080"/>
              <a:ext cx="83808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124080" y="4267080"/>
              <a:ext cx="15264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4419720" y="4191120"/>
              <a:ext cx="137160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6019560" y="4267080"/>
              <a:ext cx="22860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29400" y="4267080"/>
              <a:ext cx="99072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606680" y="2971800"/>
            <a:ext cx="6845040" cy="2362320"/>
            <a:chOff x="1606680" y="2971800"/>
            <a:chExt cx="6845040" cy="2362320"/>
          </a:xfrm>
        </p:grpSpPr>
        <p:grpSp>
          <p:nvGrpSpPr>
            <p:cNvPr id="362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363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369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  49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673360" y="3962520"/>
              <a:ext cx="1206360" cy="304560"/>
              <a:chOff x="2673360" y="3962520"/>
              <a:chExt cx="1206360" cy="304560"/>
            </a:xfrm>
          </p:grpSpPr>
          <p:sp>
            <p:nvSpPr>
              <p:cNvPr id="375" name=""/>
              <p:cNvSpPr/>
              <p:nvPr/>
            </p:nvSpPr>
            <p:spPr>
              <a:xfrm>
                <a:off x="2673360" y="39686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81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124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4290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5053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381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7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387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  20    2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797440" y="3962520"/>
              <a:ext cx="1206720" cy="304560"/>
              <a:chOff x="5797440" y="3962520"/>
              <a:chExt cx="1206720" cy="304560"/>
            </a:xfrm>
          </p:grpSpPr>
          <p:sp>
            <p:nvSpPr>
              <p:cNvPr id="393" name=""/>
              <p:cNvSpPr/>
              <p:nvPr/>
            </p:nvSpPr>
            <p:spPr>
              <a:xfrm>
                <a:off x="5797440" y="39686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50   9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1722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485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553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294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245360" y="5029200"/>
              <a:ext cx="1206360" cy="304920"/>
              <a:chOff x="7245360" y="5029200"/>
              <a:chExt cx="1206360" cy="304920"/>
            </a:xfrm>
          </p:grpSpPr>
          <p:sp>
            <p:nvSpPr>
              <p:cNvPr id="399" name=""/>
              <p:cNvSpPr/>
              <p:nvPr/>
            </p:nvSpPr>
            <p:spPr>
              <a:xfrm>
                <a:off x="724536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201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96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001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077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4197240" y="2971800"/>
              <a:ext cx="1206720" cy="304920"/>
              <a:chOff x="4197240" y="2971800"/>
              <a:chExt cx="1206720" cy="304920"/>
            </a:xfrm>
          </p:grpSpPr>
          <p:sp>
            <p:nvSpPr>
              <p:cNvPr id="405" name=""/>
              <p:cNvSpPr/>
              <p:nvPr/>
            </p:nvSpPr>
            <p:spPr>
              <a:xfrm>
                <a:off x="4197240" y="29782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5720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64832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95288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0292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 flipH="1">
              <a:off x="2971440" y="3276720"/>
              <a:ext cx="121932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8320" y="3276720"/>
              <a:ext cx="144756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1828800" y="4267080"/>
              <a:ext cx="83808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24080" y="4267080"/>
              <a:ext cx="15264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419720" y="4191120"/>
              <a:ext cx="137160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6019560" y="4267080"/>
              <a:ext cx="22860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629400" y="4267080"/>
              <a:ext cx="99072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584000" y="242244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  1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58436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606680" y="2971800"/>
            <a:ext cx="6845040" cy="2362320"/>
            <a:chOff x="1606680" y="2971800"/>
            <a:chExt cx="6845040" cy="2362320"/>
          </a:xfrm>
        </p:grpSpPr>
        <p:grpSp>
          <p:nvGrpSpPr>
            <p:cNvPr id="421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422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428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  49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673360" y="3962520"/>
              <a:ext cx="1206360" cy="304560"/>
              <a:chOff x="2673360" y="3962520"/>
              <a:chExt cx="1206360" cy="304560"/>
            </a:xfrm>
          </p:grpSpPr>
          <p:sp>
            <p:nvSpPr>
              <p:cNvPr id="434" name=""/>
              <p:cNvSpPr/>
              <p:nvPr/>
            </p:nvSpPr>
            <p:spPr>
              <a:xfrm>
                <a:off x="2673360" y="39686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81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124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4290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5053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440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7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446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0    2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5797440" y="3962520"/>
              <a:ext cx="1206720" cy="304560"/>
              <a:chOff x="5797440" y="3962520"/>
              <a:chExt cx="1206720" cy="304560"/>
            </a:xfrm>
          </p:grpSpPr>
          <p:sp>
            <p:nvSpPr>
              <p:cNvPr id="452" name=""/>
              <p:cNvSpPr/>
              <p:nvPr/>
            </p:nvSpPr>
            <p:spPr>
              <a:xfrm>
                <a:off x="5797440" y="39686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50   9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22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485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53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6294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7245360" y="5029200"/>
              <a:ext cx="1206360" cy="304920"/>
              <a:chOff x="7245360" y="5029200"/>
              <a:chExt cx="1206360" cy="304920"/>
            </a:xfrm>
          </p:grpSpPr>
          <p:sp>
            <p:nvSpPr>
              <p:cNvPr id="458" name=""/>
              <p:cNvSpPr/>
              <p:nvPr/>
            </p:nvSpPr>
            <p:spPr>
              <a:xfrm>
                <a:off x="724536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6201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96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001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077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4197240" y="2971800"/>
              <a:ext cx="1206720" cy="304920"/>
              <a:chOff x="4197240" y="2971800"/>
              <a:chExt cx="1206720" cy="304920"/>
            </a:xfrm>
          </p:grpSpPr>
          <p:sp>
            <p:nvSpPr>
              <p:cNvPr id="464" name=""/>
              <p:cNvSpPr/>
              <p:nvPr/>
            </p:nvSpPr>
            <p:spPr>
              <a:xfrm>
                <a:off x="4197240" y="29782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720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64832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95288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292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 flipH="1">
              <a:off x="2971440" y="3276720"/>
              <a:ext cx="121932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48320" y="3276720"/>
              <a:ext cx="144756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1828800" y="4267080"/>
              <a:ext cx="83808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4080" y="4267080"/>
              <a:ext cx="15264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4419720" y="4191120"/>
              <a:ext cx="137160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019560" y="4267080"/>
              <a:ext cx="22860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29400" y="4267080"/>
              <a:ext cx="99072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1584720" y="242244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3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606680" y="2971800"/>
            <a:ext cx="6845040" cy="2362320"/>
            <a:chOff x="1606680" y="2971800"/>
            <a:chExt cx="6845040" cy="2362320"/>
          </a:xfrm>
        </p:grpSpPr>
        <p:grpSp>
          <p:nvGrpSpPr>
            <p:cNvPr id="479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480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486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  49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673360" y="3962520"/>
              <a:ext cx="1206360" cy="304560"/>
              <a:chOff x="2673360" y="3962520"/>
              <a:chExt cx="1206360" cy="304560"/>
            </a:xfrm>
          </p:grpSpPr>
          <p:sp>
            <p:nvSpPr>
              <p:cNvPr id="492" name=""/>
              <p:cNvSpPr/>
              <p:nvPr/>
            </p:nvSpPr>
            <p:spPr>
              <a:xfrm>
                <a:off x="2673360" y="39686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0481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24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4290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053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498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7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504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0 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5797440" y="3962520"/>
              <a:ext cx="1206720" cy="304560"/>
              <a:chOff x="5797440" y="3962520"/>
              <a:chExt cx="1206720" cy="304560"/>
            </a:xfrm>
          </p:grpSpPr>
          <p:sp>
            <p:nvSpPr>
              <p:cNvPr id="510" name=""/>
              <p:cNvSpPr/>
              <p:nvPr/>
            </p:nvSpPr>
            <p:spPr>
              <a:xfrm>
                <a:off x="5797440" y="39686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50   9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1722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485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553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6294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7245360" y="5029200"/>
              <a:ext cx="1206360" cy="304920"/>
              <a:chOff x="7245360" y="5029200"/>
              <a:chExt cx="1206360" cy="304920"/>
            </a:xfrm>
          </p:grpSpPr>
          <p:sp>
            <p:nvSpPr>
              <p:cNvPr id="516" name=""/>
              <p:cNvSpPr/>
              <p:nvPr/>
            </p:nvSpPr>
            <p:spPr>
              <a:xfrm>
                <a:off x="724536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201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696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001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077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4197240" y="2971800"/>
              <a:ext cx="1206720" cy="304920"/>
              <a:chOff x="4197240" y="2971800"/>
              <a:chExt cx="1206720" cy="304920"/>
            </a:xfrm>
          </p:grpSpPr>
          <p:sp>
            <p:nvSpPr>
              <p:cNvPr id="522" name=""/>
              <p:cNvSpPr/>
              <p:nvPr/>
            </p:nvSpPr>
            <p:spPr>
              <a:xfrm>
                <a:off x="4197240" y="29782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720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4832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95288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0292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 flipH="1">
              <a:off x="2971440" y="3276720"/>
              <a:ext cx="121932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48320" y="3276720"/>
              <a:ext cx="144756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1828800" y="4267080"/>
              <a:ext cx="83808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124080" y="4267080"/>
              <a:ext cx="15264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4419720" y="4191120"/>
              <a:ext cx="137160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6019560" y="4267080"/>
              <a:ext cx="22860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29400" y="4267080"/>
              <a:ext cx="99072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584720" y="242244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9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1606680" y="2971800"/>
            <a:ext cx="6845040" cy="2362320"/>
            <a:chOff x="1606680" y="2971800"/>
            <a:chExt cx="6845040" cy="2362320"/>
          </a:xfrm>
        </p:grpSpPr>
        <p:grpSp>
          <p:nvGrpSpPr>
            <p:cNvPr id="537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538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544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  49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673360" y="3962520"/>
              <a:ext cx="1206360" cy="304560"/>
              <a:chOff x="2673360" y="3962520"/>
              <a:chExt cx="1206360" cy="304560"/>
            </a:xfrm>
          </p:grpSpPr>
          <p:sp>
            <p:nvSpPr>
              <p:cNvPr id="550" name=""/>
              <p:cNvSpPr/>
              <p:nvPr/>
            </p:nvSpPr>
            <p:spPr>
              <a:xfrm>
                <a:off x="2673360" y="39686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0481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124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4290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053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556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562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0 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797440" y="3962520"/>
              <a:ext cx="1206720" cy="304560"/>
              <a:chOff x="5797440" y="3962520"/>
              <a:chExt cx="1206720" cy="304560"/>
            </a:xfrm>
          </p:grpSpPr>
          <p:sp>
            <p:nvSpPr>
              <p:cNvPr id="568" name=""/>
              <p:cNvSpPr/>
              <p:nvPr/>
            </p:nvSpPr>
            <p:spPr>
              <a:xfrm>
                <a:off x="5797440" y="39686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50   7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722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2485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553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6294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7245360" y="5029200"/>
              <a:ext cx="1206360" cy="304920"/>
              <a:chOff x="7245360" y="5029200"/>
              <a:chExt cx="1206360" cy="304920"/>
            </a:xfrm>
          </p:grpSpPr>
          <p:sp>
            <p:nvSpPr>
              <p:cNvPr id="574" name=""/>
              <p:cNvSpPr/>
              <p:nvPr/>
            </p:nvSpPr>
            <p:spPr>
              <a:xfrm>
                <a:off x="724536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6201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96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001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77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4197240" y="2971800"/>
              <a:ext cx="1206720" cy="304920"/>
              <a:chOff x="4197240" y="2971800"/>
              <a:chExt cx="1206720" cy="304920"/>
            </a:xfrm>
          </p:grpSpPr>
          <p:sp>
            <p:nvSpPr>
              <p:cNvPr id="580" name=""/>
              <p:cNvSpPr/>
              <p:nvPr/>
            </p:nvSpPr>
            <p:spPr>
              <a:xfrm>
                <a:off x="4197240" y="29782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5720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4832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95288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0292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 flipH="1">
              <a:off x="2971440" y="3276720"/>
              <a:ext cx="121932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48320" y="3276720"/>
              <a:ext cx="144756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1828800" y="4267080"/>
              <a:ext cx="83808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124080" y="4267080"/>
              <a:ext cx="15264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4419720" y="4191120"/>
              <a:ext cx="137160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6019560" y="4267080"/>
              <a:ext cx="22860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29400" y="4267080"/>
              <a:ext cx="99072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584000" y="242244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 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606680" y="2971800"/>
            <a:ext cx="6845040" cy="2362320"/>
            <a:chOff x="1606680" y="2971800"/>
            <a:chExt cx="6845040" cy="2362320"/>
          </a:xfrm>
        </p:grpSpPr>
        <p:grpSp>
          <p:nvGrpSpPr>
            <p:cNvPr id="595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596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  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2673360" y="3962520"/>
              <a:ext cx="1206360" cy="304560"/>
              <a:chOff x="2673360" y="3962520"/>
              <a:chExt cx="1206360" cy="304560"/>
            </a:xfrm>
          </p:grpSpPr>
          <p:sp>
            <p:nvSpPr>
              <p:cNvPr id="608" name=""/>
              <p:cNvSpPr/>
              <p:nvPr/>
            </p:nvSpPr>
            <p:spPr>
              <a:xfrm>
                <a:off x="2673360" y="39686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0481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124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4290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5053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614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620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0 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797440" y="3962520"/>
              <a:ext cx="1206720" cy="304560"/>
              <a:chOff x="5797440" y="3962520"/>
              <a:chExt cx="1206720" cy="304560"/>
            </a:xfrm>
          </p:grpSpPr>
          <p:sp>
            <p:nvSpPr>
              <p:cNvPr id="626" name=""/>
              <p:cNvSpPr/>
              <p:nvPr/>
            </p:nvSpPr>
            <p:spPr>
              <a:xfrm>
                <a:off x="5797440" y="39686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9   7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1722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2485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53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6294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7245360" y="5029200"/>
              <a:ext cx="1206360" cy="304920"/>
              <a:chOff x="7245360" y="5029200"/>
              <a:chExt cx="1206360" cy="304920"/>
            </a:xfrm>
          </p:grpSpPr>
          <p:sp>
            <p:nvSpPr>
              <p:cNvPr id="632" name=""/>
              <p:cNvSpPr/>
              <p:nvPr/>
            </p:nvSpPr>
            <p:spPr>
              <a:xfrm>
                <a:off x="724536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6201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696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8001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077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4197240" y="2971800"/>
              <a:ext cx="1206720" cy="304920"/>
              <a:chOff x="4197240" y="2971800"/>
              <a:chExt cx="1206720" cy="304920"/>
            </a:xfrm>
          </p:grpSpPr>
          <p:sp>
            <p:nvSpPr>
              <p:cNvPr id="638" name=""/>
              <p:cNvSpPr/>
              <p:nvPr/>
            </p:nvSpPr>
            <p:spPr>
              <a:xfrm>
                <a:off x="4197240" y="29782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720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832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95288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0292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 flipH="1">
              <a:off x="2971440" y="3276720"/>
              <a:ext cx="121932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648320" y="3276720"/>
              <a:ext cx="144756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1828800" y="4267080"/>
              <a:ext cx="83808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124080" y="4267080"/>
              <a:ext cx="15264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419720" y="4191120"/>
              <a:ext cx="137160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019560" y="4267080"/>
              <a:ext cx="22860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629400" y="4267080"/>
              <a:ext cx="99072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84000" y="242244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25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1606680" y="2971800"/>
            <a:ext cx="6845040" cy="2362320"/>
            <a:chOff x="1606680" y="2971800"/>
            <a:chExt cx="6845040" cy="2362320"/>
          </a:xfrm>
        </p:grpSpPr>
        <p:grpSp>
          <p:nvGrpSpPr>
            <p:cNvPr id="653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654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673360" y="3962520"/>
              <a:ext cx="1206360" cy="304560"/>
              <a:chOff x="2673360" y="3962520"/>
              <a:chExt cx="1206360" cy="304560"/>
            </a:xfrm>
          </p:grpSpPr>
          <p:sp>
            <p:nvSpPr>
              <p:cNvPr id="660" name=""/>
              <p:cNvSpPr/>
              <p:nvPr/>
            </p:nvSpPr>
            <p:spPr>
              <a:xfrm>
                <a:off x="2673360" y="39686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481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124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4290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5053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666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672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0   35 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5797440" y="3962520"/>
              <a:ext cx="1206720" cy="304560"/>
              <a:chOff x="5797440" y="3962520"/>
              <a:chExt cx="1206720" cy="304560"/>
            </a:xfrm>
          </p:grpSpPr>
          <p:sp>
            <p:nvSpPr>
              <p:cNvPr id="678" name=""/>
              <p:cNvSpPr/>
              <p:nvPr/>
            </p:nvSpPr>
            <p:spPr>
              <a:xfrm>
                <a:off x="5797440" y="39686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7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1722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485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553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6294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7245360" y="5029200"/>
              <a:ext cx="1206360" cy="304920"/>
              <a:chOff x="7245360" y="5029200"/>
              <a:chExt cx="1206360" cy="304920"/>
            </a:xfrm>
          </p:grpSpPr>
          <p:sp>
            <p:nvSpPr>
              <p:cNvPr id="684" name=""/>
              <p:cNvSpPr/>
              <p:nvPr/>
            </p:nvSpPr>
            <p:spPr>
              <a:xfrm>
                <a:off x="724536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6201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696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001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077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4197240" y="2971800"/>
              <a:ext cx="1206720" cy="304920"/>
              <a:chOff x="4197240" y="2971800"/>
              <a:chExt cx="1206720" cy="304920"/>
            </a:xfrm>
          </p:grpSpPr>
          <p:sp>
            <p:nvSpPr>
              <p:cNvPr id="690" name=""/>
              <p:cNvSpPr/>
              <p:nvPr/>
            </p:nvSpPr>
            <p:spPr>
              <a:xfrm>
                <a:off x="4197240" y="29782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9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5720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4832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5288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292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 flipH="1">
              <a:off x="2971440" y="3276720"/>
              <a:ext cx="121932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648320" y="3276720"/>
              <a:ext cx="144756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1828800" y="4267080"/>
              <a:ext cx="83808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124080" y="4267080"/>
              <a:ext cx="15264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019560" y="4267080"/>
              <a:ext cx="22860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629400" y="4267080"/>
              <a:ext cx="99072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584360" y="242244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00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1606680" y="2971800"/>
            <a:ext cx="6845040" cy="2362320"/>
            <a:chOff x="1606680" y="2971800"/>
            <a:chExt cx="6845040" cy="2362320"/>
          </a:xfrm>
        </p:grpSpPr>
        <p:grpSp>
          <p:nvGrpSpPr>
            <p:cNvPr id="704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705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2673360" y="3962520"/>
              <a:ext cx="1206360" cy="304560"/>
              <a:chOff x="2673360" y="3962520"/>
              <a:chExt cx="1206360" cy="304560"/>
            </a:xfrm>
          </p:grpSpPr>
          <p:sp>
            <p:nvSpPr>
              <p:cNvPr id="711" name=""/>
              <p:cNvSpPr/>
              <p:nvPr/>
            </p:nvSpPr>
            <p:spPr>
              <a:xfrm>
                <a:off x="2673360" y="39686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0481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124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4290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5053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717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723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0   35 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5797440" y="3962520"/>
              <a:ext cx="1206720" cy="304560"/>
              <a:chOff x="5797440" y="3962520"/>
              <a:chExt cx="1206720" cy="304560"/>
            </a:xfrm>
          </p:grpSpPr>
          <p:sp>
            <p:nvSpPr>
              <p:cNvPr id="729" name=""/>
              <p:cNvSpPr/>
              <p:nvPr/>
            </p:nvSpPr>
            <p:spPr>
              <a:xfrm>
                <a:off x="5797440" y="39686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7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1722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24852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5308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629400" y="39625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7245360" y="5029200"/>
              <a:ext cx="1206360" cy="304920"/>
              <a:chOff x="7245360" y="5029200"/>
              <a:chExt cx="1206360" cy="304920"/>
            </a:xfrm>
          </p:grpSpPr>
          <p:sp>
            <p:nvSpPr>
              <p:cNvPr id="735" name=""/>
              <p:cNvSpPr/>
              <p:nvPr/>
            </p:nvSpPr>
            <p:spPr>
              <a:xfrm>
                <a:off x="724536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6201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696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8001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8077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4197240" y="2971800"/>
              <a:ext cx="1206720" cy="304920"/>
              <a:chOff x="4197240" y="2971800"/>
              <a:chExt cx="1206720" cy="304920"/>
            </a:xfrm>
          </p:grpSpPr>
          <p:sp>
            <p:nvSpPr>
              <p:cNvPr id="741" name=""/>
              <p:cNvSpPr/>
              <p:nvPr/>
            </p:nvSpPr>
            <p:spPr>
              <a:xfrm>
                <a:off x="4197240" y="29782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9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5720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64832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95288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029200" y="29718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46" name=""/>
            <p:cNvSpPr/>
            <p:nvPr/>
          </p:nvSpPr>
          <p:spPr>
            <a:xfrm flipH="1">
              <a:off x="2971440" y="3276720"/>
              <a:ext cx="121932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48320" y="3276720"/>
              <a:ext cx="1447560" cy="6094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1828800" y="4267080"/>
              <a:ext cx="83808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24080" y="4267080"/>
              <a:ext cx="15264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019560" y="4267080"/>
              <a:ext cx="22860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29400" y="4267080"/>
              <a:ext cx="990720" cy="68580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1584360" y="242244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50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2978280" y="3886200"/>
            <a:ext cx="4025880" cy="1447920"/>
            <a:chOff x="2978280" y="3886200"/>
            <a:chExt cx="4025880" cy="1447920"/>
          </a:xfrm>
        </p:grpSpPr>
        <p:grpSp>
          <p:nvGrpSpPr>
            <p:cNvPr id="755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756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5   4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762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3968640" y="3886200"/>
              <a:ext cx="1206720" cy="304920"/>
              <a:chOff x="3968640" y="3886200"/>
              <a:chExt cx="1206720" cy="304920"/>
            </a:xfrm>
          </p:grpSpPr>
          <p:sp>
            <p:nvSpPr>
              <p:cNvPr id="768" name=""/>
              <p:cNvSpPr/>
              <p:nvPr/>
            </p:nvSpPr>
            <p:spPr>
              <a:xfrm>
                <a:off x="3968640" y="3892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  49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41972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2428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8006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73" name=""/>
            <p:cNvSpPr/>
            <p:nvPr/>
          </p:nvSpPr>
          <p:spPr>
            <a:xfrm flipH="1">
              <a:off x="3200040" y="4191120"/>
              <a:ext cx="762120" cy="8380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00600" y="4191120"/>
              <a:ext cx="1143000" cy="7617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776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7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781" name=""/>
            <p:cNvSpPr/>
            <p:nvPr/>
          </p:nvSpPr>
          <p:spPr>
            <a:xfrm>
              <a:off x="4495680" y="4191120"/>
              <a:ext cx="0" cy="838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782" name=""/>
          <p:cNvSpPr/>
          <p:nvPr/>
        </p:nvSpPr>
        <p:spPr>
          <a:xfrm>
            <a:off x="1584360" y="242244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7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4c2b"/>
                </a:solidFill>
                <a:latin typeface="Arial Rounded MT Bold"/>
              </a:rPr>
              <a:t>B-Tree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5120" y="38098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2978280" y="3886200"/>
            <a:ext cx="4025880" cy="1447920"/>
            <a:chOff x="2978280" y="3886200"/>
            <a:chExt cx="4025880" cy="1447920"/>
          </a:xfrm>
        </p:grpSpPr>
        <p:grpSp>
          <p:nvGrpSpPr>
            <p:cNvPr id="785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786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5   4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792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3968640" y="3886200"/>
              <a:ext cx="1206720" cy="304920"/>
              <a:chOff x="3968640" y="3886200"/>
              <a:chExt cx="1206720" cy="304920"/>
            </a:xfrm>
          </p:grpSpPr>
          <p:sp>
            <p:nvSpPr>
              <p:cNvPr id="798" name=""/>
              <p:cNvSpPr/>
              <p:nvPr/>
            </p:nvSpPr>
            <p:spPr>
              <a:xfrm>
                <a:off x="3968640" y="3892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  49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41972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72428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8006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03" name=""/>
            <p:cNvSpPr/>
            <p:nvPr/>
          </p:nvSpPr>
          <p:spPr>
            <a:xfrm flipH="1">
              <a:off x="3200040" y="4191120"/>
              <a:ext cx="762120" cy="8380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800600" y="4191120"/>
              <a:ext cx="1143000" cy="7617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806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4495680" y="4191120"/>
              <a:ext cx="0" cy="838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584360" y="242244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6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978280" y="3886200"/>
            <a:ext cx="2577960" cy="1447920"/>
            <a:chOff x="2978280" y="3886200"/>
            <a:chExt cx="2577960" cy="1447920"/>
          </a:xfrm>
        </p:grpSpPr>
        <p:grpSp>
          <p:nvGrpSpPr>
            <p:cNvPr id="815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816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5   3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822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 49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3968640" y="3886200"/>
              <a:ext cx="1206720" cy="304920"/>
              <a:chOff x="3968640" y="3886200"/>
              <a:chExt cx="1206720" cy="304920"/>
            </a:xfrm>
          </p:grpSpPr>
          <p:sp>
            <p:nvSpPr>
              <p:cNvPr id="828" name=""/>
              <p:cNvSpPr/>
              <p:nvPr/>
            </p:nvSpPr>
            <p:spPr>
              <a:xfrm>
                <a:off x="3968640" y="3892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41972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72428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8006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33" name=""/>
            <p:cNvSpPr/>
            <p:nvPr/>
          </p:nvSpPr>
          <p:spPr>
            <a:xfrm flipH="1">
              <a:off x="3200040" y="4191120"/>
              <a:ext cx="762120" cy="8380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495680" y="4191120"/>
              <a:ext cx="0" cy="838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35" name=""/>
          <p:cNvSpPr/>
          <p:nvPr/>
        </p:nvSpPr>
        <p:spPr>
          <a:xfrm>
            <a:off x="1584360" y="242244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4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978280" y="3886200"/>
            <a:ext cx="2577960" cy="1447920"/>
            <a:chOff x="2978280" y="3886200"/>
            <a:chExt cx="2577960" cy="1447920"/>
          </a:xfrm>
        </p:grpSpPr>
        <p:grpSp>
          <p:nvGrpSpPr>
            <p:cNvPr id="838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839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25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845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5   49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3968640" y="3886200"/>
              <a:ext cx="1206720" cy="304920"/>
              <a:chOff x="3968640" y="3886200"/>
              <a:chExt cx="1206720" cy="304920"/>
            </a:xfrm>
          </p:grpSpPr>
          <p:sp>
            <p:nvSpPr>
              <p:cNvPr id="851" name=""/>
              <p:cNvSpPr/>
              <p:nvPr/>
            </p:nvSpPr>
            <p:spPr>
              <a:xfrm>
                <a:off x="3968640" y="3892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441972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472428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006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 flipH="1">
              <a:off x="3200040" y="4191120"/>
              <a:ext cx="762120" cy="8380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95680" y="4191120"/>
              <a:ext cx="0" cy="838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1584000" y="2422440"/>
            <a:ext cx="1946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49  4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4349880" y="5029200"/>
            <a:ext cx="1206360" cy="304920"/>
            <a:chOff x="4349880" y="5029200"/>
            <a:chExt cx="1206360" cy="304920"/>
          </a:xfrm>
        </p:grpSpPr>
        <p:sp>
          <p:nvSpPr>
            <p:cNvPr id="861" name=""/>
            <p:cNvSpPr/>
            <p:nvPr/>
          </p:nvSpPr>
          <p:spPr>
            <a:xfrm>
              <a:off x="4349880" y="5035680"/>
              <a:ext cx="1206360" cy="29196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  <a:ea typeface="돋움"/>
                </a:rPr>
                <a:t>25   35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724280" y="50292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00600" y="50292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105520" y="50292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181480" y="50292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004c2b"/>
                </a:solidFill>
                <a:latin typeface="Arial Rounded MT Bold"/>
              </a:rPr>
              <a:t>B*-Tree</a:t>
            </a:r>
            <a:endParaRPr b="0" lang="en-US" sz="7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1905120" y="38098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37016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371600" y="361800"/>
            <a:ext cx="77724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353600" y="196524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 m =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741760" y="5715000"/>
            <a:ext cx="124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root node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054320" y="573876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30640" y="573876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435560" y="573876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11520" y="573876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816440" y="573876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892760" y="573876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197320" y="573876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5273640" y="573876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78560" y="573876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432080" y="249876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3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038480" y="5334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37016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Arial"/>
                <a:ea typeface="돋움"/>
              </a:rPr>
              <a:t>Example of Insert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371600" y="361800"/>
            <a:ext cx="77724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62520" y="5715000"/>
            <a:ext cx="15872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돋움"/>
              </a:rPr>
              <a:t>3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336920" y="570852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13240" y="570852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718160" y="570852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794120" y="570852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099040" y="570852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175360" y="570852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032360" y="570852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5479920" y="570852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279080" y="20415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1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956040" y="532764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371600" y="361800"/>
            <a:ext cx="77724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968640" y="5721480"/>
            <a:ext cx="15876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돋움"/>
              </a:rPr>
              <a:t>10   3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34340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41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72428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80060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18148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03848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48640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43208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584360" y="1889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9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724280" y="5334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968640" y="5721480"/>
            <a:ext cx="15876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돋움"/>
              </a:rPr>
              <a:t>10   30   9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34340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1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72428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80060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18148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03848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48640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43208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584360" y="1889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72000" y="525780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968640" y="5721480"/>
            <a:ext cx="15876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  <a:ea typeface="돋움"/>
              </a:rPr>
              <a:t>10   30   50  9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34340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1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72428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80060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518148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03848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8640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43208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584360" y="1889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2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098960" y="5310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2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718080" y="386244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 2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30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50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016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53600" y="196524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 m =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31000" y="2498760"/>
            <a:ext cx="2372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10  30  9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497320" y="5157720"/>
            <a:ext cx="2449440" cy="748080"/>
            <a:chOff x="2497320" y="5157720"/>
            <a:chExt cx="2449440" cy="748080"/>
          </a:xfrm>
        </p:grpSpPr>
        <p:sp>
          <p:nvSpPr>
            <p:cNvPr id="98" name=""/>
            <p:cNvSpPr/>
            <p:nvPr/>
          </p:nvSpPr>
          <p:spPr>
            <a:xfrm>
              <a:off x="2497320" y="5538960"/>
              <a:ext cx="1241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  <a:ea typeface="돋움"/>
                </a:rPr>
                <a:t>root node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5120" y="5157720"/>
              <a:ext cx="1136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  <a:ea typeface="돋움"/>
                </a:rPr>
                <a:t> </a:t>
              </a:r>
              <a:r>
                <a:rPr b="1" lang="en-US" sz="1800" spc="-1" strike="noStrike">
                  <a:solidFill>
                    <a:srgbClr val="0000cc"/>
                  </a:solidFill>
                  <a:latin typeface="Arial"/>
                  <a:ea typeface="돋움"/>
                </a:rPr>
                <a:t>10 30 9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740040" y="5562720"/>
              <a:ext cx="1206720" cy="304560"/>
              <a:chOff x="3740040" y="5562720"/>
              <a:chExt cx="1206720" cy="304560"/>
            </a:xfrm>
          </p:grpSpPr>
          <p:sp>
            <p:nvSpPr>
              <p:cNvPr id="101" name=""/>
              <p:cNvSpPr/>
              <p:nvPr/>
            </p:nvSpPr>
            <p:spPr>
              <a:xfrm>
                <a:off x="3740040" y="55688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11480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9112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9568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7200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"/>
          <p:cNvSpPr/>
          <p:nvPr/>
        </p:nvSpPr>
        <p:spPr>
          <a:xfrm>
            <a:off x="1371600" y="361800"/>
            <a:ext cx="77724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18080" y="3862440"/>
            <a:ext cx="196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 2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30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50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584000" y="188928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1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8322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50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045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489480" y="44719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56520" y="531036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322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50  90  1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045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584000" y="188928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1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65800" y="431964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480200" y="531036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2576520" y="3938760"/>
            <a:ext cx="304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  20  3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5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 90  100 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   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8322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90  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584360" y="18892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2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565440" y="43959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2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575080" y="53863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2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65440" y="350532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2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5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30 5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9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565440" y="350532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2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5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30 5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9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5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4956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8322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  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34024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7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264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340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419720" y="5105520"/>
            <a:ext cx="1600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489480" y="43959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708440" y="5310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5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956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8322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  50 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534024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264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340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19720" y="5105520"/>
            <a:ext cx="1600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6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565440" y="43959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6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403880" y="5310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6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178880" y="4243320"/>
            <a:ext cx="25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30 50 6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7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90 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5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8322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  50   6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34024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90  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264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340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419720" y="5105520"/>
            <a:ext cx="1600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4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565440" y="44719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03880" y="5310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439720" y="3962520"/>
            <a:ext cx="23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20 25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40 50 6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  2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8322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0  50   6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34024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90  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264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340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419720" y="5105520"/>
            <a:ext cx="1600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49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489480" y="44719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9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403880" y="53863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9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59040" y="4014720"/>
            <a:ext cx="29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40 49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5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60 7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9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66"/>
                </a:solidFill>
                <a:latin typeface="Arial"/>
                <a:ea typeface="돋움"/>
              </a:rPr>
              <a:t>30  50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  2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8322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0  49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34024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60 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264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340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559040" y="4014720"/>
            <a:ext cx="291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40 49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5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60 7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9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10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4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489480" y="44719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03880" y="53863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01676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0 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7559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7940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8474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7102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800600" y="5181480"/>
            <a:ext cx="2743200" cy="3812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419720" y="5181480"/>
            <a:ext cx="152388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66"/>
                </a:solidFill>
                <a:latin typeface="Arial"/>
                <a:ea typeface="돋움"/>
              </a:rPr>
              <a:t>30  50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  2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8322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0  45   49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34024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60 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264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340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3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489480" y="44719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403880" y="53863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01676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0 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59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940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474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102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800600" y="5181480"/>
            <a:ext cx="2743200" cy="3812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59040" y="4243320"/>
            <a:ext cx="240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35 40 45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9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50 60 70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419720" y="5181480"/>
            <a:ext cx="152388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  49 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24606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  2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911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8322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5   40   4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664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902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H="1">
            <a:off x="3047760" y="5105520"/>
            <a:ext cx="53316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62520" y="5105520"/>
            <a:ext cx="457200" cy="53316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34024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50   60 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264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40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4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489480" y="44719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4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03880" y="53863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4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016760" y="5721480"/>
            <a:ext cx="15112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0 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559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7940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474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1024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4800600" y="5181480"/>
            <a:ext cx="2743200" cy="3812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419720" y="5181480"/>
            <a:ext cx="152388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497480" y="4191120"/>
            <a:ext cx="265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35 4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45 49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5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60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740040" y="5562720"/>
            <a:ext cx="1206720" cy="304560"/>
            <a:chOff x="3740040" y="5562720"/>
            <a:chExt cx="1206720" cy="304560"/>
          </a:xfrm>
        </p:grpSpPr>
        <p:sp>
          <p:nvSpPr>
            <p:cNvPr id="109" name=""/>
            <p:cNvSpPr/>
            <p:nvPr/>
          </p:nvSpPr>
          <p:spPr>
            <a:xfrm>
              <a:off x="3740040" y="5568840"/>
              <a:ext cx="1206720" cy="292320"/>
            </a:xfrm>
            <a:prstGeom prst="rect">
              <a:avLst/>
            </a:prstGeom>
            <a:solidFill>
              <a:srgbClr val="3399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Arial"/>
                  <a:ea typeface="돋움"/>
                </a:rPr>
                <a:t> </a:t>
              </a:r>
              <a:r>
                <a:rPr b="0" lang="en-US" sz="1600" spc="-1" strike="noStrike">
                  <a:solidFill>
                    <a:srgbClr val="333333"/>
                  </a:solidFill>
                  <a:latin typeface="Arial"/>
                  <a:ea typeface="돋움"/>
                </a:rPr>
                <a:t>10   30   90 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14800" y="55627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91120" y="55627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95680" y="55627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72000" y="55627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278720" y="204156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94040" y="50817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0160" y="209520"/>
            <a:ext cx="7772400" cy="10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361800"/>
            <a:ext cx="77724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  44  50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003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  2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378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3750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5   40 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825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444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33096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60 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873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254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331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559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4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77888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0 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8245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8854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99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8645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95936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5   49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502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959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045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H="1">
            <a:off x="2743200" y="5181480"/>
            <a:ext cx="83808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3962160" y="5181480"/>
            <a:ext cx="7596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343400" y="5181480"/>
            <a:ext cx="129528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800600" y="5181480"/>
            <a:ext cx="2133720" cy="457200"/>
          </a:xfrm>
          <a:prstGeom prst="line">
            <a:avLst/>
          </a:prstGeom>
          <a:ln w="12600">
            <a:solidFill>
              <a:srgbClr val="333333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181480" y="5181480"/>
            <a:ext cx="320040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489480" y="43959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098960" y="5310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587760" y="4883040"/>
            <a:ext cx="158760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0  44  50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9625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0384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43434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441972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72428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800600" y="4876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65760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105520" y="4876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003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  2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378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750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35   40   4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825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444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33096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60 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873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254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331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59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77888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0 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8245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854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99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8645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95936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5   49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502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59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045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 flipH="1">
            <a:off x="2743200" y="5181480"/>
            <a:ext cx="83808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3962160" y="5181480"/>
            <a:ext cx="7596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343400" y="5181480"/>
            <a:ext cx="129528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800600" y="5181480"/>
            <a:ext cx="213372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181480" y="5181480"/>
            <a:ext cx="320040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489480" y="43959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346480" y="5310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890720" y="3862440"/>
            <a:ext cx="265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15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25 30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35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40 4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587760" y="4807080"/>
            <a:ext cx="15876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?   44  50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3962520" y="48006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038480" y="48006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343400" y="48006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724280" y="48006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800600" y="48006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105520" y="48006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003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5  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378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3750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0   4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825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444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33096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60 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873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7254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7331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559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77888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0 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245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854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899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78645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95936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5   49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502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959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045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2743200" y="5181480"/>
            <a:ext cx="83808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>
            <a:off x="3962160" y="5181480"/>
            <a:ext cx="7596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343400" y="5181480"/>
            <a:ext cx="129528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800600" y="5181480"/>
            <a:ext cx="213372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181480" y="5181480"/>
            <a:ext cx="3200400" cy="457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890720" y="3862440"/>
            <a:ext cx="2657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15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25 30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35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40 4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318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006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1082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387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463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1844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701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880000" y="4776840"/>
            <a:ext cx="75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20 3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395320" y="4167360"/>
            <a:ext cx="170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33"/>
                </a:solidFill>
                <a:latin typeface="Arial"/>
                <a:ea typeface="돋움"/>
              </a:rPr>
              <a:t>20 35 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  <a:ea typeface="돋움"/>
              </a:rPr>
              <a:t>44 </a:t>
            </a:r>
            <a:r>
              <a:rPr b="1" lang="ko-KR" sz="1800" spc="-1" strike="noStrike">
                <a:solidFill>
                  <a:srgbClr val="333333"/>
                </a:solidFill>
                <a:latin typeface="Arial"/>
                <a:ea typeface="돋움"/>
              </a:rPr>
              <a:t>50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828800" y="3505320"/>
            <a:ext cx="2819520" cy="106668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181480" y="3962520"/>
            <a:ext cx="2286000" cy="83808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1488" name=""/>
          <p:cNvCxnSpPr>
            <a:stCxn id="1486" idx="6"/>
            <a:endCxn id="1487" idx="2"/>
          </p:cNvCxnSpPr>
          <p:nvPr/>
        </p:nvCxnSpPr>
        <p:spPr>
          <a:xfrm>
            <a:off x="4647960" y="4038120"/>
            <a:ext cx="533880" cy="343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333333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003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5  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378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835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3216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3375000" y="5721480"/>
            <a:ext cx="141912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66"/>
                </a:solidFill>
                <a:latin typeface="Arial"/>
                <a:ea typeface="돋움"/>
              </a:rPr>
              <a:t>40   4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825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282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740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444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33096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60   7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97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873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7254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331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559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77888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0 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8245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854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99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8645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959360" y="5721480"/>
            <a:ext cx="128268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45   49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502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883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959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0450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395320" y="4167360"/>
            <a:ext cx="170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33"/>
                </a:solidFill>
                <a:latin typeface="Arial"/>
                <a:ea typeface="돋움"/>
              </a:rPr>
              <a:t>20 35 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  <a:ea typeface="돋움"/>
              </a:rPr>
              <a:t>44 </a:t>
            </a:r>
            <a:r>
              <a:rPr b="1" lang="ko-KR" sz="1800" spc="-1" strike="noStrike">
                <a:solidFill>
                  <a:srgbClr val="333333"/>
                </a:solidFill>
                <a:latin typeface="Arial"/>
                <a:ea typeface="돋움"/>
              </a:rPr>
              <a:t>50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318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10  20  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1006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082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387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1463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844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01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66"/>
                </a:solidFill>
                <a:latin typeface="Arial"/>
                <a:ea typeface="돋움"/>
              </a:rPr>
              <a:t>50 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66"/>
                </a:solidFill>
                <a:latin typeface="Arial"/>
                <a:ea typeface="돋움"/>
              </a:rPr>
              <a:t>20   3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1295280" y="4952880"/>
            <a:ext cx="10670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666880" y="4952880"/>
            <a:ext cx="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00400" y="4952880"/>
            <a:ext cx="838080" cy="7621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267080" y="4952880"/>
            <a:ext cx="13716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648320" y="4952880"/>
            <a:ext cx="23619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5105520" y="4952880"/>
            <a:ext cx="32004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479520" y="3733920"/>
            <a:ext cx="8582040" cy="2286000"/>
            <a:chOff x="479520" y="3733920"/>
            <a:chExt cx="8582040" cy="2286000"/>
          </a:xfrm>
        </p:grpSpPr>
        <p:sp>
          <p:nvSpPr>
            <p:cNvPr id="1568" name=""/>
            <p:cNvSpPr/>
            <p:nvPr/>
          </p:nvSpPr>
          <p:spPr>
            <a:xfrm>
              <a:off x="3435480" y="3740040"/>
              <a:ext cx="1587240" cy="29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44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809880" y="37339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86200" y="37339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191120" y="37339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267080" y="37339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572000" y="37339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648320" y="37339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952880" y="3733920"/>
              <a:ext cx="0" cy="30456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79520" y="5721480"/>
              <a:ext cx="1114200" cy="291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10   15    17  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539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302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2351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3111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5397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49360" y="5715000"/>
              <a:ext cx="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213080" y="4654440"/>
              <a:ext cx="1419480" cy="29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 </a:t>
              </a: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50   90      200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58784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66416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04504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12136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57856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282920" y="4648320"/>
              <a:ext cx="0" cy="30456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08320" y="4654440"/>
              <a:ext cx="1419120" cy="29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20   35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68272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75904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13992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1624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3673440" y="4648320"/>
              <a:ext cx="0" cy="3045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378160" y="4648320"/>
              <a:ext cx="0" cy="30456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505320" y="3733920"/>
              <a:ext cx="0" cy="30456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>
              <a:off x="2971800" y="4038480"/>
              <a:ext cx="457200" cy="5335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86200" y="4038480"/>
              <a:ext cx="990720" cy="5335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698480" y="5721480"/>
              <a:ext cx="1114560" cy="291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25    30   34 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0732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1495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541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5304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7590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768320" y="5715000"/>
              <a:ext cx="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917800" y="5721480"/>
              <a:ext cx="1114560" cy="291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40    41   43 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925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685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6734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497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9783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987640" y="5715000"/>
              <a:ext cx="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137120" y="5721480"/>
              <a:ext cx="1114200" cy="291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45    49 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5115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5878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8927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9687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51973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206960" y="5715000"/>
              <a:ext cx="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356080" y="5721480"/>
              <a:ext cx="1114560" cy="291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60     70   80  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7308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8071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1117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1880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4166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425920" y="5715000"/>
              <a:ext cx="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575400" y="5721480"/>
              <a:ext cx="1266840" cy="291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100  150  180  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9501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0261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073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7882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645240" y="5715000"/>
              <a:ext cx="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947000" y="5721480"/>
              <a:ext cx="1114560" cy="291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66"/>
                  </a:solidFill>
                  <a:latin typeface="Arial"/>
                  <a:ea typeface="돋움"/>
                </a:rPr>
                <a:t>260  300  400   </a:t>
              </a:r>
              <a:endParaRPr b="0" lang="en-US" sz="1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83217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39772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70264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7789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007560" y="5715000"/>
              <a:ext cx="0" cy="3049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8016840" y="5715000"/>
              <a:ext cx="0" cy="30492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1066320" y="4952880"/>
              <a:ext cx="1295640" cy="6858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>
              <a:off x="2286000" y="4952880"/>
              <a:ext cx="457200" cy="6858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200400" y="4952880"/>
              <a:ext cx="304920" cy="6858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267080" y="4952880"/>
              <a:ext cx="381240" cy="6858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648320" y="4952880"/>
              <a:ext cx="1295280" cy="6858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05520" y="4952880"/>
              <a:ext cx="2133360" cy="6858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638680" y="4952880"/>
              <a:ext cx="2819520" cy="60984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49" name=""/>
          <p:cNvSpPr/>
          <p:nvPr/>
        </p:nvSpPr>
        <p:spPr>
          <a:xfrm>
            <a:off x="1584360" y="242244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3337200" y="325296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937400" y="42433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8518680" y="523404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17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      2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35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30   34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0    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0  150  1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8518680" y="523404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4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584720" y="242244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3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3336840" y="32529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346480" y="4167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17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      2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30   34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0    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0  150  1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346480" y="4167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1584720" y="242244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3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625760" y="5587920"/>
            <a:ext cx="1244520" cy="635040"/>
          </a:xfrm>
          <a:prstGeom prst="ellipse">
            <a:avLst/>
          </a:prstGeom>
          <a:noFill/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2844720" y="5587920"/>
            <a:ext cx="1244520" cy="635040"/>
          </a:xfrm>
          <a:prstGeom prst="ellipse">
            <a:avLst/>
          </a:prstGeom>
          <a:noFill/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17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      20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30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0  150  1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346480" y="4167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5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1584360" y="242244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200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489480" y="340524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2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4937400" y="42433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2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17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30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0  150  1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584360" y="2422440"/>
            <a:ext cx="1692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200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937400" y="42433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2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7872480" y="5587920"/>
            <a:ext cx="1244520" cy="635040"/>
          </a:xfrm>
          <a:prstGeom prst="ellipse">
            <a:avLst/>
          </a:prstGeom>
          <a:noFill/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6578640" y="5511960"/>
            <a:ext cx="1244520" cy="634680"/>
          </a:xfrm>
          <a:prstGeom prst="ellipse">
            <a:avLst/>
          </a:prstGeom>
          <a:noFill/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17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      1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30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0  15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4937400" y="42433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2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584000" y="242244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7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489480" y="340524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7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2346480" y="41673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7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203480" y="523404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7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361800"/>
            <a:ext cx="77724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3208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901960" y="4419720"/>
            <a:ext cx="3187800" cy="1447560"/>
            <a:chOff x="2901960" y="4419720"/>
            <a:chExt cx="3187800" cy="1447560"/>
          </a:xfrm>
        </p:grpSpPr>
        <p:grpSp>
          <p:nvGrpSpPr>
            <p:cNvPr id="122" name=""/>
            <p:cNvGrpSpPr/>
            <p:nvPr/>
          </p:nvGrpSpPr>
          <p:grpSpPr>
            <a:xfrm>
              <a:off x="2901960" y="5562720"/>
              <a:ext cx="1206360" cy="304560"/>
              <a:chOff x="2901960" y="5562720"/>
              <a:chExt cx="1206360" cy="304560"/>
            </a:xfrm>
          </p:grpSpPr>
          <p:sp>
            <p:nvSpPr>
              <p:cNvPr id="123" name=""/>
              <p:cNvSpPr/>
              <p:nvPr/>
            </p:nvSpPr>
            <p:spPr>
              <a:xfrm>
                <a:off x="2901960" y="55688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27672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35268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65760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73392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4883040" y="5562720"/>
              <a:ext cx="1206720" cy="304560"/>
              <a:chOff x="4883040" y="5562720"/>
              <a:chExt cx="1206720" cy="304560"/>
            </a:xfrm>
          </p:grpSpPr>
          <p:sp>
            <p:nvSpPr>
              <p:cNvPr id="129" name=""/>
              <p:cNvSpPr/>
              <p:nvPr/>
            </p:nvSpPr>
            <p:spPr>
              <a:xfrm>
                <a:off x="4883040" y="55688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50  9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5780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33412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3868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500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892680" y="4419720"/>
              <a:ext cx="1206360" cy="304560"/>
              <a:chOff x="3892680" y="4419720"/>
              <a:chExt cx="1206360" cy="304560"/>
            </a:xfrm>
          </p:grpSpPr>
          <p:sp>
            <p:nvSpPr>
              <p:cNvPr id="135" name=""/>
              <p:cNvSpPr/>
              <p:nvPr/>
            </p:nvSpPr>
            <p:spPr>
              <a:xfrm>
                <a:off x="3892680" y="44258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267080" y="4419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43400" y="4419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648320" y="4419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24280" y="4419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3123720" y="4724280"/>
              <a:ext cx="762120" cy="83844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3400" y="4724280"/>
              <a:ext cx="1143000" cy="762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584360" y="1889280"/>
            <a:ext cx="2032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20  1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      1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30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0  15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203480" y="523404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7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584000" y="242244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30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3489480" y="340524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346480" y="411480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41560" y="5334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      1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0  15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041560" y="53341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1584720" y="2422440"/>
            <a:ext cx="160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489480" y="340524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899240" y="415908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6537600" y="53863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      1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5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537600" y="53863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1584720" y="2422440"/>
            <a:ext cx="160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5100480" y="4548240"/>
            <a:ext cx="3980160" cy="1874880"/>
          </a:xfrm>
          <a:custGeom>
            <a:avLst/>
            <a:gdLst/>
            <a:ahLst/>
            <a:rect l="l" t="t" r="r" b="b"/>
            <a:pathLst>
              <a:path w="2507" h="1181">
                <a:moveTo>
                  <a:pt x="1011" y="1119"/>
                </a:moveTo>
                <a:lnTo>
                  <a:pt x="1010" y="1066"/>
                </a:lnTo>
                <a:lnTo>
                  <a:pt x="1001" y="1028"/>
                </a:lnTo>
                <a:lnTo>
                  <a:pt x="982" y="952"/>
                </a:lnTo>
                <a:lnTo>
                  <a:pt x="972" y="923"/>
                </a:lnTo>
                <a:lnTo>
                  <a:pt x="972" y="885"/>
                </a:lnTo>
                <a:lnTo>
                  <a:pt x="943" y="866"/>
                </a:lnTo>
                <a:lnTo>
                  <a:pt x="915" y="847"/>
                </a:lnTo>
                <a:lnTo>
                  <a:pt x="886" y="828"/>
                </a:lnTo>
                <a:lnTo>
                  <a:pt x="858" y="790"/>
                </a:lnTo>
                <a:lnTo>
                  <a:pt x="848" y="761"/>
                </a:lnTo>
                <a:lnTo>
                  <a:pt x="839" y="733"/>
                </a:lnTo>
                <a:lnTo>
                  <a:pt x="762" y="695"/>
                </a:lnTo>
                <a:lnTo>
                  <a:pt x="724" y="657"/>
                </a:lnTo>
                <a:lnTo>
                  <a:pt x="696" y="638"/>
                </a:lnTo>
                <a:lnTo>
                  <a:pt x="677" y="609"/>
                </a:lnTo>
                <a:lnTo>
                  <a:pt x="648" y="600"/>
                </a:lnTo>
                <a:lnTo>
                  <a:pt x="629" y="571"/>
                </a:lnTo>
                <a:lnTo>
                  <a:pt x="601" y="561"/>
                </a:lnTo>
                <a:lnTo>
                  <a:pt x="581" y="542"/>
                </a:lnTo>
                <a:lnTo>
                  <a:pt x="553" y="523"/>
                </a:lnTo>
                <a:lnTo>
                  <a:pt x="524" y="504"/>
                </a:lnTo>
                <a:lnTo>
                  <a:pt x="496" y="485"/>
                </a:lnTo>
                <a:lnTo>
                  <a:pt x="467" y="466"/>
                </a:lnTo>
                <a:lnTo>
                  <a:pt x="439" y="447"/>
                </a:lnTo>
                <a:lnTo>
                  <a:pt x="410" y="438"/>
                </a:lnTo>
                <a:lnTo>
                  <a:pt x="372" y="428"/>
                </a:lnTo>
                <a:lnTo>
                  <a:pt x="343" y="409"/>
                </a:lnTo>
                <a:lnTo>
                  <a:pt x="315" y="400"/>
                </a:lnTo>
                <a:lnTo>
                  <a:pt x="286" y="381"/>
                </a:lnTo>
                <a:lnTo>
                  <a:pt x="258" y="362"/>
                </a:lnTo>
                <a:lnTo>
                  <a:pt x="229" y="342"/>
                </a:lnTo>
                <a:lnTo>
                  <a:pt x="200" y="323"/>
                </a:lnTo>
                <a:lnTo>
                  <a:pt x="172" y="314"/>
                </a:lnTo>
                <a:lnTo>
                  <a:pt x="143" y="295"/>
                </a:lnTo>
                <a:lnTo>
                  <a:pt x="115" y="276"/>
                </a:lnTo>
                <a:lnTo>
                  <a:pt x="77" y="257"/>
                </a:lnTo>
                <a:lnTo>
                  <a:pt x="48" y="238"/>
                </a:lnTo>
                <a:lnTo>
                  <a:pt x="19" y="219"/>
                </a:lnTo>
                <a:lnTo>
                  <a:pt x="0" y="190"/>
                </a:lnTo>
                <a:lnTo>
                  <a:pt x="0" y="162"/>
                </a:lnTo>
                <a:lnTo>
                  <a:pt x="0" y="142"/>
                </a:lnTo>
                <a:lnTo>
                  <a:pt x="0" y="104"/>
                </a:lnTo>
                <a:lnTo>
                  <a:pt x="10" y="76"/>
                </a:lnTo>
                <a:lnTo>
                  <a:pt x="39" y="38"/>
                </a:lnTo>
                <a:lnTo>
                  <a:pt x="96" y="19"/>
                </a:lnTo>
                <a:lnTo>
                  <a:pt x="134" y="9"/>
                </a:lnTo>
                <a:lnTo>
                  <a:pt x="162" y="0"/>
                </a:lnTo>
                <a:lnTo>
                  <a:pt x="200" y="0"/>
                </a:lnTo>
                <a:lnTo>
                  <a:pt x="258" y="0"/>
                </a:lnTo>
                <a:lnTo>
                  <a:pt x="334" y="0"/>
                </a:lnTo>
                <a:lnTo>
                  <a:pt x="429" y="9"/>
                </a:lnTo>
                <a:lnTo>
                  <a:pt x="505" y="19"/>
                </a:lnTo>
                <a:lnTo>
                  <a:pt x="562" y="19"/>
                </a:lnTo>
                <a:lnTo>
                  <a:pt x="601" y="28"/>
                </a:lnTo>
                <a:lnTo>
                  <a:pt x="658" y="38"/>
                </a:lnTo>
                <a:lnTo>
                  <a:pt x="734" y="47"/>
                </a:lnTo>
                <a:lnTo>
                  <a:pt x="810" y="57"/>
                </a:lnTo>
                <a:lnTo>
                  <a:pt x="905" y="76"/>
                </a:lnTo>
                <a:lnTo>
                  <a:pt x="963" y="85"/>
                </a:lnTo>
                <a:lnTo>
                  <a:pt x="1039" y="104"/>
                </a:lnTo>
                <a:lnTo>
                  <a:pt x="1153" y="114"/>
                </a:lnTo>
                <a:lnTo>
                  <a:pt x="1229" y="133"/>
                </a:lnTo>
                <a:lnTo>
                  <a:pt x="1286" y="133"/>
                </a:lnTo>
                <a:lnTo>
                  <a:pt x="1363" y="142"/>
                </a:lnTo>
                <a:lnTo>
                  <a:pt x="1420" y="152"/>
                </a:lnTo>
                <a:lnTo>
                  <a:pt x="1477" y="152"/>
                </a:lnTo>
                <a:lnTo>
                  <a:pt x="1553" y="171"/>
                </a:lnTo>
                <a:lnTo>
                  <a:pt x="1610" y="181"/>
                </a:lnTo>
                <a:lnTo>
                  <a:pt x="1667" y="190"/>
                </a:lnTo>
                <a:lnTo>
                  <a:pt x="1725" y="200"/>
                </a:lnTo>
                <a:lnTo>
                  <a:pt x="1782" y="209"/>
                </a:lnTo>
                <a:lnTo>
                  <a:pt x="1810" y="209"/>
                </a:lnTo>
                <a:lnTo>
                  <a:pt x="1848" y="228"/>
                </a:lnTo>
                <a:lnTo>
                  <a:pt x="1877" y="247"/>
                </a:lnTo>
                <a:lnTo>
                  <a:pt x="1953" y="266"/>
                </a:lnTo>
                <a:lnTo>
                  <a:pt x="2029" y="285"/>
                </a:lnTo>
                <a:lnTo>
                  <a:pt x="2058" y="304"/>
                </a:lnTo>
                <a:lnTo>
                  <a:pt x="2087" y="314"/>
                </a:lnTo>
                <a:lnTo>
                  <a:pt x="2115" y="323"/>
                </a:lnTo>
                <a:lnTo>
                  <a:pt x="2144" y="342"/>
                </a:lnTo>
                <a:lnTo>
                  <a:pt x="2182" y="362"/>
                </a:lnTo>
                <a:lnTo>
                  <a:pt x="2210" y="381"/>
                </a:lnTo>
                <a:lnTo>
                  <a:pt x="2239" y="400"/>
                </a:lnTo>
                <a:lnTo>
                  <a:pt x="2268" y="419"/>
                </a:lnTo>
                <a:lnTo>
                  <a:pt x="2296" y="438"/>
                </a:lnTo>
                <a:lnTo>
                  <a:pt x="2325" y="466"/>
                </a:lnTo>
                <a:lnTo>
                  <a:pt x="2334" y="495"/>
                </a:lnTo>
                <a:lnTo>
                  <a:pt x="2363" y="514"/>
                </a:lnTo>
                <a:lnTo>
                  <a:pt x="2391" y="552"/>
                </a:lnTo>
                <a:lnTo>
                  <a:pt x="2420" y="581"/>
                </a:lnTo>
                <a:lnTo>
                  <a:pt x="2449" y="600"/>
                </a:lnTo>
                <a:lnTo>
                  <a:pt x="2458" y="628"/>
                </a:lnTo>
                <a:lnTo>
                  <a:pt x="2468" y="657"/>
                </a:lnTo>
                <a:lnTo>
                  <a:pt x="2477" y="685"/>
                </a:lnTo>
                <a:lnTo>
                  <a:pt x="2496" y="723"/>
                </a:lnTo>
                <a:lnTo>
                  <a:pt x="2506" y="752"/>
                </a:lnTo>
                <a:lnTo>
                  <a:pt x="2506" y="780"/>
                </a:lnTo>
                <a:lnTo>
                  <a:pt x="2506" y="800"/>
                </a:lnTo>
                <a:lnTo>
                  <a:pt x="2506" y="838"/>
                </a:lnTo>
                <a:lnTo>
                  <a:pt x="2506" y="876"/>
                </a:lnTo>
                <a:lnTo>
                  <a:pt x="2506" y="914"/>
                </a:lnTo>
                <a:lnTo>
                  <a:pt x="2506" y="952"/>
                </a:lnTo>
                <a:lnTo>
                  <a:pt x="2487" y="990"/>
                </a:lnTo>
                <a:lnTo>
                  <a:pt x="2468" y="1019"/>
                </a:lnTo>
                <a:lnTo>
                  <a:pt x="2439" y="1047"/>
                </a:lnTo>
                <a:lnTo>
                  <a:pt x="2410" y="1076"/>
                </a:lnTo>
                <a:lnTo>
                  <a:pt x="2372" y="1095"/>
                </a:lnTo>
                <a:lnTo>
                  <a:pt x="2296" y="1104"/>
                </a:lnTo>
                <a:lnTo>
                  <a:pt x="2239" y="1123"/>
                </a:lnTo>
                <a:lnTo>
                  <a:pt x="2210" y="1142"/>
                </a:lnTo>
                <a:lnTo>
                  <a:pt x="2172" y="1161"/>
                </a:lnTo>
                <a:lnTo>
                  <a:pt x="2115" y="1161"/>
                </a:lnTo>
                <a:lnTo>
                  <a:pt x="2039" y="1161"/>
                </a:lnTo>
                <a:lnTo>
                  <a:pt x="1963" y="1171"/>
                </a:lnTo>
                <a:lnTo>
                  <a:pt x="1906" y="1180"/>
                </a:lnTo>
                <a:lnTo>
                  <a:pt x="1829" y="1180"/>
                </a:lnTo>
                <a:lnTo>
                  <a:pt x="1772" y="1180"/>
                </a:lnTo>
                <a:lnTo>
                  <a:pt x="1715" y="1180"/>
                </a:lnTo>
                <a:lnTo>
                  <a:pt x="1658" y="1180"/>
                </a:lnTo>
                <a:lnTo>
                  <a:pt x="1601" y="1180"/>
                </a:lnTo>
                <a:lnTo>
                  <a:pt x="1525" y="1180"/>
                </a:lnTo>
                <a:lnTo>
                  <a:pt x="1467" y="1180"/>
                </a:lnTo>
                <a:lnTo>
                  <a:pt x="1439" y="1180"/>
                </a:lnTo>
                <a:lnTo>
                  <a:pt x="1401" y="1180"/>
                </a:lnTo>
                <a:lnTo>
                  <a:pt x="1372" y="1180"/>
                </a:lnTo>
                <a:lnTo>
                  <a:pt x="1344" y="1180"/>
                </a:lnTo>
                <a:lnTo>
                  <a:pt x="1315" y="1180"/>
                </a:lnTo>
                <a:lnTo>
                  <a:pt x="1277" y="1171"/>
                </a:lnTo>
                <a:lnTo>
                  <a:pt x="1248" y="1152"/>
                </a:lnTo>
                <a:lnTo>
                  <a:pt x="1210" y="1133"/>
                </a:lnTo>
                <a:lnTo>
                  <a:pt x="1182" y="1123"/>
                </a:lnTo>
                <a:lnTo>
                  <a:pt x="1153" y="1114"/>
                </a:lnTo>
                <a:lnTo>
                  <a:pt x="1124" y="1095"/>
                </a:lnTo>
                <a:lnTo>
                  <a:pt x="1096" y="1085"/>
                </a:lnTo>
                <a:lnTo>
                  <a:pt x="1067" y="1085"/>
                </a:lnTo>
                <a:lnTo>
                  <a:pt x="1011" y="1119"/>
                </a:lnTo>
                <a:lnTo>
                  <a:pt x="1011" y="1119"/>
                </a:lnTo>
              </a:path>
            </a:pathLst>
          </a:custGeom>
          <a:noFill/>
          <a:ln cap="rnd" w="507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311160" y="4167360"/>
            <a:ext cx="189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50 18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6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3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572000" y="4653000"/>
            <a:ext cx="3343320" cy="1749240"/>
          </a:xfrm>
          <a:custGeom>
            <a:avLst/>
            <a:gdLst/>
            <a:ahLst/>
            <a:rect l="l" t="t" r="r" b="b"/>
            <a:pathLst>
              <a:path w="2106" h="1102">
                <a:moveTo>
                  <a:pt x="401" y="993"/>
                </a:moveTo>
                <a:lnTo>
                  <a:pt x="426" y="903"/>
                </a:lnTo>
                <a:lnTo>
                  <a:pt x="426" y="828"/>
                </a:lnTo>
                <a:lnTo>
                  <a:pt x="426" y="790"/>
                </a:lnTo>
                <a:lnTo>
                  <a:pt x="426" y="762"/>
                </a:lnTo>
                <a:lnTo>
                  <a:pt x="426" y="725"/>
                </a:lnTo>
                <a:lnTo>
                  <a:pt x="426" y="705"/>
                </a:lnTo>
                <a:lnTo>
                  <a:pt x="417" y="677"/>
                </a:lnTo>
                <a:lnTo>
                  <a:pt x="398" y="602"/>
                </a:lnTo>
                <a:lnTo>
                  <a:pt x="368" y="574"/>
                </a:lnTo>
                <a:lnTo>
                  <a:pt x="359" y="546"/>
                </a:lnTo>
                <a:lnTo>
                  <a:pt x="340" y="517"/>
                </a:lnTo>
                <a:lnTo>
                  <a:pt x="319" y="489"/>
                </a:lnTo>
                <a:lnTo>
                  <a:pt x="300" y="461"/>
                </a:lnTo>
                <a:lnTo>
                  <a:pt x="271" y="432"/>
                </a:lnTo>
                <a:lnTo>
                  <a:pt x="242" y="414"/>
                </a:lnTo>
                <a:lnTo>
                  <a:pt x="203" y="395"/>
                </a:lnTo>
                <a:lnTo>
                  <a:pt x="175" y="376"/>
                </a:lnTo>
                <a:lnTo>
                  <a:pt x="145" y="348"/>
                </a:lnTo>
                <a:lnTo>
                  <a:pt x="126" y="320"/>
                </a:lnTo>
                <a:lnTo>
                  <a:pt x="116" y="292"/>
                </a:lnTo>
                <a:lnTo>
                  <a:pt x="106" y="272"/>
                </a:lnTo>
                <a:lnTo>
                  <a:pt x="77" y="245"/>
                </a:lnTo>
                <a:lnTo>
                  <a:pt x="48" y="207"/>
                </a:lnTo>
                <a:lnTo>
                  <a:pt x="19" y="169"/>
                </a:lnTo>
                <a:lnTo>
                  <a:pt x="10" y="141"/>
                </a:lnTo>
                <a:lnTo>
                  <a:pt x="0" y="113"/>
                </a:lnTo>
                <a:lnTo>
                  <a:pt x="0" y="75"/>
                </a:lnTo>
                <a:lnTo>
                  <a:pt x="0" y="47"/>
                </a:lnTo>
                <a:lnTo>
                  <a:pt x="0" y="18"/>
                </a:lnTo>
                <a:lnTo>
                  <a:pt x="29" y="0"/>
                </a:lnTo>
                <a:lnTo>
                  <a:pt x="58" y="0"/>
                </a:lnTo>
                <a:lnTo>
                  <a:pt x="126" y="0"/>
                </a:lnTo>
                <a:lnTo>
                  <a:pt x="184" y="0"/>
                </a:lnTo>
                <a:lnTo>
                  <a:pt x="213" y="0"/>
                </a:lnTo>
                <a:lnTo>
                  <a:pt x="233" y="28"/>
                </a:lnTo>
                <a:lnTo>
                  <a:pt x="261" y="47"/>
                </a:lnTo>
                <a:lnTo>
                  <a:pt x="281" y="84"/>
                </a:lnTo>
                <a:lnTo>
                  <a:pt x="300" y="113"/>
                </a:lnTo>
                <a:lnTo>
                  <a:pt x="319" y="141"/>
                </a:lnTo>
                <a:lnTo>
                  <a:pt x="340" y="160"/>
                </a:lnTo>
                <a:lnTo>
                  <a:pt x="368" y="197"/>
                </a:lnTo>
                <a:lnTo>
                  <a:pt x="398" y="216"/>
                </a:lnTo>
                <a:lnTo>
                  <a:pt x="436" y="254"/>
                </a:lnTo>
                <a:lnTo>
                  <a:pt x="475" y="292"/>
                </a:lnTo>
                <a:lnTo>
                  <a:pt x="504" y="330"/>
                </a:lnTo>
                <a:lnTo>
                  <a:pt x="524" y="338"/>
                </a:lnTo>
                <a:lnTo>
                  <a:pt x="552" y="357"/>
                </a:lnTo>
                <a:lnTo>
                  <a:pt x="611" y="367"/>
                </a:lnTo>
                <a:lnTo>
                  <a:pt x="640" y="386"/>
                </a:lnTo>
                <a:lnTo>
                  <a:pt x="669" y="395"/>
                </a:lnTo>
                <a:lnTo>
                  <a:pt x="698" y="405"/>
                </a:lnTo>
                <a:lnTo>
                  <a:pt x="728" y="405"/>
                </a:lnTo>
                <a:lnTo>
                  <a:pt x="786" y="405"/>
                </a:lnTo>
                <a:lnTo>
                  <a:pt x="863" y="405"/>
                </a:lnTo>
                <a:lnTo>
                  <a:pt x="902" y="405"/>
                </a:lnTo>
                <a:lnTo>
                  <a:pt x="960" y="405"/>
                </a:lnTo>
                <a:lnTo>
                  <a:pt x="1018" y="414"/>
                </a:lnTo>
                <a:lnTo>
                  <a:pt x="1076" y="414"/>
                </a:lnTo>
                <a:lnTo>
                  <a:pt x="1135" y="414"/>
                </a:lnTo>
                <a:lnTo>
                  <a:pt x="1174" y="423"/>
                </a:lnTo>
                <a:lnTo>
                  <a:pt x="1202" y="423"/>
                </a:lnTo>
                <a:lnTo>
                  <a:pt x="1241" y="423"/>
                </a:lnTo>
                <a:lnTo>
                  <a:pt x="1339" y="442"/>
                </a:lnTo>
                <a:lnTo>
                  <a:pt x="1416" y="451"/>
                </a:lnTo>
                <a:lnTo>
                  <a:pt x="1493" y="461"/>
                </a:lnTo>
                <a:lnTo>
                  <a:pt x="1532" y="461"/>
                </a:lnTo>
                <a:lnTo>
                  <a:pt x="1571" y="470"/>
                </a:lnTo>
                <a:lnTo>
                  <a:pt x="1610" y="480"/>
                </a:lnTo>
                <a:lnTo>
                  <a:pt x="1649" y="499"/>
                </a:lnTo>
                <a:lnTo>
                  <a:pt x="1727" y="517"/>
                </a:lnTo>
                <a:lnTo>
                  <a:pt x="1785" y="527"/>
                </a:lnTo>
                <a:lnTo>
                  <a:pt x="1813" y="546"/>
                </a:lnTo>
                <a:lnTo>
                  <a:pt x="1843" y="565"/>
                </a:lnTo>
                <a:lnTo>
                  <a:pt x="1872" y="574"/>
                </a:lnTo>
                <a:lnTo>
                  <a:pt x="1901" y="584"/>
                </a:lnTo>
                <a:lnTo>
                  <a:pt x="1940" y="592"/>
                </a:lnTo>
                <a:lnTo>
                  <a:pt x="1978" y="621"/>
                </a:lnTo>
                <a:lnTo>
                  <a:pt x="2008" y="640"/>
                </a:lnTo>
                <a:lnTo>
                  <a:pt x="2037" y="668"/>
                </a:lnTo>
                <a:lnTo>
                  <a:pt x="2057" y="696"/>
                </a:lnTo>
                <a:lnTo>
                  <a:pt x="2085" y="734"/>
                </a:lnTo>
                <a:lnTo>
                  <a:pt x="2095" y="771"/>
                </a:lnTo>
                <a:lnTo>
                  <a:pt x="2105" y="800"/>
                </a:lnTo>
                <a:lnTo>
                  <a:pt x="2105" y="875"/>
                </a:lnTo>
                <a:lnTo>
                  <a:pt x="2105" y="913"/>
                </a:lnTo>
                <a:lnTo>
                  <a:pt x="2105" y="950"/>
                </a:lnTo>
                <a:lnTo>
                  <a:pt x="2076" y="988"/>
                </a:lnTo>
                <a:lnTo>
                  <a:pt x="1998" y="1007"/>
                </a:lnTo>
                <a:lnTo>
                  <a:pt x="1940" y="1025"/>
                </a:lnTo>
                <a:lnTo>
                  <a:pt x="1881" y="1035"/>
                </a:lnTo>
                <a:lnTo>
                  <a:pt x="1823" y="1044"/>
                </a:lnTo>
                <a:lnTo>
                  <a:pt x="1765" y="1054"/>
                </a:lnTo>
                <a:lnTo>
                  <a:pt x="1688" y="1063"/>
                </a:lnTo>
                <a:lnTo>
                  <a:pt x="1629" y="1073"/>
                </a:lnTo>
                <a:lnTo>
                  <a:pt x="1552" y="1082"/>
                </a:lnTo>
                <a:lnTo>
                  <a:pt x="1513" y="1101"/>
                </a:lnTo>
                <a:lnTo>
                  <a:pt x="1474" y="1101"/>
                </a:lnTo>
                <a:lnTo>
                  <a:pt x="1397" y="1101"/>
                </a:lnTo>
                <a:lnTo>
                  <a:pt x="1339" y="1101"/>
                </a:lnTo>
                <a:lnTo>
                  <a:pt x="1281" y="1101"/>
                </a:lnTo>
                <a:lnTo>
                  <a:pt x="1260" y="1101"/>
                </a:lnTo>
                <a:lnTo>
                  <a:pt x="1183" y="1101"/>
                </a:lnTo>
                <a:lnTo>
                  <a:pt x="1125" y="1101"/>
                </a:lnTo>
                <a:lnTo>
                  <a:pt x="1086" y="1101"/>
                </a:lnTo>
                <a:lnTo>
                  <a:pt x="1057" y="1101"/>
                </a:lnTo>
                <a:lnTo>
                  <a:pt x="960" y="1092"/>
                </a:lnTo>
                <a:lnTo>
                  <a:pt x="921" y="1092"/>
                </a:lnTo>
                <a:lnTo>
                  <a:pt x="882" y="1092"/>
                </a:lnTo>
                <a:lnTo>
                  <a:pt x="844" y="1092"/>
                </a:lnTo>
                <a:lnTo>
                  <a:pt x="805" y="1092"/>
                </a:lnTo>
                <a:lnTo>
                  <a:pt x="737" y="1092"/>
                </a:lnTo>
                <a:lnTo>
                  <a:pt x="698" y="1082"/>
                </a:lnTo>
                <a:lnTo>
                  <a:pt x="640" y="1082"/>
                </a:lnTo>
                <a:lnTo>
                  <a:pt x="611" y="1073"/>
                </a:lnTo>
                <a:lnTo>
                  <a:pt x="582" y="1063"/>
                </a:lnTo>
                <a:lnTo>
                  <a:pt x="552" y="1054"/>
                </a:lnTo>
                <a:lnTo>
                  <a:pt x="524" y="1044"/>
                </a:lnTo>
                <a:lnTo>
                  <a:pt x="504" y="1035"/>
                </a:lnTo>
                <a:lnTo>
                  <a:pt x="475" y="1016"/>
                </a:lnTo>
                <a:lnTo>
                  <a:pt x="446" y="1007"/>
                </a:lnTo>
                <a:lnTo>
                  <a:pt x="401" y="993"/>
                </a:lnTo>
                <a:lnTo>
                  <a:pt x="401" y="993"/>
                </a:lnTo>
              </a:path>
            </a:pathLst>
          </a:custGeom>
          <a:noFill/>
          <a:ln cap="rnd" w="507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5472000" y="3862440"/>
            <a:ext cx="183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60 7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8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9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80      18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90   15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5472000" y="3862440"/>
            <a:ext cx="183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60 7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8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90 15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584720" y="2422440"/>
            <a:ext cx="160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8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489480" y="33289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8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5013720" y="42433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8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80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90   15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5013720" y="42433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8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584720" y="2422440"/>
            <a:ext cx="160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8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7707240" y="5575320"/>
            <a:ext cx="1422360" cy="58428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6413400" y="5575320"/>
            <a:ext cx="1422360" cy="584280"/>
          </a:xfrm>
          <a:prstGeom prst="ellipse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80      15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90 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79470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60  300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8321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8702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87789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9007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80168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638680" y="4952880"/>
            <a:ext cx="2819520" cy="60984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5013720" y="4243320"/>
            <a:ext cx="564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18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584720" y="2422440"/>
            <a:ext cx="160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18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8397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5070600" y="4518000"/>
            <a:ext cx="4070160" cy="1920960"/>
          </a:xfrm>
          <a:custGeom>
            <a:avLst/>
            <a:gdLst/>
            <a:ahLst/>
            <a:rect l="l" t="t" r="r" b="b"/>
            <a:pathLst>
              <a:path w="2564" h="1210">
                <a:moveTo>
                  <a:pt x="1270" y="1186"/>
                </a:moveTo>
                <a:lnTo>
                  <a:pt x="1229" y="1180"/>
                </a:lnTo>
                <a:lnTo>
                  <a:pt x="1229" y="1152"/>
                </a:lnTo>
                <a:lnTo>
                  <a:pt x="1210" y="1123"/>
                </a:lnTo>
                <a:lnTo>
                  <a:pt x="1182" y="1095"/>
                </a:lnTo>
                <a:lnTo>
                  <a:pt x="1143" y="1057"/>
                </a:lnTo>
                <a:lnTo>
                  <a:pt x="1086" y="1038"/>
                </a:lnTo>
                <a:lnTo>
                  <a:pt x="1048" y="1019"/>
                </a:lnTo>
                <a:lnTo>
                  <a:pt x="1010" y="999"/>
                </a:lnTo>
                <a:lnTo>
                  <a:pt x="972" y="971"/>
                </a:lnTo>
                <a:lnTo>
                  <a:pt x="953" y="942"/>
                </a:lnTo>
                <a:lnTo>
                  <a:pt x="934" y="914"/>
                </a:lnTo>
                <a:lnTo>
                  <a:pt x="915" y="885"/>
                </a:lnTo>
                <a:lnTo>
                  <a:pt x="905" y="857"/>
                </a:lnTo>
                <a:lnTo>
                  <a:pt x="896" y="819"/>
                </a:lnTo>
                <a:lnTo>
                  <a:pt x="877" y="799"/>
                </a:lnTo>
                <a:lnTo>
                  <a:pt x="858" y="761"/>
                </a:lnTo>
                <a:lnTo>
                  <a:pt x="820" y="733"/>
                </a:lnTo>
                <a:lnTo>
                  <a:pt x="791" y="714"/>
                </a:lnTo>
                <a:lnTo>
                  <a:pt x="715" y="685"/>
                </a:lnTo>
                <a:lnTo>
                  <a:pt x="677" y="666"/>
                </a:lnTo>
                <a:lnTo>
                  <a:pt x="620" y="647"/>
                </a:lnTo>
                <a:lnTo>
                  <a:pt x="600" y="647"/>
                </a:lnTo>
                <a:lnTo>
                  <a:pt x="543" y="628"/>
                </a:lnTo>
                <a:lnTo>
                  <a:pt x="515" y="609"/>
                </a:lnTo>
                <a:lnTo>
                  <a:pt x="486" y="590"/>
                </a:lnTo>
                <a:lnTo>
                  <a:pt x="410" y="552"/>
                </a:lnTo>
                <a:lnTo>
                  <a:pt x="353" y="542"/>
                </a:lnTo>
                <a:lnTo>
                  <a:pt x="277" y="514"/>
                </a:lnTo>
                <a:lnTo>
                  <a:pt x="248" y="476"/>
                </a:lnTo>
                <a:lnTo>
                  <a:pt x="219" y="457"/>
                </a:lnTo>
                <a:lnTo>
                  <a:pt x="200" y="428"/>
                </a:lnTo>
                <a:lnTo>
                  <a:pt x="143" y="419"/>
                </a:lnTo>
                <a:lnTo>
                  <a:pt x="105" y="381"/>
                </a:lnTo>
                <a:lnTo>
                  <a:pt x="86" y="361"/>
                </a:lnTo>
                <a:lnTo>
                  <a:pt x="58" y="333"/>
                </a:lnTo>
                <a:lnTo>
                  <a:pt x="38" y="314"/>
                </a:lnTo>
                <a:lnTo>
                  <a:pt x="19" y="285"/>
                </a:lnTo>
                <a:lnTo>
                  <a:pt x="10" y="257"/>
                </a:lnTo>
                <a:lnTo>
                  <a:pt x="0" y="228"/>
                </a:lnTo>
                <a:lnTo>
                  <a:pt x="0" y="200"/>
                </a:lnTo>
                <a:lnTo>
                  <a:pt x="0" y="171"/>
                </a:lnTo>
                <a:lnTo>
                  <a:pt x="0" y="95"/>
                </a:lnTo>
                <a:lnTo>
                  <a:pt x="19" y="57"/>
                </a:lnTo>
                <a:lnTo>
                  <a:pt x="48" y="28"/>
                </a:lnTo>
                <a:lnTo>
                  <a:pt x="86" y="9"/>
                </a:lnTo>
                <a:lnTo>
                  <a:pt x="115" y="0"/>
                </a:lnTo>
                <a:lnTo>
                  <a:pt x="191" y="0"/>
                </a:lnTo>
                <a:lnTo>
                  <a:pt x="229" y="0"/>
                </a:lnTo>
                <a:lnTo>
                  <a:pt x="286" y="0"/>
                </a:lnTo>
                <a:lnTo>
                  <a:pt x="343" y="0"/>
                </a:lnTo>
                <a:lnTo>
                  <a:pt x="381" y="9"/>
                </a:lnTo>
                <a:lnTo>
                  <a:pt x="496" y="38"/>
                </a:lnTo>
                <a:lnTo>
                  <a:pt x="572" y="47"/>
                </a:lnTo>
                <a:lnTo>
                  <a:pt x="629" y="57"/>
                </a:lnTo>
                <a:lnTo>
                  <a:pt x="686" y="66"/>
                </a:lnTo>
                <a:lnTo>
                  <a:pt x="743" y="85"/>
                </a:lnTo>
                <a:lnTo>
                  <a:pt x="820" y="104"/>
                </a:lnTo>
                <a:lnTo>
                  <a:pt x="915" y="123"/>
                </a:lnTo>
                <a:lnTo>
                  <a:pt x="1010" y="181"/>
                </a:lnTo>
                <a:lnTo>
                  <a:pt x="1086" y="190"/>
                </a:lnTo>
                <a:lnTo>
                  <a:pt x="1143" y="200"/>
                </a:lnTo>
                <a:lnTo>
                  <a:pt x="1220" y="219"/>
                </a:lnTo>
                <a:lnTo>
                  <a:pt x="1296" y="238"/>
                </a:lnTo>
                <a:lnTo>
                  <a:pt x="1391" y="257"/>
                </a:lnTo>
                <a:lnTo>
                  <a:pt x="1505" y="314"/>
                </a:lnTo>
                <a:lnTo>
                  <a:pt x="1601" y="333"/>
                </a:lnTo>
                <a:lnTo>
                  <a:pt x="1696" y="390"/>
                </a:lnTo>
                <a:lnTo>
                  <a:pt x="1810" y="409"/>
                </a:lnTo>
                <a:lnTo>
                  <a:pt x="1886" y="428"/>
                </a:lnTo>
                <a:lnTo>
                  <a:pt x="1944" y="447"/>
                </a:lnTo>
                <a:lnTo>
                  <a:pt x="2001" y="457"/>
                </a:lnTo>
                <a:lnTo>
                  <a:pt x="2077" y="476"/>
                </a:lnTo>
                <a:lnTo>
                  <a:pt x="2191" y="485"/>
                </a:lnTo>
                <a:lnTo>
                  <a:pt x="2287" y="504"/>
                </a:lnTo>
                <a:lnTo>
                  <a:pt x="2363" y="504"/>
                </a:lnTo>
                <a:lnTo>
                  <a:pt x="2420" y="514"/>
                </a:lnTo>
                <a:lnTo>
                  <a:pt x="2458" y="523"/>
                </a:lnTo>
                <a:lnTo>
                  <a:pt x="2487" y="542"/>
                </a:lnTo>
                <a:lnTo>
                  <a:pt x="2515" y="552"/>
                </a:lnTo>
                <a:lnTo>
                  <a:pt x="2544" y="580"/>
                </a:lnTo>
                <a:lnTo>
                  <a:pt x="2553" y="600"/>
                </a:lnTo>
                <a:lnTo>
                  <a:pt x="2553" y="638"/>
                </a:lnTo>
                <a:lnTo>
                  <a:pt x="2553" y="666"/>
                </a:lnTo>
                <a:lnTo>
                  <a:pt x="2553" y="695"/>
                </a:lnTo>
                <a:lnTo>
                  <a:pt x="2553" y="733"/>
                </a:lnTo>
                <a:lnTo>
                  <a:pt x="2563" y="771"/>
                </a:lnTo>
                <a:lnTo>
                  <a:pt x="2563" y="799"/>
                </a:lnTo>
                <a:lnTo>
                  <a:pt x="2563" y="819"/>
                </a:lnTo>
                <a:lnTo>
                  <a:pt x="2563" y="847"/>
                </a:lnTo>
                <a:lnTo>
                  <a:pt x="2563" y="885"/>
                </a:lnTo>
                <a:lnTo>
                  <a:pt x="2563" y="914"/>
                </a:lnTo>
                <a:lnTo>
                  <a:pt x="2544" y="942"/>
                </a:lnTo>
                <a:lnTo>
                  <a:pt x="2515" y="1019"/>
                </a:lnTo>
                <a:lnTo>
                  <a:pt x="2487" y="1047"/>
                </a:lnTo>
                <a:lnTo>
                  <a:pt x="2449" y="1076"/>
                </a:lnTo>
                <a:lnTo>
                  <a:pt x="2429" y="1076"/>
                </a:lnTo>
                <a:lnTo>
                  <a:pt x="2401" y="1104"/>
                </a:lnTo>
                <a:lnTo>
                  <a:pt x="2372" y="1133"/>
                </a:lnTo>
                <a:lnTo>
                  <a:pt x="2315" y="1133"/>
                </a:lnTo>
                <a:lnTo>
                  <a:pt x="2277" y="1161"/>
                </a:lnTo>
                <a:lnTo>
                  <a:pt x="2248" y="1190"/>
                </a:lnTo>
                <a:lnTo>
                  <a:pt x="2153" y="1199"/>
                </a:lnTo>
                <a:lnTo>
                  <a:pt x="2115" y="1209"/>
                </a:lnTo>
                <a:lnTo>
                  <a:pt x="2058" y="1209"/>
                </a:lnTo>
                <a:lnTo>
                  <a:pt x="2020" y="1209"/>
                </a:lnTo>
                <a:lnTo>
                  <a:pt x="1991" y="1209"/>
                </a:lnTo>
                <a:lnTo>
                  <a:pt x="1915" y="1209"/>
                </a:lnTo>
                <a:lnTo>
                  <a:pt x="1839" y="1209"/>
                </a:lnTo>
                <a:lnTo>
                  <a:pt x="1782" y="1209"/>
                </a:lnTo>
                <a:lnTo>
                  <a:pt x="1753" y="1209"/>
                </a:lnTo>
                <a:lnTo>
                  <a:pt x="1677" y="1209"/>
                </a:lnTo>
                <a:lnTo>
                  <a:pt x="1620" y="1209"/>
                </a:lnTo>
                <a:lnTo>
                  <a:pt x="1582" y="1209"/>
                </a:lnTo>
                <a:lnTo>
                  <a:pt x="1496" y="1209"/>
                </a:lnTo>
                <a:lnTo>
                  <a:pt x="1420" y="1209"/>
                </a:lnTo>
                <a:lnTo>
                  <a:pt x="1344" y="1209"/>
                </a:lnTo>
                <a:lnTo>
                  <a:pt x="1324" y="1209"/>
                </a:lnTo>
                <a:lnTo>
                  <a:pt x="1270" y="1186"/>
                </a:lnTo>
                <a:lnTo>
                  <a:pt x="1270" y="1186"/>
                </a:lnTo>
              </a:path>
            </a:pathLst>
          </a:custGeom>
          <a:noFill/>
          <a:ln cap="rnd" w="507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572000" y="4683240"/>
            <a:ext cx="3328920" cy="1947600"/>
          </a:xfrm>
          <a:custGeom>
            <a:avLst/>
            <a:gdLst/>
            <a:ahLst/>
            <a:rect l="l" t="t" r="r" b="b"/>
            <a:pathLst>
              <a:path w="2097" h="1227">
                <a:moveTo>
                  <a:pt x="736" y="1015"/>
                </a:moveTo>
                <a:lnTo>
                  <a:pt x="681" y="1038"/>
                </a:lnTo>
                <a:lnTo>
                  <a:pt x="603" y="982"/>
                </a:lnTo>
                <a:lnTo>
                  <a:pt x="584" y="926"/>
                </a:lnTo>
                <a:lnTo>
                  <a:pt x="526" y="907"/>
                </a:lnTo>
                <a:lnTo>
                  <a:pt x="496" y="898"/>
                </a:lnTo>
                <a:lnTo>
                  <a:pt x="487" y="879"/>
                </a:lnTo>
                <a:lnTo>
                  <a:pt x="457" y="851"/>
                </a:lnTo>
                <a:lnTo>
                  <a:pt x="448" y="823"/>
                </a:lnTo>
                <a:lnTo>
                  <a:pt x="438" y="758"/>
                </a:lnTo>
                <a:lnTo>
                  <a:pt x="418" y="729"/>
                </a:lnTo>
                <a:lnTo>
                  <a:pt x="418" y="702"/>
                </a:lnTo>
                <a:lnTo>
                  <a:pt x="418" y="682"/>
                </a:lnTo>
                <a:lnTo>
                  <a:pt x="409" y="655"/>
                </a:lnTo>
                <a:lnTo>
                  <a:pt x="399" y="626"/>
                </a:lnTo>
                <a:lnTo>
                  <a:pt x="379" y="599"/>
                </a:lnTo>
                <a:lnTo>
                  <a:pt x="370" y="570"/>
                </a:lnTo>
                <a:lnTo>
                  <a:pt x="351" y="533"/>
                </a:lnTo>
                <a:lnTo>
                  <a:pt x="340" y="496"/>
                </a:lnTo>
                <a:lnTo>
                  <a:pt x="321" y="458"/>
                </a:lnTo>
                <a:lnTo>
                  <a:pt x="301" y="421"/>
                </a:lnTo>
                <a:lnTo>
                  <a:pt x="263" y="392"/>
                </a:lnTo>
                <a:lnTo>
                  <a:pt x="204" y="384"/>
                </a:lnTo>
                <a:lnTo>
                  <a:pt x="125" y="346"/>
                </a:lnTo>
                <a:lnTo>
                  <a:pt x="97" y="328"/>
                </a:lnTo>
                <a:lnTo>
                  <a:pt x="67" y="290"/>
                </a:lnTo>
                <a:lnTo>
                  <a:pt x="38" y="252"/>
                </a:lnTo>
                <a:lnTo>
                  <a:pt x="19" y="224"/>
                </a:lnTo>
                <a:lnTo>
                  <a:pt x="9" y="196"/>
                </a:lnTo>
                <a:lnTo>
                  <a:pt x="0" y="168"/>
                </a:lnTo>
                <a:lnTo>
                  <a:pt x="0" y="140"/>
                </a:lnTo>
                <a:lnTo>
                  <a:pt x="0" y="112"/>
                </a:lnTo>
                <a:lnTo>
                  <a:pt x="0" y="84"/>
                </a:lnTo>
                <a:lnTo>
                  <a:pt x="0" y="55"/>
                </a:lnTo>
                <a:lnTo>
                  <a:pt x="38" y="28"/>
                </a:lnTo>
                <a:lnTo>
                  <a:pt x="67" y="18"/>
                </a:lnTo>
                <a:lnTo>
                  <a:pt x="106" y="9"/>
                </a:lnTo>
                <a:lnTo>
                  <a:pt x="136" y="0"/>
                </a:lnTo>
                <a:lnTo>
                  <a:pt x="165" y="0"/>
                </a:lnTo>
                <a:lnTo>
                  <a:pt x="194" y="0"/>
                </a:lnTo>
                <a:lnTo>
                  <a:pt x="224" y="9"/>
                </a:lnTo>
                <a:lnTo>
                  <a:pt x="301" y="18"/>
                </a:lnTo>
                <a:lnTo>
                  <a:pt x="331" y="47"/>
                </a:lnTo>
                <a:lnTo>
                  <a:pt x="360" y="65"/>
                </a:lnTo>
                <a:lnTo>
                  <a:pt x="399" y="94"/>
                </a:lnTo>
                <a:lnTo>
                  <a:pt x="438" y="121"/>
                </a:lnTo>
                <a:lnTo>
                  <a:pt x="467" y="150"/>
                </a:lnTo>
                <a:lnTo>
                  <a:pt x="496" y="168"/>
                </a:lnTo>
                <a:lnTo>
                  <a:pt x="516" y="187"/>
                </a:lnTo>
                <a:lnTo>
                  <a:pt x="555" y="206"/>
                </a:lnTo>
                <a:lnTo>
                  <a:pt x="584" y="224"/>
                </a:lnTo>
                <a:lnTo>
                  <a:pt x="614" y="243"/>
                </a:lnTo>
                <a:lnTo>
                  <a:pt x="672" y="252"/>
                </a:lnTo>
                <a:lnTo>
                  <a:pt x="730" y="262"/>
                </a:lnTo>
                <a:lnTo>
                  <a:pt x="760" y="272"/>
                </a:lnTo>
                <a:lnTo>
                  <a:pt x="789" y="280"/>
                </a:lnTo>
                <a:lnTo>
                  <a:pt x="818" y="290"/>
                </a:lnTo>
                <a:lnTo>
                  <a:pt x="847" y="299"/>
                </a:lnTo>
                <a:lnTo>
                  <a:pt x="886" y="309"/>
                </a:lnTo>
                <a:lnTo>
                  <a:pt x="906" y="318"/>
                </a:lnTo>
                <a:lnTo>
                  <a:pt x="945" y="328"/>
                </a:lnTo>
                <a:lnTo>
                  <a:pt x="1023" y="336"/>
                </a:lnTo>
                <a:lnTo>
                  <a:pt x="1062" y="336"/>
                </a:lnTo>
                <a:lnTo>
                  <a:pt x="1101" y="355"/>
                </a:lnTo>
                <a:lnTo>
                  <a:pt x="1130" y="374"/>
                </a:lnTo>
                <a:lnTo>
                  <a:pt x="1208" y="392"/>
                </a:lnTo>
                <a:lnTo>
                  <a:pt x="1267" y="392"/>
                </a:lnTo>
                <a:lnTo>
                  <a:pt x="1296" y="402"/>
                </a:lnTo>
                <a:lnTo>
                  <a:pt x="1335" y="411"/>
                </a:lnTo>
                <a:lnTo>
                  <a:pt x="1374" y="430"/>
                </a:lnTo>
                <a:lnTo>
                  <a:pt x="1432" y="440"/>
                </a:lnTo>
                <a:lnTo>
                  <a:pt x="1491" y="448"/>
                </a:lnTo>
                <a:lnTo>
                  <a:pt x="1530" y="458"/>
                </a:lnTo>
                <a:lnTo>
                  <a:pt x="1559" y="467"/>
                </a:lnTo>
                <a:lnTo>
                  <a:pt x="1588" y="477"/>
                </a:lnTo>
                <a:lnTo>
                  <a:pt x="1647" y="487"/>
                </a:lnTo>
                <a:lnTo>
                  <a:pt x="1725" y="487"/>
                </a:lnTo>
                <a:lnTo>
                  <a:pt x="1783" y="505"/>
                </a:lnTo>
                <a:lnTo>
                  <a:pt x="1842" y="505"/>
                </a:lnTo>
                <a:lnTo>
                  <a:pt x="1871" y="524"/>
                </a:lnTo>
                <a:lnTo>
                  <a:pt x="1949" y="543"/>
                </a:lnTo>
                <a:lnTo>
                  <a:pt x="1988" y="561"/>
                </a:lnTo>
                <a:lnTo>
                  <a:pt x="2017" y="580"/>
                </a:lnTo>
                <a:lnTo>
                  <a:pt x="2037" y="599"/>
                </a:lnTo>
                <a:lnTo>
                  <a:pt x="2066" y="636"/>
                </a:lnTo>
                <a:lnTo>
                  <a:pt x="2076" y="664"/>
                </a:lnTo>
                <a:lnTo>
                  <a:pt x="2085" y="702"/>
                </a:lnTo>
                <a:lnTo>
                  <a:pt x="2096" y="758"/>
                </a:lnTo>
                <a:lnTo>
                  <a:pt x="2096" y="795"/>
                </a:lnTo>
                <a:lnTo>
                  <a:pt x="2096" y="823"/>
                </a:lnTo>
                <a:lnTo>
                  <a:pt x="2096" y="851"/>
                </a:lnTo>
                <a:lnTo>
                  <a:pt x="2096" y="889"/>
                </a:lnTo>
                <a:lnTo>
                  <a:pt x="2096" y="926"/>
                </a:lnTo>
                <a:lnTo>
                  <a:pt x="2096" y="954"/>
                </a:lnTo>
                <a:lnTo>
                  <a:pt x="2096" y="1019"/>
                </a:lnTo>
                <a:lnTo>
                  <a:pt x="2085" y="1057"/>
                </a:lnTo>
                <a:lnTo>
                  <a:pt x="2066" y="1085"/>
                </a:lnTo>
                <a:lnTo>
                  <a:pt x="2037" y="1122"/>
                </a:lnTo>
                <a:lnTo>
                  <a:pt x="2017" y="1132"/>
                </a:lnTo>
                <a:lnTo>
                  <a:pt x="1988" y="1151"/>
                </a:lnTo>
                <a:lnTo>
                  <a:pt x="1958" y="1160"/>
                </a:lnTo>
                <a:lnTo>
                  <a:pt x="1900" y="1170"/>
                </a:lnTo>
                <a:lnTo>
                  <a:pt x="1842" y="1178"/>
                </a:lnTo>
                <a:lnTo>
                  <a:pt x="1764" y="1188"/>
                </a:lnTo>
                <a:lnTo>
                  <a:pt x="1695" y="1197"/>
                </a:lnTo>
                <a:lnTo>
                  <a:pt x="1618" y="1197"/>
                </a:lnTo>
                <a:lnTo>
                  <a:pt x="1559" y="1197"/>
                </a:lnTo>
                <a:lnTo>
                  <a:pt x="1491" y="1216"/>
                </a:lnTo>
                <a:lnTo>
                  <a:pt x="1413" y="1216"/>
                </a:lnTo>
                <a:lnTo>
                  <a:pt x="1355" y="1226"/>
                </a:lnTo>
                <a:lnTo>
                  <a:pt x="1267" y="1226"/>
                </a:lnTo>
                <a:lnTo>
                  <a:pt x="1189" y="1226"/>
                </a:lnTo>
                <a:lnTo>
                  <a:pt x="1111" y="1226"/>
                </a:lnTo>
                <a:lnTo>
                  <a:pt x="1052" y="1226"/>
                </a:lnTo>
                <a:lnTo>
                  <a:pt x="993" y="1226"/>
                </a:lnTo>
                <a:lnTo>
                  <a:pt x="935" y="1207"/>
                </a:lnTo>
                <a:lnTo>
                  <a:pt x="877" y="1207"/>
                </a:lnTo>
                <a:lnTo>
                  <a:pt x="818" y="1197"/>
                </a:lnTo>
                <a:lnTo>
                  <a:pt x="799" y="1170"/>
                </a:lnTo>
                <a:lnTo>
                  <a:pt x="789" y="1141"/>
                </a:lnTo>
                <a:lnTo>
                  <a:pt x="789" y="1114"/>
                </a:lnTo>
                <a:lnTo>
                  <a:pt x="789" y="1094"/>
                </a:lnTo>
                <a:lnTo>
                  <a:pt x="750" y="1114"/>
                </a:lnTo>
                <a:lnTo>
                  <a:pt x="721" y="1094"/>
                </a:lnTo>
                <a:lnTo>
                  <a:pt x="701" y="1075"/>
                </a:lnTo>
                <a:lnTo>
                  <a:pt x="736" y="1015"/>
                </a:lnTo>
                <a:lnTo>
                  <a:pt x="691" y="1038"/>
                </a:lnTo>
                <a:lnTo>
                  <a:pt x="638" y="1015"/>
                </a:lnTo>
                <a:lnTo>
                  <a:pt x="736" y="1015"/>
                </a:lnTo>
              </a:path>
            </a:pathLst>
          </a:custGeom>
          <a:noFill/>
          <a:ln cap="rnd" w="507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648320" y="4441680"/>
            <a:ext cx="4492440" cy="2268720"/>
          </a:xfrm>
          <a:custGeom>
            <a:avLst/>
            <a:gdLst/>
            <a:ahLst/>
            <a:rect l="l" t="t" r="r" b="b"/>
            <a:pathLst>
              <a:path w="2830" h="1429">
                <a:moveTo>
                  <a:pt x="576" y="1378"/>
                </a:moveTo>
                <a:lnTo>
                  <a:pt x="543" y="1324"/>
                </a:lnTo>
                <a:lnTo>
                  <a:pt x="514" y="1247"/>
                </a:lnTo>
                <a:lnTo>
                  <a:pt x="495" y="1209"/>
                </a:lnTo>
                <a:lnTo>
                  <a:pt x="476" y="1171"/>
                </a:lnTo>
                <a:lnTo>
                  <a:pt x="476" y="1133"/>
                </a:lnTo>
                <a:lnTo>
                  <a:pt x="466" y="1105"/>
                </a:lnTo>
                <a:lnTo>
                  <a:pt x="466" y="1047"/>
                </a:lnTo>
                <a:lnTo>
                  <a:pt x="457" y="1009"/>
                </a:lnTo>
                <a:lnTo>
                  <a:pt x="457" y="971"/>
                </a:lnTo>
                <a:lnTo>
                  <a:pt x="457" y="943"/>
                </a:lnTo>
                <a:lnTo>
                  <a:pt x="447" y="914"/>
                </a:lnTo>
                <a:lnTo>
                  <a:pt x="438" y="876"/>
                </a:lnTo>
                <a:lnTo>
                  <a:pt x="409" y="838"/>
                </a:lnTo>
                <a:lnTo>
                  <a:pt x="381" y="809"/>
                </a:lnTo>
                <a:lnTo>
                  <a:pt x="352" y="781"/>
                </a:lnTo>
                <a:lnTo>
                  <a:pt x="343" y="752"/>
                </a:lnTo>
                <a:lnTo>
                  <a:pt x="324" y="724"/>
                </a:lnTo>
                <a:lnTo>
                  <a:pt x="304" y="705"/>
                </a:lnTo>
                <a:lnTo>
                  <a:pt x="285" y="676"/>
                </a:lnTo>
                <a:lnTo>
                  <a:pt x="266" y="648"/>
                </a:lnTo>
                <a:lnTo>
                  <a:pt x="247" y="628"/>
                </a:lnTo>
                <a:lnTo>
                  <a:pt x="219" y="600"/>
                </a:lnTo>
                <a:lnTo>
                  <a:pt x="190" y="571"/>
                </a:lnTo>
                <a:lnTo>
                  <a:pt x="171" y="533"/>
                </a:lnTo>
                <a:lnTo>
                  <a:pt x="152" y="505"/>
                </a:lnTo>
                <a:lnTo>
                  <a:pt x="152" y="476"/>
                </a:lnTo>
                <a:lnTo>
                  <a:pt x="152" y="448"/>
                </a:lnTo>
                <a:lnTo>
                  <a:pt x="152" y="419"/>
                </a:lnTo>
                <a:lnTo>
                  <a:pt x="143" y="390"/>
                </a:lnTo>
                <a:lnTo>
                  <a:pt x="114" y="352"/>
                </a:lnTo>
                <a:lnTo>
                  <a:pt x="85" y="314"/>
                </a:lnTo>
                <a:lnTo>
                  <a:pt x="57" y="295"/>
                </a:lnTo>
                <a:lnTo>
                  <a:pt x="38" y="267"/>
                </a:lnTo>
                <a:lnTo>
                  <a:pt x="9" y="238"/>
                </a:lnTo>
                <a:lnTo>
                  <a:pt x="0" y="209"/>
                </a:lnTo>
                <a:lnTo>
                  <a:pt x="0" y="171"/>
                </a:lnTo>
                <a:lnTo>
                  <a:pt x="0" y="143"/>
                </a:lnTo>
                <a:lnTo>
                  <a:pt x="0" y="114"/>
                </a:lnTo>
                <a:lnTo>
                  <a:pt x="28" y="105"/>
                </a:lnTo>
                <a:lnTo>
                  <a:pt x="66" y="76"/>
                </a:lnTo>
                <a:lnTo>
                  <a:pt x="95" y="57"/>
                </a:lnTo>
                <a:lnTo>
                  <a:pt x="152" y="48"/>
                </a:lnTo>
                <a:lnTo>
                  <a:pt x="181" y="48"/>
                </a:lnTo>
                <a:lnTo>
                  <a:pt x="219" y="29"/>
                </a:lnTo>
                <a:lnTo>
                  <a:pt x="247" y="19"/>
                </a:lnTo>
                <a:lnTo>
                  <a:pt x="276" y="10"/>
                </a:lnTo>
                <a:lnTo>
                  <a:pt x="343" y="0"/>
                </a:lnTo>
                <a:lnTo>
                  <a:pt x="438" y="0"/>
                </a:lnTo>
                <a:lnTo>
                  <a:pt x="514" y="0"/>
                </a:lnTo>
                <a:lnTo>
                  <a:pt x="590" y="10"/>
                </a:lnTo>
                <a:lnTo>
                  <a:pt x="666" y="19"/>
                </a:lnTo>
                <a:lnTo>
                  <a:pt x="743" y="19"/>
                </a:lnTo>
                <a:lnTo>
                  <a:pt x="781" y="29"/>
                </a:lnTo>
                <a:lnTo>
                  <a:pt x="838" y="38"/>
                </a:lnTo>
                <a:lnTo>
                  <a:pt x="895" y="38"/>
                </a:lnTo>
                <a:lnTo>
                  <a:pt x="952" y="48"/>
                </a:lnTo>
                <a:lnTo>
                  <a:pt x="1067" y="57"/>
                </a:lnTo>
                <a:lnTo>
                  <a:pt x="1162" y="76"/>
                </a:lnTo>
                <a:lnTo>
                  <a:pt x="1276" y="86"/>
                </a:lnTo>
                <a:lnTo>
                  <a:pt x="1371" y="95"/>
                </a:lnTo>
                <a:lnTo>
                  <a:pt x="1448" y="114"/>
                </a:lnTo>
                <a:lnTo>
                  <a:pt x="1505" y="114"/>
                </a:lnTo>
                <a:lnTo>
                  <a:pt x="1562" y="124"/>
                </a:lnTo>
                <a:lnTo>
                  <a:pt x="1619" y="133"/>
                </a:lnTo>
                <a:lnTo>
                  <a:pt x="1695" y="152"/>
                </a:lnTo>
                <a:lnTo>
                  <a:pt x="1752" y="152"/>
                </a:lnTo>
                <a:lnTo>
                  <a:pt x="1810" y="171"/>
                </a:lnTo>
                <a:lnTo>
                  <a:pt x="1867" y="171"/>
                </a:lnTo>
                <a:lnTo>
                  <a:pt x="1943" y="200"/>
                </a:lnTo>
                <a:lnTo>
                  <a:pt x="2000" y="209"/>
                </a:lnTo>
                <a:lnTo>
                  <a:pt x="2019" y="229"/>
                </a:lnTo>
                <a:lnTo>
                  <a:pt x="2076" y="248"/>
                </a:lnTo>
                <a:lnTo>
                  <a:pt x="2143" y="276"/>
                </a:lnTo>
                <a:lnTo>
                  <a:pt x="2210" y="305"/>
                </a:lnTo>
                <a:lnTo>
                  <a:pt x="2248" y="343"/>
                </a:lnTo>
                <a:lnTo>
                  <a:pt x="2324" y="371"/>
                </a:lnTo>
                <a:lnTo>
                  <a:pt x="2381" y="381"/>
                </a:lnTo>
                <a:lnTo>
                  <a:pt x="2419" y="409"/>
                </a:lnTo>
                <a:lnTo>
                  <a:pt x="2448" y="429"/>
                </a:lnTo>
                <a:lnTo>
                  <a:pt x="2486" y="457"/>
                </a:lnTo>
                <a:lnTo>
                  <a:pt x="2524" y="476"/>
                </a:lnTo>
                <a:lnTo>
                  <a:pt x="2543" y="514"/>
                </a:lnTo>
                <a:lnTo>
                  <a:pt x="2572" y="533"/>
                </a:lnTo>
                <a:lnTo>
                  <a:pt x="2600" y="552"/>
                </a:lnTo>
                <a:lnTo>
                  <a:pt x="2638" y="571"/>
                </a:lnTo>
                <a:lnTo>
                  <a:pt x="2657" y="600"/>
                </a:lnTo>
                <a:lnTo>
                  <a:pt x="2686" y="619"/>
                </a:lnTo>
                <a:lnTo>
                  <a:pt x="2715" y="648"/>
                </a:lnTo>
                <a:lnTo>
                  <a:pt x="2743" y="667"/>
                </a:lnTo>
                <a:lnTo>
                  <a:pt x="2762" y="695"/>
                </a:lnTo>
                <a:lnTo>
                  <a:pt x="2791" y="705"/>
                </a:lnTo>
                <a:lnTo>
                  <a:pt x="2810" y="733"/>
                </a:lnTo>
                <a:lnTo>
                  <a:pt x="2819" y="762"/>
                </a:lnTo>
                <a:lnTo>
                  <a:pt x="2829" y="800"/>
                </a:lnTo>
                <a:lnTo>
                  <a:pt x="2829" y="838"/>
                </a:lnTo>
                <a:lnTo>
                  <a:pt x="2829" y="867"/>
                </a:lnTo>
                <a:lnTo>
                  <a:pt x="2829" y="895"/>
                </a:lnTo>
                <a:lnTo>
                  <a:pt x="2829" y="933"/>
                </a:lnTo>
                <a:lnTo>
                  <a:pt x="2829" y="962"/>
                </a:lnTo>
                <a:lnTo>
                  <a:pt x="2829" y="990"/>
                </a:lnTo>
                <a:lnTo>
                  <a:pt x="2829" y="1028"/>
                </a:lnTo>
                <a:lnTo>
                  <a:pt x="2819" y="1067"/>
                </a:lnTo>
                <a:lnTo>
                  <a:pt x="2810" y="1105"/>
                </a:lnTo>
                <a:lnTo>
                  <a:pt x="2800" y="1133"/>
                </a:lnTo>
                <a:lnTo>
                  <a:pt x="2772" y="1162"/>
                </a:lnTo>
                <a:lnTo>
                  <a:pt x="2715" y="1181"/>
                </a:lnTo>
                <a:lnTo>
                  <a:pt x="2695" y="1200"/>
                </a:lnTo>
                <a:lnTo>
                  <a:pt x="2638" y="1209"/>
                </a:lnTo>
                <a:lnTo>
                  <a:pt x="2600" y="1238"/>
                </a:lnTo>
                <a:lnTo>
                  <a:pt x="2572" y="1276"/>
                </a:lnTo>
                <a:lnTo>
                  <a:pt x="2543" y="1295"/>
                </a:lnTo>
                <a:lnTo>
                  <a:pt x="2514" y="1314"/>
                </a:lnTo>
                <a:lnTo>
                  <a:pt x="2476" y="1333"/>
                </a:lnTo>
                <a:lnTo>
                  <a:pt x="2448" y="1352"/>
                </a:lnTo>
                <a:lnTo>
                  <a:pt x="2410" y="1371"/>
                </a:lnTo>
                <a:lnTo>
                  <a:pt x="2353" y="1381"/>
                </a:lnTo>
                <a:lnTo>
                  <a:pt x="2295" y="1390"/>
                </a:lnTo>
                <a:lnTo>
                  <a:pt x="2257" y="1409"/>
                </a:lnTo>
                <a:lnTo>
                  <a:pt x="2219" y="1409"/>
                </a:lnTo>
                <a:lnTo>
                  <a:pt x="2162" y="1409"/>
                </a:lnTo>
                <a:lnTo>
                  <a:pt x="2105" y="1419"/>
                </a:lnTo>
                <a:lnTo>
                  <a:pt x="2067" y="1428"/>
                </a:lnTo>
                <a:lnTo>
                  <a:pt x="2029" y="1428"/>
                </a:lnTo>
                <a:lnTo>
                  <a:pt x="1971" y="1428"/>
                </a:lnTo>
                <a:lnTo>
                  <a:pt x="1933" y="1428"/>
                </a:lnTo>
                <a:lnTo>
                  <a:pt x="1857" y="1428"/>
                </a:lnTo>
                <a:lnTo>
                  <a:pt x="1781" y="1428"/>
                </a:lnTo>
                <a:lnTo>
                  <a:pt x="1743" y="1428"/>
                </a:lnTo>
                <a:lnTo>
                  <a:pt x="1667" y="1428"/>
                </a:lnTo>
                <a:lnTo>
                  <a:pt x="1590" y="1428"/>
                </a:lnTo>
                <a:lnTo>
                  <a:pt x="1514" y="1428"/>
                </a:lnTo>
                <a:lnTo>
                  <a:pt x="1457" y="1428"/>
                </a:lnTo>
                <a:lnTo>
                  <a:pt x="1381" y="1428"/>
                </a:lnTo>
                <a:lnTo>
                  <a:pt x="1324" y="1428"/>
                </a:lnTo>
                <a:lnTo>
                  <a:pt x="1286" y="1428"/>
                </a:lnTo>
                <a:lnTo>
                  <a:pt x="1209" y="1428"/>
                </a:lnTo>
                <a:lnTo>
                  <a:pt x="1171" y="1419"/>
                </a:lnTo>
                <a:lnTo>
                  <a:pt x="1143" y="1419"/>
                </a:lnTo>
                <a:lnTo>
                  <a:pt x="1076" y="1419"/>
                </a:lnTo>
                <a:lnTo>
                  <a:pt x="1019" y="1419"/>
                </a:lnTo>
                <a:lnTo>
                  <a:pt x="943" y="1409"/>
                </a:lnTo>
                <a:lnTo>
                  <a:pt x="905" y="1400"/>
                </a:lnTo>
                <a:lnTo>
                  <a:pt x="876" y="1400"/>
                </a:lnTo>
                <a:lnTo>
                  <a:pt x="847" y="1400"/>
                </a:lnTo>
                <a:lnTo>
                  <a:pt x="809" y="1390"/>
                </a:lnTo>
                <a:lnTo>
                  <a:pt x="733" y="1381"/>
                </a:lnTo>
                <a:lnTo>
                  <a:pt x="705" y="1381"/>
                </a:lnTo>
                <a:lnTo>
                  <a:pt x="685" y="1381"/>
                </a:lnTo>
                <a:lnTo>
                  <a:pt x="657" y="1381"/>
                </a:lnTo>
                <a:lnTo>
                  <a:pt x="628" y="1371"/>
                </a:lnTo>
                <a:lnTo>
                  <a:pt x="576" y="1378"/>
                </a:lnTo>
                <a:lnTo>
                  <a:pt x="576" y="1378"/>
                </a:lnTo>
              </a:path>
            </a:pathLst>
          </a:custGeom>
          <a:noFill/>
          <a:ln cap="rnd" w="507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5702760" y="3633840"/>
            <a:ext cx="27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60 70 8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9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150 260 3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 34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50  260   300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5702760" y="3633840"/>
            <a:ext cx="27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60 70 8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90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150 260 3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584360" y="242244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3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3489480" y="32529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4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498760" y="42433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4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1965240" y="53863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4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795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15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8539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930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1235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1311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1539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493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0    4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50  260   300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 flipH="1">
            <a:off x="1066320" y="4952880"/>
            <a:ext cx="1295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H="1">
            <a:off x="2286000" y="4952880"/>
            <a:ext cx="45720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200400" y="4952880"/>
            <a:ext cx="30492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1965240" y="538632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34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1584360" y="242244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3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171360" y="4578480"/>
            <a:ext cx="4038840" cy="2131920"/>
          </a:xfrm>
          <a:custGeom>
            <a:avLst/>
            <a:gdLst/>
            <a:ahLst/>
            <a:rect l="l" t="t" r="r" b="b"/>
            <a:pathLst>
              <a:path w="2544" h="1343">
                <a:moveTo>
                  <a:pt x="468" y="1100"/>
                </a:moveTo>
                <a:lnTo>
                  <a:pt x="333" y="1057"/>
                </a:lnTo>
                <a:lnTo>
                  <a:pt x="200" y="1000"/>
                </a:lnTo>
                <a:lnTo>
                  <a:pt x="105" y="923"/>
                </a:lnTo>
                <a:lnTo>
                  <a:pt x="67" y="847"/>
                </a:lnTo>
                <a:lnTo>
                  <a:pt x="48" y="790"/>
                </a:lnTo>
                <a:lnTo>
                  <a:pt x="38" y="714"/>
                </a:lnTo>
                <a:lnTo>
                  <a:pt x="29" y="657"/>
                </a:lnTo>
                <a:lnTo>
                  <a:pt x="9" y="600"/>
                </a:lnTo>
                <a:lnTo>
                  <a:pt x="0" y="562"/>
                </a:lnTo>
                <a:lnTo>
                  <a:pt x="0" y="542"/>
                </a:lnTo>
                <a:lnTo>
                  <a:pt x="0" y="466"/>
                </a:lnTo>
                <a:lnTo>
                  <a:pt x="29" y="428"/>
                </a:lnTo>
                <a:lnTo>
                  <a:pt x="86" y="371"/>
                </a:lnTo>
                <a:lnTo>
                  <a:pt x="162" y="352"/>
                </a:lnTo>
                <a:lnTo>
                  <a:pt x="219" y="295"/>
                </a:lnTo>
                <a:lnTo>
                  <a:pt x="276" y="276"/>
                </a:lnTo>
                <a:lnTo>
                  <a:pt x="333" y="257"/>
                </a:lnTo>
                <a:lnTo>
                  <a:pt x="391" y="247"/>
                </a:lnTo>
                <a:lnTo>
                  <a:pt x="467" y="238"/>
                </a:lnTo>
                <a:lnTo>
                  <a:pt x="543" y="219"/>
                </a:lnTo>
                <a:lnTo>
                  <a:pt x="619" y="181"/>
                </a:lnTo>
                <a:lnTo>
                  <a:pt x="638" y="152"/>
                </a:lnTo>
                <a:lnTo>
                  <a:pt x="695" y="133"/>
                </a:lnTo>
                <a:lnTo>
                  <a:pt x="772" y="114"/>
                </a:lnTo>
                <a:lnTo>
                  <a:pt x="848" y="104"/>
                </a:lnTo>
                <a:lnTo>
                  <a:pt x="924" y="85"/>
                </a:lnTo>
                <a:lnTo>
                  <a:pt x="981" y="66"/>
                </a:lnTo>
                <a:lnTo>
                  <a:pt x="1057" y="47"/>
                </a:lnTo>
                <a:lnTo>
                  <a:pt x="1114" y="38"/>
                </a:lnTo>
                <a:lnTo>
                  <a:pt x="1134" y="38"/>
                </a:lnTo>
                <a:lnTo>
                  <a:pt x="1191" y="28"/>
                </a:lnTo>
                <a:lnTo>
                  <a:pt x="1229" y="28"/>
                </a:lnTo>
                <a:lnTo>
                  <a:pt x="1267" y="28"/>
                </a:lnTo>
                <a:lnTo>
                  <a:pt x="1295" y="28"/>
                </a:lnTo>
                <a:lnTo>
                  <a:pt x="1362" y="28"/>
                </a:lnTo>
                <a:lnTo>
                  <a:pt x="1400" y="28"/>
                </a:lnTo>
                <a:lnTo>
                  <a:pt x="1429" y="19"/>
                </a:lnTo>
                <a:lnTo>
                  <a:pt x="1457" y="9"/>
                </a:lnTo>
                <a:lnTo>
                  <a:pt x="1486" y="9"/>
                </a:lnTo>
                <a:lnTo>
                  <a:pt x="1562" y="9"/>
                </a:lnTo>
                <a:lnTo>
                  <a:pt x="1591" y="0"/>
                </a:lnTo>
                <a:lnTo>
                  <a:pt x="1619" y="0"/>
                </a:lnTo>
                <a:lnTo>
                  <a:pt x="1648" y="0"/>
                </a:lnTo>
                <a:lnTo>
                  <a:pt x="1724" y="0"/>
                </a:lnTo>
                <a:lnTo>
                  <a:pt x="1781" y="0"/>
                </a:lnTo>
                <a:lnTo>
                  <a:pt x="1810" y="9"/>
                </a:lnTo>
                <a:lnTo>
                  <a:pt x="1848" y="9"/>
                </a:lnTo>
                <a:lnTo>
                  <a:pt x="1877" y="19"/>
                </a:lnTo>
                <a:lnTo>
                  <a:pt x="1915" y="47"/>
                </a:lnTo>
                <a:lnTo>
                  <a:pt x="1943" y="66"/>
                </a:lnTo>
                <a:lnTo>
                  <a:pt x="1962" y="104"/>
                </a:lnTo>
                <a:lnTo>
                  <a:pt x="1991" y="123"/>
                </a:lnTo>
                <a:lnTo>
                  <a:pt x="2000" y="181"/>
                </a:lnTo>
                <a:lnTo>
                  <a:pt x="2058" y="200"/>
                </a:lnTo>
                <a:lnTo>
                  <a:pt x="2134" y="276"/>
                </a:lnTo>
                <a:lnTo>
                  <a:pt x="2162" y="314"/>
                </a:lnTo>
                <a:lnTo>
                  <a:pt x="2191" y="352"/>
                </a:lnTo>
                <a:lnTo>
                  <a:pt x="2210" y="409"/>
                </a:lnTo>
                <a:lnTo>
                  <a:pt x="2267" y="466"/>
                </a:lnTo>
                <a:lnTo>
                  <a:pt x="2334" y="504"/>
                </a:lnTo>
                <a:lnTo>
                  <a:pt x="2362" y="542"/>
                </a:lnTo>
                <a:lnTo>
                  <a:pt x="2381" y="562"/>
                </a:lnTo>
                <a:lnTo>
                  <a:pt x="2410" y="581"/>
                </a:lnTo>
                <a:lnTo>
                  <a:pt x="2439" y="600"/>
                </a:lnTo>
                <a:lnTo>
                  <a:pt x="2477" y="638"/>
                </a:lnTo>
                <a:lnTo>
                  <a:pt x="2496" y="666"/>
                </a:lnTo>
                <a:lnTo>
                  <a:pt x="2515" y="695"/>
                </a:lnTo>
                <a:lnTo>
                  <a:pt x="2534" y="723"/>
                </a:lnTo>
                <a:lnTo>
                  <a:pt x="2543" y="752"/>
                </a:lnTo>
                <a:lnTo>
                  <a:pt x="2543" y="790"/>
                </a:lnTo>
                <a:lnTo>
                  <a:pt x="2543" y="828"/>
                </a:lnTo>
                <a:lnTo>
                  <a:pt x="2543" y="866"/>
                </a:lnTo>
                <a:lnTo>
                  <a:pt x="2543" y="904"/>
                </a:lnTo>
                <a:lnTo>
                  <a:pt x="2543" y="1000"/>
                </a:lnTo>
                <a:lnTo>
                  <a:pt x="2524" y="1038"/>
                </a:lnTo>
                <a:lnTo>
                  <a:pt x="2505" y="1095"/>
                </a:lnTo>
                <a:lnTo>
                  <a:pt x="2486" y="1171"/>
                </a:lnTo>
                <a:lnTo>
                  <a:pt x="2467" y="1228"/>
                </a:lnTo>
                <a:lnTo>
                  <a:pt x="2410" y="1247"/>
                </a:lnTo>
                <a:lnTo>
                  <a:pt x="2372" y="1285"/>
                </a:lnTo>
                <a:lnTo>
                  <a:pt x="2334" y="1304"/>
                </a:lnTo>
                <a:lnTo>
                  <a:pt x="2258" y="1323"/>
                </a:lnTo>
                <a:lnTo>
                  <a:pt x="2219" y="1342"/>
                </a:lnTo>
                <a:lnTo>
                  <a:pt x="2143" y="1342"/>
                </a:lnTo>
                <a:lnTo>
                  <a:pt x="2105" y="1342"/>
                </a:lnTo>
                <a:lnTo>
                  <a:pt x="2067" y="1342"/>
                </a:lnTo>
                <a:lnTo>
                  <a:pt x="2010" y="1342"/>
                </a:lnTo>
                <a:lnTo>
                  <a:pt x="1934" y="1342"/>
                </a:lnTo>
                <a:lnTo>
                  <a:pt x="1858" y="1342"/>
                </a:lnTo>
                <a:lnTo>
                  <a:pt x="1838" y="1342"/>
                </a:lnTo>
                <a:lnTo>
                  <a:pt x="1810" y="1342"/>
                </a:lnTo>
                <a:lnTo>
                  <a:pt x="1753" y="1333"/>
                </a:lnTo>
                <a:lnTo>
                  <a:pt x="1677" y="1333"/>
                </a:lnTo>
                <a:lnTo>
                  <a:pt x="1619" y="1333"/>
                </a:lnTo>
                <a:lnTo>
                  <a:pt x="1591" y="1333"/>
                </a:lnTo>
                <a:lnTo>
                  <a:pt x="1562" y="1333"/>
                </a:lnTo>
                <a:lnTo>
                  <a:pt x="1467" y="1323"/>
                </a:lnTo>
                <a:lnTo>
                  <a:pt x="1353" y="1314"/>
                </a:lnTo>
                <a:lnTo>
                  <a:pt x="1276" y="1304"/>
                </a:lnTo>
                <a:lnTo>
                  <a:pt x="1200" y="1295"/>
                </a:lnTo>
                <a:lnTo>
                  <a:pt x="1162" y="1285"/>
                </a:lnTo>
                <a:lnTo>
                  <a:pt x="1124" y="1276"/>
                </a:lnTo>
                <a:lnTo>
                  <a:pt x="1029" y="1266"/>
                </a:lnTo>
                <a:lnTo>
                  <a:pt x="953" y="1257"/>
                </a:lnTo>
                <a:lnTo>
                  <a:pt x="933" y="1247"/>
                </a:lnTo>
                <a:lnTo>
                  <a:pt x="867" y="1238"/>
                </a:lnTo>
                <a:lnTo>
                  <a:pt x="810" y="1219"/>
                </a:lnTo>
                <a:lnTo>
                  <a:pt x="733" y="1200"/>
                </a:lnTo>
                <a:lnTo>
                  <a:pt x="695" y="1180"/>
                </a:lnTo>
                <a:lnTo>
                  <a:pt x="667" y="1171"/>
                </a:lnTo>
                <a:lnTo>
                  <a:pt x="638" y="1161"/>
                </a:lnTo>
                <a:lnTo>
                  <a:pt x="610" y="1142"/>
                </a:lnTo>
                <a:lnTo>
                  <a:pt x="581" y="1123"/>
                </a:lnTo>
                <a:lnTo>
                  <a:pt x="552" y="1104"/>
                </a:lnTo>
                <a:lnTo>
                  <a:pt x="524" y="1104"/>
                </a:lnTo>
                <a:lnTo>
                  <a:pt x="468" y="1100"/>
                </a:lnTo>
                <a:lnTo>
                  <a:pt x="468" y="1100"/>
                </a:lnTo>
              </a:path>
            </a:pathLst>
          </a:custGeom>
          <a:noFill/>
          <a:ln cap="rnd" w="507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44240" y="3710160"/>
            <a:ext cx="23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15 2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5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40 41 43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4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4213080" y="4654440"/>
            <a:ext cx="141948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 </a:t>
            </a: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50   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45878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46641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5045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51213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557856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428292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2308320" y="4654440"/>
            <a:ext cx="141912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268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27590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1399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2162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367344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2378160" y="46483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886200" y="4038480"/>
            <a:ext cx="99072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 15    20 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0    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50  260   300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4267080" y="4952880"/>
            <a:ext cx="3812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4648320" y="4952880"/>
            <a:ext cx="129528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5105520" y="4952880"/>
            <a:ext cx="213336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 flipH="1">
            <a:off x="2971800" y="4038480"/>
            <a:ext cx="457200" cy="533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584360" y="242244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3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444240" y="3710160"/>
            <a:ext cx="23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10 15 20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돋움"/>
              </a:rPr>
              <a:t>25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 40 41 43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 flipH="1">
            <a:off x="2209680" y="4952880"/>
            <a:ext cx="152640" cy="6858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2743200" y="4952880"/>
            <a:ext cx="762120" cy="7621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2006640" y="4521240"/>
            <a:ext cx="2006640" cy="558720"/>
          </a:xfrm>
          <a:prstGeom prst="ellipse">
            <a:avLst/>
          </a:prstGeom>
          <a:noFill/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778040" y="3454560"/>
            <a:ext cx="4368600" cy="1854000"/>
          </a:xfrm>
          <a:prstGeom prst="ellipse">
            <a:avLst/>
          </a:prstGeom>
          <a:noFill/>
          <a:ln w="507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6157800" y="36338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  <a:ea typeface="돋움"/>
              </a:rPr>
              <a:t>25 44 50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435480" y="3740040"/>
            <a:ext cx="1587240" cy="292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25    44    50    90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38098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8862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41911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426708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4648320" y="37339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582560" y="1889280"/>
            <a:ext cx="175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m =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3505320" y="3733920"/>
            <a:ext cx="0" cy="3045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16984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0    15    20  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2073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2149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2454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2530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2759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7683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291780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0    41   43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2925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3368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36734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3749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3978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9876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4137120" y="5721480"/>
            <a:ext cx="111420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45    49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45115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4587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8927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968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5197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20696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356080" y="5721480"/>
            <a:ext cx="111456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60     70   80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7308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807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61117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61880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4166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542592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575400" y="5721480"/>
            <a:ext cx="1266840" cy="291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돋움"/>
              </a:rPr>
              <a:t>150  260   300      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69501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70261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740736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748332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7788240" y="57150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6645240" y="5715000"/>
            <a:ext cx="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1584360" y="2422440"/>
            <a:ext cx="143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delete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 3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6157800" y="363384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돋움"/>
              </a:rPr>
              <a:t>25 44 50 9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2285640" y="4038480"/>
            <a:ext cx="1219320" cy="167652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 flipH="1">
            <a:off x="3505320" y="4038480"/>
            <a:ext cx="380880" cy="1600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4267080" y="4038480"/>
            <a:ext cx="381240" cy="1600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4648320" y="4038480"/>
            <a:ext cx="1295280" cy="1600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5029200" y="4038480"/>
            <a:ext cx="2133720" cy="1600200"/>
          </a:xfrm>
          <a:prstGeom prst="line">
            <a:avLst/>
          </a:prstGeom>
          <a:ln w="12600">
            <a:solidFill>
              <a:srgbClr val="3333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3208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901960" y="4419720"/>
            <a:ext cx="3187800" cy="1447560"/>
            <a:chOff x="2901960" y="4419720"/>
            <a:chExt cx="3187800" cy="1447560"/>
          </a:xfrm>
        </p:grpSpPr>
        <p:grpSp>
          <p:nvGrpSpPr>
            <p:cNvPr id="146" name=""/>
            <p:cNvGrpSpPr/>
            <p:nvPr/>
          </p:nvGrpSpPr>
          <p:grpSpPr>
            <a:xfrm>
              <a:off x="2901960" y="5562720"/>
              <a:ext cx="1206360" cy="304560"/>
              <a:chOff x="2901960" y="5562720"/>
              <a:chExt cx="1206360" cy="304560"/>
            </a:xfrm>
          </p:grpSpPr>
          <p:sp>
            <p:nvSpPr>
              <p:cNvPr id="147" name=""/>
              <p:cNvSpPr/>
              <p:nvPr/>
            </p:nvSpPr>
            <p:spPr>
              <a:xfrm>
                <a:off x="2901960" y="55688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  20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7672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35268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5760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73392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883040" y="5562720"/>
              <a:ext cx="1206720" cy="304560"/>
              <a:chOff x="4883040" y="5562720"/>
              <a:chExt cx="1206720" cy="304560"/>
            </a:xfrm>
          </p:grpSpPr>
          <p:sp>
            <p:nvSpPr>
              <p:cNvPr id="153" name=""/>
              <p:cNvSpPr/>
              <p:nvPr/>
            </p:nvSpPr>
            <p:spPr>
              <a:xfrm>
                <a:off x="4883040" y="5568840"/>
                <a:ext cx="120672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50  90   10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5780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33412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3868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715000" y="5562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892680" y="4419720"/>
              <a:ext cx="1206360" cy="304560"/>
              <a:chOff x="3892680" y="4419720"/>
              <a:chExt cx="1206360" cy="304560"/>
            </a:xfrm>
          </p:grpSpPr>
          <p:sp>
            <p:nvSpPr>
              <p:cNvPr id="159" name=""/>
              <p:cNvSpPr/>
              <p:nvPr/>
            </p:nvSpPr>
            <p:spPr>
              <a:xfrm>
                <a:off x="3892680" y="4425840"/>
                <a:ext cx="1206360" cy="29232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67080" y="4419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43400" y="4419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48320" y="4419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24280" y="4419720"/>
                <a:ext cx="0" cy="30456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3123720" y="4724280"/>
              <a:ext cx="762120" cy="83844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43400" y="4724280"/>
              <a:ext cx="1143000" cy="76212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584000" y="1889280"/>
            <a:ext cx="1523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15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32080" y="18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978280" y="3886200"/>
            <a:ext cx="4025880" cy="1447920"/>
            <a:chOff x="2978280" y="3886200"/>
            <a:chExt cx="4025880" cy="1447920"/>
          </a:xfrm>
        </p:grpSpPr>
        <p:grpSp>
          <p:nvGrpSpPr>
            <p:cNvPr id="170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171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  20  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177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5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3968640" y="3886200"/>
              <a:ext cx="1206720" cy="304920"/>
              <a:chOff x="3968640" y="3886200"/>
              <a:chExt cx="1206720" cy="304920"/>
            </a:xfrm>
          </p:grpSpPr>
          <p:sp>
            <p:nvSpPr>
              <p:cNvPr id="183" name=""/>
              <p:cNvSpPr/>
              <p:nvPr/>
            </p:nvSpPr>
            <p:spPr>
              <a:xfrm>
                <a:off x="3968640" y="3892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0   9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1972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2428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006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H="1">
              <a:off x="3200040" y="4191120"/>
              <a:ext cx="762120" cy="8380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00600" y="4191120"/>
              <a:ext cx="1143000" cy="7617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191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495680" y="4191120"/>
              <a:ext cx="0" cy="838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582920" y="1889280"/>
            <a:ext cx="245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 25  70  6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2978280" y="3886200"/>
            <a:ext cx="4025880" cy="1447920"/>
            <a:chOff x="2978280" y="3886200"/>
            <a:chExt cx="4025880" cy="1447920"/>
          </a:xfrm>
        </p:grpSpPr>
        <p:grpSp>
          <p:nvGrpSpPr>
            <p:cNvPr id="200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201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  20    2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207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50   60    7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968640" y="3886200"/>
              <a:ext cx="1206720" cy="304920"/>
              <a:chOff x="3968640" y="3886200"/>
              <a:chExt cx="1206720" cy="304920"/>
            </a:xfrm>
          </p:grpSpPr>
          <p:sp>
            <p:nvSpPr>
              <p:cNvPr id="213" name=""/>
              <p:cNvSpPr/>
              <p:nvPr/>
            </p:nvSpPr>
            <p:spPr>
              <a:xfrm>
                <a:off x="3968640" y="3892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0   9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1972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2428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006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 flipH="1">
              <a:off x="3200040" y="4191120"/>
              <a:ext cx="762120" cy="83808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4191120"/>
              <a:ext cx="1143000" cy="76176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221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4495680" y="4191120"/>
              <a:ext cx="0" cy="838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584000" y="188928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돋움"/>
              </a:rPr>
              <a:t>4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606680" y="3886200"/>
            <a:ext cx="5397480" cy="1447920"/>
            <a:chOff x="1606680" y="3886200"/>
            <a:chExt cx="5397480" cy="1447920"/>
          </a:xfrm>
        </p:grpSpPr>
        <p:grpSp>
          <p:nvGrpSpPr>
            <p:cNvPr id="230" name=""/>
            <p:cNvGrpSpPr/>
            <p:nvPr/>
          </p:nvGrpSpPr>
          <p:grpSpPr>
            <a:xfrm>
              <a:off x="2978280" y="5029200"/>
              <a:ext cx="1206360" cy="304920"/>
              <a:chOff x="2978280" y="5029200"/>
              <a:chExt cx="1206360" cy="304920"/>
            </a:xfrm>
          </p:grpSpPr>
          <p:sp>
            <p:nvSpPr>
              <p:cNvPr id="231" name=""/>
              <p:cNvSpPr/>
              <p:nvPr/>
            </p:nvSpPr>
            <p:spPr>
              <a:xfrm>
                <a:off x="29782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4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526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4290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339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8098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4349880" y="5029200"/>
              <a:ext cx="1206360" cy="304920"/>
              <a:chOff x="4349880" y="5029200"/>
              <a:chExt cx="1206360" cy="304920"/>
            </a:xfrm>
          </p:grpSpPr>
          <p:sp>
            <p:nvSpPr>
              <p:cNvPr id="237" name=""/>
              <p:cNvSpPr/>
              <p:nvPr/>
            </p:nvSpPr>
            <p:spPr>
              <a:xfrm>
                <a:off x="43498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60   70   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724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006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05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814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68640" y="3886200"/>
              <a:ext cx="1206720" cy="304920"/>
              <a:chOff x="3968640" y="3886200"/>
              <a:chExt cx="1206720" cy="304920"/>
            </a:xfrm>
          </p:grpSpPr>
          <p:sp>
            <p:nvSpPr>
              <p:cNvPr id="243" name=""/>
              <p:cNvSpPr/>
              <p:nvPr/>
            </p:nvSpPr>
            <p:spPr>
              <a:xfrm>
                <a:off x="3968640" y="3892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30  50   9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434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41972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72428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00600" y="3886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5797440" y="5029200"/>
              <a:ext cx="1206720" cy="304920"/>
              <a:chOff x="5797440" y="5029200"/>
              <a:chExt cx="1206720" cy="304920"/>
            </a:xfrm>
          </p:grpSpPr>
          <p:sp>
            <p:nvSpPr>
              <p:cNvPr id="249" name=""/>
              <p:cNvSpPr/>
              <p:nvPr/>
            </p:nvSpPr>
            <p:spPr>
              <a:xfrm>
                <a:off x="5797440" y="5035680"/>
                <a:ext cx="120672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0 15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722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2485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53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29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606680" y="5029200"/>
              <a:ext cx="1206360" cy="304920"/>
              <a:chOff x="1606680" y="5029200"/>
              <a:chExt cx="1206360" cy="304920"/>
            </a:xfrm>
          </p:grpSpPr>
          <p:sp>
            <p:nvSpPr>
              <p:cNvPr id="255" name=""/>
              <p:cNvSpPr/>
              <p:nvPr/>
            </p:nvSpPr>
            <p:spPr>
              <a:xfrm>
                <a:off x="1606680" y="5035680"/>
                <a:ext cx="1206360" cy="291960"/>
              </a:xfrm>
              <a:prstGeom prst="rect">
                <a:avLst/>
              </a:prstGeom>
              <a:solidFill>
                <a:srgbClr val="3399ff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 </a:t>
                </a:r>
                <a:r>
                  <a:rPr b="0" lang="en-US" sz="1600" spc="-1" strike="noStrike">
                    <a:solidFill>
                      <a:srgbClr val="333333"/>
                    </a:solidFill>
                    <a:latin typeface="Arial"/>
                    <a:ea typeface="돋움"/>
                  </a:rPr>
                  <a:t>10  20    2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810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5740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36232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438280" y="5029200"/>
                <a:ext cx="0" cy="304920"/>
              </a:xfrm>
              <a:prstGeom prst="line">
                <a:avLst/>
              </a:prstGeom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 flipH="1">
              <a:off x="3352680" y="4191120"/>
              <a:ext cx="99072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24280" y="4191120"/>
              <a:ext cx="0" cy="761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1480" y="4191120"/>
              <a:ext cx="762120" cy="838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057400" y="4114800"/>
              <a:ext cx="1905120" cy="83808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583280" y="1889280"/>
            <a:ext cx="1948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 49  4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14:54:45Z</dcterms:created>
  <dc:creator>sun</dc:creator>
  <dc:description/>
  <dc:language>en-US</dc:language>
  <cp:lastModifiedBy>sun</cp:lastModifiedBy>
  <dcterms:modified xsi:type="dcterms:W3CDTF">1999-04-05T15:19:19Z</dcterms:modified>
  <cp:revision>2</cp:revision>
  <dc:subject/>
  <dc:title>Examples</dc:title>
</cp:coreProperties>
</file>