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0EFC-4E73-4B73-95C7-ED18FC68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C71-CD33-4507-BA13-C7CCA356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146-901C-4A5F-AD55-DFECB0D1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5537-F2FD-4259-B649-357546AA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0B7-08B9-440E-9674-294B4D17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CF6-2D62-4FF1-AE72-0245FDC0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846-4D57-45D0-A713-F791F2EC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4B3-51B7-473A-AA70-A71DD3C4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8D1-B18D-444B-9A3C-4BCA0A8B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C07-5F46-4843-B999-2DA77BE0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D59-332B-4A24-8637-DD4BDE9B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D4E9-6925-4785-BD4F-427F11B0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355E-96FB-4B6E-9FC1-581377C1F97A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9000" y="1052640"/>
            <a:ext cx="1403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89000" y="30492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05264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73440" y="105264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798560"/>
            <a:ext cx="140328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18200" y="363384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02280" y="2954160"/>
            <a:ext cx="140364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02280" y="363384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492444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9000" y="424512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89000" y="492444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18200" y="55357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02280" y="492444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02280" y="553572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33760" y="55357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3" idx="5"/>
            <a:endCxn id="41" idx="0"/>
          </p:cNvCxnSpPr>
          <p:nvPr/>
        </p:nvCxnSpPr>
        <p:spPr>
          <a:xfrm>
            <a:off x="1503000" y="653040"/>
            <a:ext cx="1188000" cy="39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2" idx="4"/>
            <a:endCxn id="41" idx="0"/>
          </p:cNvCxnSpPr>
          <p:nvPr/>
        </p:nvCxnSpPr>
        <p:spPr>
          <a:xfrm flipH="1">
            <a:off x="2690640" y="712800"/>
            <a:ext cx="72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4" idx="3"/>
            <a:endCxn id="41" idx="0"/>
          </p:cNvCxnSpPr>
          <p:nvPr/>
        </p:nvCxnSpPr>
        <p:spPr>
          <a:xfrm flipH="1">
            <a:off x="2690640" y="653040"/>
            <a:ext cx="1188360" cy="399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"/>
          <p:cNvCxnSpPr>
            <a:stCxn id="41" idx="1"/>
            <a:endCxn id="45" idx="6"/>
          </p:cNvCxnSpPr>
          <p:nvPr/>
        </p:nvCxnSpPr>
        <p:spPr>
          <a:xfrm flipH="1">
            <a:off x="1708200" y="1256400"/>
            <a:ext cx="2811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"/>
          <p:cNvCxnSpPr>
            <a:stCxn id="41" idx="3"/>
            <a:endCxn id="46" idx="2"/>
          </p:cNvCxnSpPr>
          <p:nvPr/>
        </p:nvCxnSpPr>
        <p:spPr>
          <a:xfrm>
            <a:off x="3392640" y="1256400"/>
            <a:ext cx="2811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41" idx="2"/>
            <a:endCxn id="47" idx="7"/>
          </p:cNvCxnSpPr>
          <p:nvPr/>
        </p:nvCxnSpPr>
        <p:spPr>
          <a:xfrm flipH="1">
            <a:off x="1503000" y="1460520"/>
            <a:ext cx="1188000" cy="398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5" idx="2"/>
            <a:endCxn id="51" idx="0"/>
          </p:cNvCxnSpPr>
          <p:nvPr/>
        </p:nvCxnSpPr>
        <p:spPr>
          <a:xfrm>
            <a:off x="1006560" y="4653000"/>
            <a:ext cx="360" cy="27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5" idx="3"/>
            <a:endCxn id="52" idx="2"/>
          </p:cNvCxnSpPr>
          <p:nvPr/>
        </p:nvCxnSpPr>
        <p:spPr>
          <a:xfrm>
            <a:off x="1708200" y="4448880"/>
            <a:ext cx="2811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5" idx="2"/>
            <a:endCxn id="53" idx="1"/>
          </p:cNvCxnSpPr>
          <p:nvPr/>
        </p:nvCxnSpPr>
        <p:spPr>
          <a:xfrm>
            <a:off x="1006560" y="4653000"/>
            <a:ext cx="1188360" cy="33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9" idx="2"/>
            <a:endCxn id="48" idx="0"/>
          </p:cNvCxnSpPr>
          <p:nvPr/>
        </p:nvCxnSpPr>
        <p:spPr>
          <a:xfrm>
            <a:off x="5919840" y="3362400"/>
            <a:ext cx="360" cy="27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9" idx="3"/>
            <a:endCxn id="49" idx="2"/>
          </p:cNvCxnSpPr>
          <p:nvPr/>
        </p:nvCxnSpPr>
        <p:spPr>
          <a:xfrm>
            <a:off x="6621480" y="3158280"/>
            <a:ext cx="2811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9" idx="2"/>
            <a:endCxn id="50" idx="1"/>
          </p:cNvCxnSpPr>
          <p:nvPr/>
        </p:nvCxnSpPr>
        <p:spPr>
          <a:xfrm>
            <a:off x="5919840" y="3362400"/>
            <a:ext cx="1188360" cy="33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3" idx="2"/>
            <a:endCxn id="57" idx="7"/>
          </p:cNvCxnSpPr>
          <p:nvPr/>
        </p:nvCxnSpPr>
        <p:spPr>
          <a:xfrm flipH="1">
            <a:off x="4731840" y="5332320"/>
            <a:ext cx="1188360" cy="26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73" idx="2"/>
            <a:endCxn id="54" idx="0"/>
          </p:cNvCxnSpPr>
          <p:nvPr/>
        </p:nvCxnSpPr>
        <p:spPr>
          <a:xfrm>
            <a:off x="5919840" y="5332320"/>
            <a:ext cx="360" cy="20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3" idx="2"/>
            <a:endCxn id="56" idx="1"/>
          </p:cNvCxnSpPr>
          <p:nvPr/>
        </p:nvCxnSpPr>
        <p:spPr>
          <a:xfrm>
            <a:off x="5919840" y="5332320"/>
            <a:ext cx="1188360" cy="26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73" idx="3"/>
            <a:endCxn id="55" idx="2"/>
          </p:cNvCxnSpPr>
          <p:nvPr/>
        </p:nvCxnSpPr>
        <p:spPr>
          <a:xfrm>
            <a:off x="6621480" y="5128200"/>
            <a:ext cx="2811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5218200" y="4924440"/>
            <a:ext cx="140328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0640" y="1798560"/>
            <a:ext cx="1403640" cy="408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1" idx="2"/>
            <a:endCxn id="77" idx="0"/>
          </p:cNvCxnSpPr>
          <p:nvPr/>
        </p:nvCxnSpPr>
        <p:spPr>
          <a:xfrm>
            <a:off x="2690640" y="1460520"/>
            <a:ext cx="702360" cy="338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2690640" y="1595520"/>
            <a:ext cx="6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4600" y="20718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49320" y="3022560"/>
            <a:ext cx="140364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9320" y="2274840"/>
            <a:ext cx="1403640" cy="407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41" idx="2"/>
            <a:endCxn id="82" idx="0"/>
          </p:cNvCxnSpPr>
          <p:nvPr/>
        </p:nvCxnSpPr>
        <p:spPr>
          <a:xfrm flipH="1">
            <a:off x="2551320" y="1460520"/>
            <a:ext cx="139680" cy="814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82" idx="2"/>
          </p:cNvCxnSpPr>
          <p:nvPr/>
        </p:nvCxnSpPr>
        <p:spPr>
          <a:xfrm flipV="1">
            <a:off x="2550960" y="2682720"/>
            <a:ext cx="720" cy="34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200320" y="26146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0320" y="1935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49320" y="3701880"/>
            <a:ext cx="140364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900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41" idx="3"/>
            <a:endCxn id="88" idx="2"/>
          </p:cNvCxnSpPr>
          <p:nvPr/>
        </p:nvCxnSpPr>
        <p:spPr>
          <a:xfrm flipV="1">
            <a:off x="3392640" y="509040"/>
            <a:ext cx="2106720" cy="74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6902280" y="4313160"/>
            <a:ext cx="140364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73" idx="3"/>
            <a:endCxn id="90" idx="3"/>
          </p:cNvCxnSpPr>
          <p:nvPr/>
        </p:nvCxnSpPr>
        <p:spPr>
          <a:xfrm flipV="1">
            <a:off x="6621480" y="4661640"/>
            <a:ext cx="486720" cy="46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2" name=""/>
          <p:cNvSpPr/>
          <p:nvPr/>
        </p:nvSpPr>
        <p:spPr>
          <a:xfrm>
            <a:off x="3462480" y="3701880"/>
            <a:ext cx="140472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62480" y="3022560"/>
            <a:ext cx="140472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1" idx="2"/>
            <a:endCxn id="87" idx="0"/>
          </p:cNvCxnSpPr>
          <p:nvPr/>
        </p:nvCxnSpPr>
        <p:spPr>
          <a:xfrm>
            <a:off x="2550960" y="3430440"/>
            <a:ext cx="720" cy="271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1" idx="3"/>
            <a:endCxn id="93" idx="2"/>
          </p:cNvCxnSpPr>
          <p:nvPr/>
        </p:nvCxnSpPr>
        <p:spPr>
          <a:xfrm>
            <a:off x="3252960" y="3226320"/>
            <a:ext cx="209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81" idx="2"/>
            <a:endCxn id="92" idx="1"/>
          </p:cNvCxnSpPr>
          <p:nvPr/>
        </p:nvCxnSpPr>
        <p:spPr>
          <a:xfrm>
            <a:off x="2550960" y="3430440"/>
            <a:ext cx="1117440" cy="331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304920" y="4245120"/>
            <a:ext cx="140328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294000"/>
            <a:ext cx="1403280" cy="407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41" idx="2"/>
            <a:endCxn id="97" idx="0"/>
          </p:cNvCxnSpPr>
          <p:nvPr/>
        </p:nvCxnSpPr>
        <p:spPr>
          <a:xfrm flipH="1">
            <a:off x="1006560" y="1460520"/>
            <a:ext cx="1684440" cy="1833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7" idx="2"/>
            <a:endCxn id="65" idx="0"/>
          </p:cNvCxnSpPr>
          <p:nvPr/>
        </p:nvCxnSpPr>
        <p:spPr>
          <a:xfrm>
            <a:off x="1006560" y="3701880"/>
            <a:ext cx="360" cy="543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1006560" y="37018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5240" y="2886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56240" y="2003400"/>
            <a:ext cx="1403280" cy="407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41" idx="3"/>
            <a:endCxn id="102" idx="0"/>
          </p:cNvCxnSpPr>
          <p:nvPr/>
        </p:nvCxnSpPr>
        <p:spPr>
          <a:xfrm>
            <a:off x="3392640" y="1256400"/>
            <a:ext cx="1965600" cy="74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102" idx="2"/>
            <a:endCxn id="69" idx="0"/>
          </p:cNvCxnSpPr>
          <p:nvPr/>
        </p:nvCxnSpPr>
        <p:spPr>
          <a:xfrm>
            <a:off x="5357880" y="2411280"/>
            <a:ext cx="562320" cy="54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5148360" y="1595520"/>
            <a:ext cx="63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68840" y="23432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18200" y="2954160"/>
            <a:ext cx="140328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492444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6"/>
            <a:endCxn id="73" idx="1"/>
          </p:cNvCxnSpPr>
          <p:nvPr/>
        </p:nvCxnSpPr>
        <p:spPr>
          <a:xfrm flipV="1">
            <a:off x="4937040" y="5128200"/>
            <a:ext cx="281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5218200" y="4313160"/>
            <a:ext cx="140328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73" idx="0"/>
            <a:endCxn id="109" idx="4"/>
          </p:cNvCxnSpPr>
          <p:nvPr/>
        </p:nvCxnSpPr>
        <p:spPr>
          <a:xfrm flipV="1">
            <a:off x="5919840" y="4721400"/>
            <a:ext cx="360" cy="203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/>
          <p:nvPr/>
        </p:nvCxnSpPr>
        <p:spPr>
          <a:xfrm>
            <a:off x="4094280" y="2003400"/>
            <a:ext cx="1124640" cy="3124800"/>
          </a:xfrm>
          <a:prstGeom prst="curvedConnector5">
            <a:avLst>
              <a:gd name="adj1" fmla="val 93595"/>
              <a:gd name="adj2" fmla="val 49994"/>
              <a:gd name="adj3" fmla="val 935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462480" y="2546280"/>
            <a:ext cx="140472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1" idx="3"/>
            <a:endCxn id="112" idx="3"/>
          </p:cNvCxnSpPr>
          <p:nvPr/>
        </p:nvCxnSpPr>
        <p:spPr>
          <a:xfrm flipV="1">
            <a:off x="3252960" y="2894400"/>
            <a:ext cx="415440" cy="332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981080" y="1066680"/>
            <a:ext cx="140364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2057400"/>
            <a:ext cx="1403640" cy="407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4" idx="2"/>
            <a:endCxn id="115" idx="0"/>
          </p:cNvCxnSpPr>
          <p:nvPr/>
        </p:nvCxnSpPr>
        <p:spPr>
          <a:xfrm>
            <a:off x="2682360" y="1474920"/>
            <a:ext cx="1080" cy="583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3429000" y="2438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002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3276720"/>
            <a:ext cx="140328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5" idx="2"/>
            <a:endCxn id="119" idx="0"/>
          </p:cNvCxnSpPr>
          <p:nvPr/>
        </p:nvCxnSpPr>
        <p:spPr>
          <a:xfrm>
            <a:off x="2682720" y="2465280"/>
            <a:ext cx="1905840" cy="81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886200" y="411480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32767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411480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419112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19" idx="2"/>
            <a:endCxn id="121" idx="0"/>
          </p:cNvCxnSpPr>
          <p:nvPr/>
        </p:nvCxnSpPr>
        <p:spPr>
          <a:xfrm>
            <a:off x="4587480" y="368424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19" idx="2"/>
            <a:endCxn id="123" idx="1"/>
          </p:cNvCxnSpPr>
          <p:nvPr/>
        </p:nvCxnSpPr>
        <p:spPr>
          <a:xfrm>
            <a:off x="4587840" y="3684240"/>
            <a:ext cx="140904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2" idx="2"/>
            <a:endCxn id="119" idx="3"/>
          </p:cNvCxnSpPr>
          <p:nvPr/>
        </p:nvCxnSpPr>
        <p:spPr>
          <a:xfrm flipH="1">
            <a:off x="5289120" y="3481200"/>
            <a:ext cx="50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4" idx="7"/>
            <a:endCxn id="119" idx="2"/>
          </p:cNvCxnSpPr>
          <p:nvPr/>
        </p:nvCxnSpPr>
        <p:spPr>
          <a:xfrm flipV="1">
            <a:off x="3179520" y="3684240"/>
            <a:ext cx="1408680" cy="567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5791320" y="1066680"/>
            <a:ext cx="1403280" cy="40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066680"/>
            <a:ext cx="1403280" cy="4082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4" idx="3"/>
            <a:endCxn id="130" idx="1"/>
          </p:cNvCxnSpPr>
          <p:nvPr/>
        </p:nvCxnSpPr>
        <p:spPr>
          <a:xfrm>
            <a:off x="3384360" y="127116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30" idx="3"/>
            <a:endCxn id="129" idx="1"/>
          </p:cNvCxnSpPr>
          <p:nvPr/>
        </p:nvCxnSpPr>
        <p:spPr>
          <a:xfrm>
            <a:off x="5289480" y="1271160"/>
            <a:ext cx="50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3429000" y="762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762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19051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6200" y="19051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1066680"/>
            <a:ext cx="1403280" cy="408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304920"/>
            <a:ext cx="140328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7" idx="5"/>
            <a:endCxn id="129" idx="0"/>
          </p:cNvCxnSpPr>
          <p:nvPr/>
        </p:nvCxnSpPr>
        <p:spPr>
          <a:xfrm>
            <a:off x="5084640" y="651960"/>
            <a:ext cx="140904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" name=""/>
          <p:cNvCxnSpPr>
            <a:stCxn id="138" idx="4"/>
            <a:endCxn id="129" idx="0"/>
          </p:cNvCxnSpPr>
          <p:nvPr/>
        </p:nvCxnSpPr>
        <p:spPr>
          <a:xfrm>
            <a:off x="6492600" y="712440"/>
            <a:ext cx="108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0" idx="3"/>
            <a:endCxn id="129" idx="0"/>
          </p:cNvCxnSpPr>
          <p:nvPr/>
        </p:nvCxnSpPr>
        <p:spPr>
          <a:xfrm flipH="1">
            <a:off x="6492600" y="651960"/>
            <a:ext cx="1256400" cy="415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" name=""/>
          <p:cNvCxnSpPr>
            <a:stCxn id="139" idx="2"/>
            <a:endCxn id="129" idx="3"/>
          </p:cNvCxnSpPr>
          <p:nvPr/>
        </p:nvCxnSpPr>
        <p:spPr>
          <a:xfrm flipH="1">
            <a:off x="7194240" y="1271160"/>
            <a:ext cx="349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35" idx="0"/>
            <a:endCxn id="129" idx="2"/>
          </p:cNvCxnSpPr>
          <p:nvPr/>
        </p:nvCxnSpPr>
        <p:spPr>
          <a:xfrm flipV="1">
            <a:off x="6492600" y="1474200"/>
            <a:ext cx="1080" cy="430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36" idx="7"/>
            <a:endCxn id="129" idx="2"/>
          </p:cNvCxnSpPr>
          <p:nvPr/>
        </p:nvCxnSpPr>
        <p:spPr>
          <a:xfrm flipV="1">
            <a:off x="5084640" y="1474560"/>
            <a:ext cx="1409040" cy="491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1981080" y="3276720"/>
            <a:ext cx="1403640" cy="407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19" idx="1"/>
            <a:endCxn id="147" idx="6"/>
          </p:cNvCxnSpPr>
          <p:nvPr/>
        </p:nvCxnSpPr>
        <p:spPr>
          <a:xfrm flipH="1">
            <a:off x="3384360" y="3481200"/>
            <a:ext cx="501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Taeho Oh</cp:lastModifiedBy>
  <cp:lastPrinted>1997-02-26T15:00:00Z</cp:lastPrinted>
  <dcterms:modified xsi:type="dcterms:W3CDTF">1999-05-20T15:58:39Z</dcterms:modified>
  <cp:revision>16</cp:revision>
  <dc:subject/>
  <dc:title>슬라이드 제목 없음</dc:title>
</cp:coreProperties>
</file>