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F53-9272-403A-9EA1-B341CF54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4CD-B7BB-4217-BE6C-25833FA5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7F8-8D2A-43F5-899E-12B3454B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B6C-C8D9-45D7-ABDD-F7CB8F2C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234D-D614-4DE0-9E55-60EE4001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D4CD-E8EB-47EA-A202-3295006C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F2A0-6EBC-4D20-ACB9-A71C330C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F207-5F2A-4ED6-A0CD-4498A117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B0DC-F5A5-4FCB-97DA-A9833CA9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D449-CBF0-4D4C-939D-8EC95022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4C2F-2000-4516-BA20-28F2D72A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BA5-9DBE-46DB-858D-D2185DFA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61E1-0F17-4544-804C-69746F09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1238-1487-444F-9D01-45309FE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E6A5-FA42-40AA-A026-295F1CB0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1746-0518-4683-88D7-627B2CC6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B286-4ACD-494B-9EAC-2CA9F8A4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DE6-54BC-41A7-B93A-E94AEC72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7A0-38CA-489C-9146-08F4D1F2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9DDE-D3C3-4188-853A-49F343BB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B75-18A6-4405-8135-5EF87198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41A-B4D6-4DE4-8350-FB4CF667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7ED-A26C-4F28-BE9B-C081664C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5B0-8A3C-4643-8BFB-3CB61449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9096-BD9D-4ADB-9C26-596A3647DD72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7696080" y="0"/>
            <a:ext cx="1295640" cy="932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2714760" cy="406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6832-A38E-4F6D-82CF-CB395E2376CF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Lab Project present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omputer Game Databas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E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h ( Hyunho Ju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hara ( Taeho Oh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ot ( Joon-Myung Ka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logo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1981080" cy="1425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10640" y="609588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ohhara.postech.ac.kr/~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2541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Target Databas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8 Server, Release 8.0.5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free for educational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C67-1362-4F16-8CC0-2FDA1C7DC1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Interfac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 ( World Wide Web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006560" y="2496960"/>
            <a:ext cx="519588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E18-7A34-4ADA-BEA6-75E2116153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onnectivity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 JDBC Drivers release 8.0.5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evelopment Kit (JDK) 1.2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Servlet Development Kit (JSDK) 2.0 for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513-E21B-45D9-B6C6-ACC2F12D12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Domain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: Computer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oo many g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have difficulties in choos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s also have difficulties in managing games, users and suppli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460-9477-48E5-A8F3-1D0E49ED0F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MileStoneS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417680"/>
            <a:ext cx="5562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                                                     May                                                   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673280"/>
            <a:ext cx="7391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ek                  1        2         3        4        5         6        7        8        9        10       11  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054160"/>
            <a:ext cx="18288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DB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JD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 DB to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DB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ER dia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ild DB with 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 home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054160"/>
            <a:ext cx="54864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724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195640"/>
            <a:ext cx="2262240" cy="17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78480" y="3222720"/>
            <a:ext cx="273060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3795840"/>
            <a:ext cx="2287440" cy="16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27400" y="4160880"/>
            <a:ext cx="1371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4491000"/>
            <a:ext cx="2473200" cy="165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8960" y="5111640"/>
            <a:ext cx="13953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6840" y="5381640"/>
            <a:ext cx="2746440" cy="165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7440" y="5788080"/>
            <a:ext cx="2361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8320" y="6107040"/>
            <a:ext cx="5467320" cy="13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0640" y="2243160"/>
            <a:ext cx="609840" cy="128124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281240"/>
              <a:gd name="textAreaBottom" fmla="*/ 1251720 h 1281240"/>
            </a:gdLst>
            <a:ahLst/>
            <a:rect l="textAreaLeft" t="textAreaTop" r="textAreaRight" b="textAreaBottom"/>
            <a:pathLst>
              <a:path w="21600" h="45366">
                <a:moveTo>
                  <a:pt x="3600" y="0"/>
                </a:moveTo>
                <a:arcTo wR="3600" hR="3600" stAng="16200000" swAng="-5400000"/>
                <a:lnTo>
                  <a:pt x="0" y="41766"/>
                </a:lnTo>
                <a:arcTo wR="3600" hR="3600" stAng="10800000" swAng="-5400000"/>
                <a:lnTo>
                  <a:pt x="18000" y="45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836880"/>
            <a:ext cx="609840" cy="98604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986040"/>
              <a:gd name="textAreaBottom" fmla="*/ 956520 h 986040"/>
            </a:gdLst>
            <a:ahLst/>
            <a:rect l="textAreaLeft" t="textAreaTop" r="textAreaRight" b="textAreaBottom"/>
            <a:pathLst>
              <a:path w="21600" h="34917">
                <a:moveTo>
                  <a:pt x="3600" y="0"/>
                </a:moveTo>
                <a:arcTo wR="3600" hR="3600" stAng="16200000" swAng="-5400000"/>
                <a:lnTo>
                  <a:pt x="0" y="31317"/>
                </a:lnTo>
                <a:arcTo wR="3600" hR="3600" stAng="10800000" swAng="-5400000"/>
                <a:lnTo>
                  <a:pt x="18000" y="3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2440" y="5024520"/>
            <a:ext cx="547560" cy="1307880"/>
          </a:xfrm>
          <a:custGeom>
            <a:avLst/>
            <a:gdLst>
              <a:gd name="textAreaLeft" fmla="*/ 26640 w 547560"/>
              <a:gd name="textAreaRight" fmla="*/ 520920 w 547560"/>
              <a:gd name="textAreaTop" fmla="*/ 26640 h 1307880"/>
              <a:gd name="textAreaBottom" fmla="*/ 1281240 h 1307880"/>
            </a:gdLst>
            <a:ahLst/>
            <a:rect l="textAreaLeft" t="textAreaTop" r="textAreaRight" b="textAreaBottom"/>
            <a:pathLst>
              <a:path w="21600" h="51573">
                <a:moveTo>
                  <a:pt x="3600" y="0"/>
                </a:moveTo>
                <a:arcTo wR="3600" hR="3600" stAng="16200000" swAng="-5400000"/>
                <a:lnTo>
                  <a:pt x="0" y="47973"/>
                </a:lnTo>
                <a:arcTo wR="3600" hR="3600" stAng="10800000" swAng="-5400000"/>
                <a:lnTo>
                  <a:pt x="18000" y="51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6608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4879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2556000"/>
            <a:ext cx="226224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8320" y="2908440"/>
            <a:ext cx="228744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5393-75FE-4938-AFBA-137810225C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8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ER Diagram (1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24" name=""/>
          <p:cNvSpPr/>
          <p:nvPr/>
        </p:nvSpPr>
        <p:spPr>
          <a:xfrm>
            <a:off x="2579760" y="2200320"/>
            <a:ext cx="1377720" cy="3427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7440" y="1660680"/>
            <a:ext cx="846000" cy="242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25640" y="1711440"/>
            <a:ext cx="771480" cy="2300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28880" y="1649520"/>
            <a:ext cx="820800" cy="2538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0080" y="1978200"/>
            <a:ext cx="1168200" cy="3189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94400" y="2200320"/>
            <a:ext cx="1414440" cy="342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many 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0160" y="2406600"/>
            <a:ext cx="871560" cy="2556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64320" y="4017960"/>
            <a:ext cx="96984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29560" y="3508200"/>
            <a:ext cx="771480" cy="3160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77000" y="4054320"/>
            <a:ext cx="808200" cy="279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3720" y="4454640"/>
            <a:ext cx="784440" cy="2667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15960" y="4605480"/>
            <a:ext cx="709560" cy="315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58680" y="4902120"/>
            <a:ext cx="784440" cy="3160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3440" y="5958000"/>
            <a:ext cx="833400" cy="2412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31200" y="5556240"/>
            <a:ext cx="93168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97680" y="5970600"/>
            <a:ext cx="907920" cy="2919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35480" y="5907240"/>
            <a:ext cx="722520" cy="330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26" idx="5"/>
            <a:endCxn id="124" idx="0"/>
          </p:cNvCxnSpPr>
          <p:nvPr/>
        </p:nvCxnSpPr>
        <p:spPr>
          <a:xfrm>
            <a:off x="2584080" y="1917720"/>
            <a:ext cx="685080" cy="264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2" name=""/>
          <p:cNvCxnSpPr>
            <a:stCxn id="125" idx="4"/>
            <a:endCxn id="124" idx="0"/>
          </p:cNvCxnSpPr>
          <p:nvPr/>
        </p:nvCxnSpPr>
        <p:spPr>
          <a:xfrm>
            <a:off x="3250800" y="1912680"/>
            <a:ext cx="18360" cy="268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3" name=""/>
          <p:cNvCxnSpPr>
            <a:stCxn id="127" idx="3"/>
            <a:endCxn id="124" idx="0"/>
          </p:cNvCxnSpPr>
          <p:nvPr/>
        </p:nvCxnSpPr>
        <p:spPr>
          <a:xfrm flipH="1">
            <a:off x="3268800" y="1875960"/>
            <a:ext cx="581400" cy="305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4" name=""/>
          <p:cNvCxnSpPr>
            <a:stCxn id="124" idx="1"/>
            <a:endCxn id="128" idx="6"/>
          </p:cNvCxnSpPr>
          <p:nvPr/>
        </p:nvCxnSpPr>
        <p:spPr>
          <a:xfrm flipH="1" flipV="1">
            <a:off x="2447280" y="2138040"/>
            <a:ext cx="113400" cy="2340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5" name=""/>
          <p:cNvCxnSpPr>
            <a:stCxn id="124" idx="3"/>
            <a:endCxn id="129" idx="2"/>
          </p:cNvCxnSpPr>
          <p:nvPr/>
        </p:nvCxnSpPr>
        <p:spPr>
          <a:xfrm>
            <a:off x="3976200" y="2371320"/>
            <a:ext cx="70884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6" name=""/>
          <p:cNvCxnSpPr>
            <a:stCxn id="124" idx="1"/>
            <a:endCxn id="130" idx="7"/>
          </p:cNvCxnSpPr>
          <p:nvPr/>
        </p:nvCxnSpPr>
        <p:spPr>
          <a:xfrm flipH="1">
            <a:off x="2113920" y="2371320"/>
            <a:ext cx="446760" cy="6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7" name=""/>
          <p:cNvCxnSpPr>
            <a:stCxn id="148" idx="2"/>
            <a:endCxn id="134" idx="0"/>
          </p:cNvCxnSpPr>
          <p:nvPr/>
        </p:nvCxnSpPr>
        <p:spPr>
          <a:xfrm flipH="1">
            <a:off x="815760" y="4135320"/>
            <a:ext cx="600480" cy="310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9" name=""/>
          <p:cNvCxnSpPr>
            <a:stCxn id="148" idx="2"/>
            <a:endCxn id="135" idx="1"/>
          </p:cNvCxnSpPr>
          <p:nvPr/>
        </p:nvCxnSpPr>
        <p:spPr>
          <a:xfrm>
            <a:off x="1415520" y="4134960"/>
            <a:ext cx="204120" cy="506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0" name=""/>
          <p:cNvCxnSpPr>
            <a:stCxn id="148" idx="2"/>
            <a:endCxn id="136" idx="0"/>
          </p:cNvCxnSpPr>
          <p:nvPr/>
        </p:nvCxnSpPr>
        <p:spPr>
          <a:xfrm flipH="1">
            <a:off x="1350720" y="4135320"/>
            <a:ext cx="65520" cy="758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1" name=""/>
          <p:cNvCxnSpPr>
            <a:stCxn id="152" idx="2"/>
            <a:endCxn id="131" idx="0"/>
          </p:cNvCxnSpPr>
          <p:nvPr/>
        </p:nvCxnSpPr>
        <p:spPr>
          <a:xfrm flipH="1">
            <a:off x="6249240" y="3857400"/>
            <a:ext cx="462600" cy="1515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3" name=""/>
          <p:cNvCxnSpPr>
            <a:stCxn id="152" idx="3"/>
            <a:endCxn id="132" idx="2"/>
          </p:cNvCxnSpPr>
          <p:nvPr/>
        </p:nvCxnSpPr>
        <p:spPr>
          <a:xfrm flipV="1">
            <a:off x="7419600" y="3666240"/>
            <a:ext cx="300600" cy="25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4" name=""/>
          <p:cNvCxnSpPr>
            <a:stCxn id="152" idx="2"/>
            <a:endCxn id="133" idx="1"/>
          </p:cNvCxnSpPr>
          <p:nvPr/>
        </p:nvCxnSpPr>
        <p:spPr>
          <a:xfrm>
            <a:off x="6711840" y="3857400"/>
            <a:ext cx="185040" cy="229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5" name=""/>
          <p:cNvCxnSpPr>
            <a:stCxn id="156" idx="2"/>
            <a:endCxn id="140" idx="7"/>
          </p:cNvCxnSpPr>
          <p:nvPr/>
        </p:nvCxnSpPr>
        <p:spPr>
          <a:xfrm flipH="1">
            <a:off x="5851080" y="5520960"/>
            <a:ext cx="294480" cy="42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7" name=""/>
          <p:cNvCxnSpPr>
            <a:stCxn id="156" idx="2"/>
            <a:endCxn id="137" idx="0"/>
          </p:cNvCxnSpPr>
          <p:nvPr/>
        </p:nvCxnSpPr>
        <p:spPr>
          <a:xfrm>
            <a:off x="6145200" y="5521320"/>
            <a:ext cx="286560" cy="4276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8" name=""/>
          <p:cNvCxnSpPr>
            <a:stCxn id="156" idx="2"/>
            <a:endCxn id="139" idx="1"/>
          </p:cNvCxnSpPr>
          <p:nvPr/>
        </p:nvCxnSpPr>
        <p:spPr>
          <a:xfrm>
            <a:off x="6145200" y="5520960"/>
            <a:ext cx="986400" cy="4834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9" name=""/>
          <p:cNvCxnSpPr>
            <a:stCxn id="156" idx="3"/>
            <a:endCxn id="138" idx="2"/>
          </p:cNvCxnSpPr>
          <p:nvPr/>
        </p:nvCxnSpPr>
        <p:spPr>
          <a:xfrm>
            <a:off x="6853320" y="5331960"/>
            <a:ext cx="668880" cy="376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5456160" y="516096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me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0760" y="2827440"/>
            <a:ext cx="137808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24" idx="2"/>
            <a:endCxn id="160" idx="0"/>
          </p:cNvCxnSpPr>
          <p:nvPr/>
        </p:nvCxnSpPr>
        <p:spPr>
          <a:xfrm>
            <a:off x="3268440" y="2561760"/>
            <a:ext cx="981720" cy="251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3398760" y="2619360"/>
            <a:ext cx="6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0120" y="4241880"/>
            <a:ext cx="2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76520" y="453240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75080" y="3224160"/>
            <a:ext cx="137772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24" idx="2"/>
            <a:endCxn id="165" idx="0"/>
          </p:cNvCxnSpPr>
          <p:nvPr/>
        </p:nvCxnSpPr>
        <p:spPr>
          <a:xfrm flipH="1">
            <a:off x="3263400" y="2561760"/>
            <a:ext cx="5760" cy="6483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67" name=""/>
          <p:cNvCxnSpPr>
            <a:stCxn id="164" idx="0"/>
            <a:endCxn id="165" idx="2"/>
          </p:cNvCxnSpPr>
          <p:nvPr/>
        </p:nvCxnSpPr>
        <p:spPr>
          <a:xfrm flipH="1" flipV="1">
            <a:off x="3263040" y="3579120"/>
            <a:ext cx="2520" cy="934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3171960" y="3544920"/>
            <a:ext cx="3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47960" y="294156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20960" y="5595840"/>
            <a:ext cx="784080" cy="3034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57600" y="1773360"/>
            <a:ext cx="895320" cy="3283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ame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24" idx="3"/>
            <a:endCxn id="171" idx="2"/>
          </p:cNvCxnSpPr>
          <p:nvPr/>
        </p:nvCxnSpPr>
        <p:spPr>
          <a:xfrm flipV="1">
            <a:off x="3976560" y="1937880"/>
            <a:ext cx="572400" cy="434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7643880" y="5180040"/>
            <a:ext cx="1179360" cy="2808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ny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56" idx="3"/>
            <a:endCxn id="173" idx="2"/>
          </p:cNvCxnSpPr>
          <p:nvPr/>
        </p:nvCxnSpPr>
        <p:spPr>
          <a:xfrm flipV="1">
            <a:off x="6852960" y="5320440"/>
            <a:ext cx="781560" cy="11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2901960" y="5781600"/>
            <a:ext cx="931680" cy="3542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ff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59320" y="5140440"/>
            <a:ext cx="981000" cy="3538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w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4" idx="2"/>
            <a:endCxn id="170" idx="0"/>
          </p:cNvCxnSpPr>
          <p:nvPr/>
        </p:nvCxnSpPr>
        <p:spPr>
          <a:xfrm flipH="1">
            <a:off x="2312640" y="4892400"/>
            <a:ext cx="953280" cy="69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78" name=""/>
          <p:cNvCxnSpPr>
            <a:stCxn id="164" idx="2"/>
            <a:endCxn id="176" idx="1"/>
          </p:cNvCxnSpPr>
          <p:nvPr/>
        </p:nvCxnSpPr>
        <p:spPr>
          <a:xfrm>
            <a:off x="3265560" y="4892400"/>
            <a:ext cx="437040" cy="291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79" name=""/>
          <p:cNvCxnSpPr>
            <a:stCxn id="164" idx="2"/>
            <a:endCxn id="175" idx="0"/>
          </p:cNvCxnSpPr>
          <p:nvPr/>
        </p:nvCxnSpPr>
        <p:spPr>
          <a:xfrm>
            <a:off x="3265560" y="4892400"/>
            <a:ext cx="103680" cy="880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727200" y="3774960"/>
            <a:ext cx="137772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5400" y="3029040"/>
            <a:ext cx="137808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24" idx="2"/>
            <a:endCxn id="180" idx="0"/>
          </p:cNvCxnSpPr>
          <p:nvPr/>
        </p:nvCxnSpPr>
        <p:spPr>
          <a:xfrm flipH="1">
            <a:off x="1413720" y="2561760"/>
            <a:ext cx="1855080" cy="453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82" name=""/>
          <p:cNvCxnSpPr>
            <a:stCxn id="180" idx="2"/>
            <a:endCxn id="148" idx="0"/>
          </p:cNvCxnSpPr>
          <p:nvPr/>
        </p:nvCxnSpPr>
        <p:spPr>
          <a:xfrm>
            <a:off x="1414440" y="3384360"/>
            <a:ext cx="2160" cy="371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1347840" y="3417840"/>
            <a:ext cx="2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17880" y="2724120"/>
            <a:ext cx="2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26040" y="2911320"/>
            <a:ext cx="1378080" cy="3430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m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24" idx="3"/>
            <a:endCxn id="185" idx="0"/>
          </p:cNvCxnSpPr>
          <p:nvPr/>
        </p:nvCxnSpPr>
        <p:spPr>
          <a:xfrm>
            <a:off x="3976200" y="2371680"/>
            <a:ext cx="2739240" cy="526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87" name=""/>
          <p:cNvCxnSpPr>
            <a:stCxn id="185" idx="2"/>
            <a:endCxn id="152" idx="0"/>
          </p:cNvCxnSpPr>
          <p:nvPr/>
        </p:nvCxnSpPr>
        <p:spPr>
          <a:xfrm flipH="1">
            <a:off x="6711120" y="3268800"/>
            <a:ext cx="3960" cy="210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6089760" y="254484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2080" y="320832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22800" y="349740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81480" y="5703840"/>
            <a:ext cx="957240" cy="303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7"/>
            <a:endCxn id="156" idx="1"/>
          </p:cNvCxnSpPr>
          <p:nvPr/>
        </p:nvCxnSpPr>
        <p:spPr>
          <a:xfrm flipV="1">
            <a:off x="5098680" y="5331600"/>
            <a:ext cx="338760" cy="407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7308720" y="4808520"/>
            <a:ext cx="660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56" idx="3"/>
            <a:endCxn id="192" idx="2"/>
          </p:cNvCxnSpPr>
          <p:nvPr/>
        </p:nvCxnSpPr>
        <p:spPr>
          <a:xfrm flipV="1">
            <a:off x="6852960" y="4960440"/>
            <a:ext cx="446760" cy="372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175280" y="4738680"/>
            <a:ext cx="62208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64" idx="3"/>
            <a:endCxn id="194" idx="1"/>
          </p:cNvCxnSpPr>
          <p:nvPr/>
        </p:nvCxnSpPr>
        <p:spPr>
          <a:xfrm>
            <a:off x="3973320" y="4703760"/>
            <a:ext cx="292680" cy="70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96" name=""/>
          <p:cNvCxnSpPr>
            <a:stCxn id="160" idx="3"/>
            <a:endCxn id="156" idx="0"/>
          </p:cNvCxnSpPr>
          <p:nvPr/>
        </p:nvCxnSpPr>
        <p:spPr>
          <a:xfrm>
            <a:off x="4952880" y="2998440"/>
            <a:ext cx="1192680" cy="21438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3EB-F2C6-431A-AB77-AA638F70AFA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ER Diagram (2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514600"/>
            <a:ext cx="140328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3505320"/>
            <a:ext cx="1403280" cy="4078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8" idx="2"/>
            <a:endCxn id="199" idx="0"/>
          </p:cNvCxnSpPr>
          <p:nvPr/>
        </p:nvCxnSpPr>
        <p:spPr>
          <a:xfrm>
            <a:off x="1844280" y="2941560"/>
            <a:ext cx="1080" cy="550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1898640" y="40593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1000" y="307332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1560" y="4649760"/>
            <a:ext cx="140328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99" idx="2"/>
            <a:endCxn id="203" idx="0"/>
          </p:cNvCxnSpPr>
          <p:nvPr/>
        </p:nvCxnSpPr>
        <p:spPr>
          <a:xfrm flipH="1">
            <a:off x="1842840" y="3927240"/>
            <a:ext cx="2160" cy="7038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1488960" y="5661000"/>
            <a:ext cx="88452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27280" y="5678640"/>
            <a:ext cx="88452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05240" y="569592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0440" y="566244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2"/>
            <a:endCxn id="205" idx="0"/>
          </p:cNvCxnSpPr>
          <p:nvPr/>
        </p:nvCxnSpPr>
        <p:spPr>
          <a:xfrm>
            <a:off x="1842840" y="5076360"/>
            <a:ext cx="89640" cy="575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0" name=""/>
          <p:cNvCxnSpPr>
            <a:stCxn id="203" idx="2"/>
            <a:endCxn id="207" idx="1"/>
          </p:cNvCxnSpPr>
          <p:nvPr/>
        </p:nvCxnSpPr>
        <p:spPr>
          <a:xfrm>
            <a:off x="1843200" y="5076360"/>
            <a:ext cx="792720" cy="6534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1" name=""/>
          <p:cNvCxnSpPr>
            <a:stCxn id="206" idx="1"/>
            <a:endCxn id="203" idx="2"/>
          </p:cNvCxnSpPr>
          <p:nvPr/>
        </p:nvCxnSpPr>
        <p:spPr>
          <a:xfrm flipH="1" flipV="1">
            <a:off x="1842840" y="5076360"/>
            <a:ext cx="1815120" cy="6357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2" name=""/>
          <p:cNvCxnSpPr>
            <a:stCxn id="208" idx="7"/>
            <a:endCxn id="203" idx="2"/>
          </p:cNvCxnSpPr>
          <p:nvPr/>
        </p:nvCxnSpPr>
        <p:spPr>
          <a:xfrm flipV="1">
            <a:off x="1213920" y="5076360"/>
            <a:ext cx="629640" cy="619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4952880" y="2514600"/>
            <a:ext cx="140364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2514600"/>
            <a:ext cx="1403280" cy="4078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98" idx="3"/>
            <a:endCxn id="214" idx="1"/>
          </p:cNvCxnSpPr>
          <p:nvPr/>
        </p:nvCxnSpPr>
        <p:spPr>
          <a:xfrm>
            <a:off x="2565000" y="2719080"/>
            <a:ext cx="46908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6" name=""/>
          <p:cNvCxnSpPr>
            <a:stCxn id="214" idx="3"/>
            <a:endCxn id="213" idx="1"/>
          </p:cNvCxnSpPr>
          <p:nvPr/>
        </p:nvCxnSpPr>
        <p:spPr>
          <a:xfrm>
            <a:off x="4465800" y="2719080"/>
            <a:ext cx="46872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2664000" y="242100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29160" y="2395440"/>
            <a:ext cx="2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07320" y="2820960"/>
            <a:ext cx="1155600" cy="358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ny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11720" y="3440160"/>
            <a:ext cx="88416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0000" y="1727280"/>
            <a:ext cx="85896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9400" y="175248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62920" y="236700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0640" y="177804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1" idx="5"/>
            <a:endCxn id="213" idx="0"/>
          </p:cNvCxnSpPr>
          <p:nvPr/>
        </p:nvCxnSpPr>
        <p:spPr>
          <a:xfrm>
            <a:off x="5143320" y="1990800"/>
            <a:ext cx="511560" cy="505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6" name=""/>
          <p:cNvCxnSpPr>
            <a:stCxn id="222" idx="4"/>
            <a:endCxn id="213" idx="0"/>
          </p:cNvCxnSpPr>
          <p:nvPr/>
        </p:nvCxnSpPr>
        <p:spPr>
          <a:xfrm flipH="1">
            <a:off x="5654160" y="2058480"/>
            <a:ext cx="248400" cy="4374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7" name=""/>
          <p:cNvCxnSpPr>
            <a:stCxn id="224" idx="3"/>
            <a:endCxn id="213" idx="0"/>
          </p:cNvCxnSpPr>
          <p:nvPr/>
        </p:nvCxnSpPr>
        <p:spPr>
          <a:xfrm flipH="1">
            <a:off x="5653800" y="2041200"/>
            <a:ext cx="947160" cy="4546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8" name=""/>
          <p:cNvCxnSpPr>
            <a:stCxn id="223" idx="2"/>
            <a:endCxn id="213" idx="3"/>
          </p:cNvCxnSpPr>
          <p:nvPr/>
        </p:nvCxnSpPr>
        <p:spPr>
          <a:xfrm flipH="1">
            <a:off x="6374520" y="2515680"/>
            <a:ext cx="778680" cy="2041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9" name=""/>
          <p:cNvCxnSpPr>
            <a:stCxn id="219" idx="1"/>
            <a:endCxn id="213" idx="3"/>
          </p:cNvCxnSpPr>
          <p:nvPr/>
        </p:nvCxnSpPr>
        <p:spPr>
          <a:xfrm flipH="1" flipV="1">
            <a:off x="6374880" y="2719080"/>
            <a:ext cx="702720" cy="1447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30" name=""/>
          <p:cNvCxnSpPr>
            <a:stCxn id="220" idx="0"/>
            <a:endCxn id="213" idx="2"/>
          </p:cNvCxnSpPr>
          <p:nvPr/>
        </p:nvCxnSpPr>
        <p:spPr>
          <a:xfrm flipV="1">
            <a:off x="5654160" y="2941200"/>
            <a:ext cx="1080" cy="4896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6429240" y="3340080"/>
            <a:ext cx="88452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1"/>
            <a:endCxn id="213" idx="2"/>
          </p:cNvCxnSpPr>
          <p:nvPr/>
        </p:nvCxnSpPr>
        <p:spPr>
          <a:xfrm flipH="1" flipV="1">
            <a:off x="5654160" y="2941200"/>
            <a:ext cx="905760" cy="4327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6C0-3D7B-4D28-902F-14C26CDEDF0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1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n ( ID, Password )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games ( game name, company name, genre, price, birth date, quality, and so on )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games with several opti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sensitive”, “case insensitive”, “exact match”, “partial match”, “AND” , “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game list, quality, requirement, staff and company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2D9-F5F7-4686-9785-1BA51BFD0A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2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 games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the game list that the user bought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and update the user’s profil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a game freely if the user buy many gam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an email if the new game is inserted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2AD3-5419-433E-B25F-9B971F9612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3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o what the user can do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, insert, delete and update distribute company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delete and update the game, company, staff, quality and requirement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delete and update user and supplie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A5F-CF54-4F9E-B39C-4C6B7C28867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  <a:ea typeface="굴림체"/>
              </a:rPr>
              <a:t>System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54960" y="4913280"/>
            <a:ext cx="1508040" cy="808200"/>
          </a:xfrm>
          <a:prstGeom prst="flowChartMagneticDisk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3279600"/>
            <a:ext cx="1508040" cy="63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13680" y="4019400"/>
            <a:ext cx="485640" cy="806760"/>
          </a:xfrm>
          <a:prstGeom prst="upDownArrow">
            <a:avLst>
              <a:gd name="adj1" fmla="val 50000"/>
              <a:gd name="adj2" fmla="val 3307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63920" y="2573280"/>
            <a:ext cx="143496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11840" y="3227400"/>
            <a:ext cx="606240" cy="766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91160" y="346392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45160" y="372744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35080" y="4286160"/>
            <a:ext cx="1074600" cy="1886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25320" y="1720800"/>
            <a:ext cx="1525680" cy="1736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273320" y="3684600"/>
            <a:ext cx="185760" cy="45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0" y="3665520"/>
            <a:ext cx="185760" cy="458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51080" y="465120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4320" y="513864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927-C78F-472E-926A-71442D1AB79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/>
  <dc:description/>
  <dc:language>en-US</dc:language>
  <cp:lastModifiedBy>Joon-Myung Kang</cp:lastModifiedBy>
  <cp:lastPrinted>1997-02-26T15:00:00Z</cp:lastPrinted>
  <dcterms:modified xsi:type="dcterms:W3CDTF">1999-05-21T06:51:55Z</dcterms:modified>
  <cp:revision>19</cp:revision>
  <dc:subject/>
  <dc:title>Lab Project presentation Computer Game Database</dc:title>
</cp:coreProperties>
</file>