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7825-4EDF-4DEA-8E29-E9F63FEED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F318-A93D-432C-B9E0-466EF809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3B54-362B-4DB2-875C-29BC66C7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88A8-CF04-4222-BE96-168E29288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BC8A-6EBB-456C-AD53-7D9A7964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5672-B9A1-4615-8541-87E78D7E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3C0C-C360-4DEB-8390-0CC486DC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E8A4-ECF4-425A-919A-2FBB551E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D022-8205-4920-AAB8-76A4483A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77CC-EE22-47CF-93D3-89CA5DCE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A359-0D16-495E-9473-470EDCE0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5CAF-3406-4A66-BE98-7391702E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6352-A0C0-4441-821C-4E6AB4B67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19520" y="2971800"/>
            <a:ext cx="2514600" cy="274320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19520" y="914400"/>
            <a:ext cx="3124080" cy="17524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1295280"/>
            <a:ext cx="90972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체"/>
              </a:rPr>
              <a:t>Lear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8120" y="1295280"/>
            <a:ext cx="104760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체"/>
              </a:rPr>
              <a:t>KIF Par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8120" y="2133720"/>
            <a:ext cx="10476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체"/>
              </a:rPr>
              <a:t>Retrie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2057400"/>
            <a:ext cx="1407960" cy="44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체"/>
              </a:rPr>
              <a:t>Recomm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91520" y="1447920"/>
            <a:ext cx="774720" cy="7873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체"/>
              </a:rPr>
              <a:t>K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91320" y="4114800"/>
            <a:ext cx="609480" cy="4856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체"/>
              </a:rPr>
              <a:t>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3581280"/>
            <a:ext cx="11430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체"/>
              </a:rPr>
              <a:t>DB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4419720"/>
            <a:ext cx="97164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체"/>
              </a:rPr>
              <a:t>Par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5181480"/>
            <a:ext cx="11430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체"/>
              </a:rPr>
              <a:t>Web Rob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43680" y="4952880"/>
            <a:ext cx="1347840" cy="685800"/>
          </a:xfrm>
          <a:custGeom>
            <a:avLst/>
            <a:gdLst>
              <a:gd name="textAreaLeft" fmla="*/ 307440 w 1347840"/>
              <a:gd name="textAreaRight" fmla="*/ 1040400 w 134784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체"/>
              </a:rPr>
              <a:t>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0" y="4114800"/>
            <a:ext cx="609480" cy="4842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체"/>
              </a:rPr>
              <a:t>U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848720" y="4086360"/>
            <a:ext cx="609480" cy="4842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체"/>
              </a:rPr>
              <a:t>S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457200"/>
            <a:ext cx="33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6858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523880"/>
            <a:ext cx="8380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35000" y="2133720"/>
            <a:ext cx="3049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9680"/>
            <a:ext cx="129528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927000" cy="826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505320" y="91440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formation Pro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09680" y="3048120"/>
            <a:ext cx="1143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form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a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41911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arch 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2860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1371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11444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1905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05520" y="19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25146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581280" y="25142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6576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65760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190760" y="52578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91120" y="5486400"/>
            <a:ext cx="20574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144792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14479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05720" y="175248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705360" y="1981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1981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71500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077320" y="3429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3429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4852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057400" y="243828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2438280"/>
            <a:ext cx="0" cy="12956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523880" y="373392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4495680"/>
            <a:ext cx="0" cy="838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533412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286000" y="1447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1447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285640" y="2209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286000" y="1980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599840" y="1981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4572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380880"/>
            <a:ext cx="2133720" cy="838440"/>
          </a:xfrm>
          <a:prstGeom prst="cloudCallout">
            <a:avLst>
              <a:gd name="adj1" fmla="val 38319"/>
              <a:gd name="adj2" fmla="val 7613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설문조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User Trac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참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talog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5562720"/>
            <a:ext cx="2286000" cy="685800"/>
          </a:xfrm>
          <a:prstGeom prst="cloudCallout">
            <a:avLst>
              <a:gd name="adj1" fmla="val 14583"/>
              <a:gd name="adj2" fmla="val -8356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 Site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4572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3124080"/>
            <a:ext cx="9144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talog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809880" y="32767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57800" y="342900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809880" y="251424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876920" y="251424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5562720"/>
            <a:ext cx="1600200" cy="990360"/>
          </a:xfrm>
          <a:prstGeom prst="cloudCallout">
            <a:avLst>
              <a:gd name="adj1" fmla="val -78671"/>
              <a:gd name="adj2" fmla="val -14647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327672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7848720" y="22096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3733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3886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7339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35812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4419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057400" y="281952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1295280" y="1066680"/>
            <a:ext cx="7391520" cy="5029200"/>
            <a:chOff x="1295280" y="1066680"/>
            <a:chExt cx="7391520" cy="5029200"/>
          </a:xfrm>
        </p:grpSpPr>
        <p:sp>
          <p:nvSpPr>
            <p:cNvPr id="118" name=""/>
            <p:cNvSpPr/>
            <p:nvPr/>
          </p:nvSpPr>
          <p:spPr>
            <a:xfrm>
              <a:off x="1295280" y="1447920"/>
              <a:ext cx="7391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eek                  1        2         3        4        5         6        7        8        9        10       11      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95280" y="1828800"/>
              <a:ext cx="1828800" cy="426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Times New Roman"/>
                </a:rPr>
                <a:t>KIF Pars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Times New Roman"/>
                </a:rPr>
                <a:t>Knowledge B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Times New Roman"/>
                </a:rPr>
                <a:t>Recommen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Times New Roman"/>
                </a:rPr>
                <a:t>Interface Manag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Times New Roman"/>
                </a:rPr>
                <a:t>Database Ac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Times New Roman"/>
                </a:rPr>
                <a:t>Per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Times New Roman"/>
                </a:rPr>
                <a:t>DB Forma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Times New Roman"/>
                </a:rPr>
                <a:t>Html Pars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Times New Roman"/>
                </a:rPr>
                <a:t>Image Proces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Times New Roman"/>
                </a:rPr>
                <a:t>Catalog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Times New Roman"/>
                </a:rPr>
                <a:t>Web Robo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Times New Roman"/>
                </a:rPr>
                <a:t>Dynamic Search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Times New Roman"/>
                </a:rPr>
                <a:t>Output Forma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00400" y="1828800"/>
              <a:ext cx="5486400" cy="426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57600" y="182880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182880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2000" y="182880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943600" y="182880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00800" y="182880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0" y="182880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15200" y="182880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72400" y="182880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229600" y="182880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24080" y="1066680"/>
              <a:ext cx="5562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pril                                                      May                                                    Ju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029200" y="182880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86400" y="182880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0400" y="1981080"/>
              <a:ext cx="91440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2286000"/>
              <a:ext cx="13716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43600" y="2590920"/>
              <a:ext cx="18288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00400" y="2971800"/>
              <a:ext cx="13716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00400" y="3581280"/>
              <a:ext cx="91440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72000" y="3276720"/>
              <a:ext cx="13716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57600" y="3886200"/>
              <a:ext cx="9144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00400" y="4191120"/>
              <a:ext cx="13716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0" y="4495680"/>
              <a:ext cx="274320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4800600"/>
              <a:ext cx="18288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00400" y="5181480"/>
              <a:ext cx="190476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52880" y="5562720"/>
              <a:ext cx="236232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58000" y="5943600"/>
              <a:ext cx="9144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590920" y="380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lestone / Duties of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1905120"/>
            <a:ext cx="609840" cy="121896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1218960"/>
              <a:gd name="textAreaBottom" fmla="*/ 1189440 h 1218960"/>
            </a:gdLst>
            <a:ahLst/>
            <a:rect l="textAreaLeft" t="textAreaTop" r="textAreaRight" b="textAreaBottom"/>
            <a:pathLst>
              <a:path w="21600" h="43162">
                <a:moveTo>
                  <a:pt x="3600" y="0"/>
                </a:moveTo>
                <a:arcTo wR="3600" hR="3600" stAng="16200000" swAng="-5400000"/>
                <a:lnTo>
                  <a:pt x="0" y="39562"/>
                </a:lnTo>
                <a:arcTo wR="3600" hR="3600" stAng="10800000" swAng="-5400000"/>
                <a:lnTo>
                  <a:pt x="18000" y="431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3276720"/>
            <a:ext cx="609840" cy="83808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838080"/>
              <a:gd name="textAreaBottom" fmla="*/ 808560 h 838080"/>
            </a:gdLst>
            <a:ahLst/>
            <a:rect l="textAreaLeft" t="textAreaTop" r="textAreaRight" b="textAreaBottom"/>
            <a:pathLst>
              <a:path w="21600" h="29679">
                <a:moveTo>
                  <a:pt x="3600" y="0"/>
                </a:moveTo>
                <a:arcTo wR="3600" hR="3600" stAng="16200000" swAng="-5400000"/>
                <a:lnTo>
                  <a:pt x="0" y="26079"/>
                </a:lnTo>
                <a:arcTo wR="3600" hR="3600" stAng="10800000" swAng="-5400000"/>
                <a:lnTo>
                  <a:pt x="18000" y="296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4267080"/>
            <a:ext cx="609840" cy="83844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838440"/>
              <a:gd name="textAreaBottom" fmla="*/ 808920 h 838440"/>
            </a:gdLst>
            <a:ahLst/>
            <a:rect l="textAreaLeft" t="textAreaTop" r="textAreaRight" b="textAreaBottom"/>
            <a:pathLst>
              <a:path w="21600" h="29692">
                <a:moveTo>
                  <a:pt x="3600" y="0"/>
                </a:moveTo>
                <a:arcTo wR="3600" hR="3600" stAng="16200000" swAng="-5400000"/>
                <a:lnTo>
                  <a:pt x="0" y="26092"/>
                </a:lnTo>
                <a:arcTo wR="3600" hR="3600" stAng="10800000" swAng="-5400000"/>
                <a:lnTo>
                  <a:pt x="18000" y="296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5181480"/>
            <a:ext cx="609840" cy="83844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838440"/>
              <a:gd name="textAreaBottom" fmla="*/ 808920 h 838440"/>
            </a:gdLst>
            <a:ahLst/>
            <a:rect l="textAreaLeft" t="textAreaTop" r="textAreaRight" b="textAreaBottom"/>
            <a:pathLst>
              <a:path w="21600" h="29692">
                <a:moveTo>
                  <a:pt x="3600" y="0"/>
                </a:moveTo>
                <a:arcTo wR="3600" hR="3600" stAng="16200000" swAng="-5400000"/>
                <a:lnTo>
                  <a:pt x="0" y="26092"/>
                </a:lnTo>
                <a:arcTo wR="3600" hR="3600" stAng="10800000" swAng="-5400000"/>
                <a:lnTo>
                  <a:pt x="18000" y="296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004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4159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5105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743200" y="5335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2057400"/>
            <a:ext cx="6705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ain: Game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-  Computer game is made by various peo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-  It is difficult that users select game C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-  Out agent is made to user’s conveni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9T06:24:10Z</dcterms:created>
  <dc:creator>conskim</dc:creator>
  <dc:description/>
  <dc:language>en-US</dc:language>
  <cp:lastModifiedBy>conskim</cp:lastModifiedBy>
  <cp:lastPrinted>1999-03-30T01:18:06Z</cp:lastPrinted>
  <dcterms:modified xsi:type="dcterms:W3CDTF">1999-03-30T02:05:59Z</dcterms:modified>
  <cp:revision>36</cp:revision>
  <dc:subject/>
  <dc:title>슬라이드 제목 없음</dc:title>
</cp:coreProperties>
</file>