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A0D-1827-4370-B0AB-9A4931DD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97B-18DE-4288-BFD9-668BEE4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7CC-0A7B-4DEB-B816-C8A994F1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721-BAFD-42C1-B3C6-66DF0C28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3DE-E44B-4B08-8413-1D0F87CB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850E-0F20-41D5-978C-5800B62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4678-2026-4A4B-95F1-039F8CB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EED-B7C3-43D7-A3F5-59B0B9B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9C2-410E-44C8-9CEB-19900D7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76A6-D7B0-4DA5-B6F3-B852A2C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ABD-5549-4DB9-B80F-963B7EDE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54D-F877-41C7-B31F-C762D4C9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591C-0B6E-49E9-AF70-850CBA8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23E0-944D-4577-B82E-1B7DAD9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7C2-B2C8-4A49-A73D-2620BFE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3ABE-20D5-4486-BD44-EF162A9E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28B-0870-4EFF-8663-C4D51192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6BA-3B1C-438C-B2C7-0416FD12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F27-D3B3-4E03-B803-908E4EE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AC2-EED7-4839-AA39-6F4BB00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250-8F27-4CF4-BB3B-F949E0C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F13-56E5-4AC5-9DE7-7E093B46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CE7-E969-4564-BB65-584245C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72C-90A9-48D4-BE74-9A31BEF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35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0040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40240" y="6222960"/>
            <a:ext cx="129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D39-9B03-4210-83CF-F4D5970A7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688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984320" y="6224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03992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85160" y="6248520"/>
            <a:ext cx="137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773-52E3-48B2-A7D6-320D2DD5D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560" y="1066320"/>
            <a:ext cx="616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Game CD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Shopping Aid Agent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Group1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CSE M98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김상수</a:t>
            </a:r>
            <a:endParaRPr b="1" i="1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강준명</a:t>
            </a:r>
            <a:endParaRPr b="1" i="1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정현호</a:t>
            </a:r>
            <a:endParaRPr b="1" i="1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CSE U97 </a:t>
            </a:r>
            <a:r>
              <a:rPr b="1" i="1" lang="ko-KR" sz="2000" spc="-1" strike="noStrike">
                <a:solidFill>
                  <a:srgbClr val="000000"/>
                </a:solidFill>
                <a:latin typeface="굴림"/>
              </a:rPr>
              <a:t>오태호</a:t>
            </a:r>
            <a:endParaRPr b="1" i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440760" y="265284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nd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2741760"/>
            <a:ext cx="254160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3D4-2573-4CB1-8C6E-1DC1C6587B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Web Robot implementation(2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6275520" y="16653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ynamic 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4640" y="3429000"/>
            <a:ext cx="2238480" cy="914400"/>
          </a:xfrm>
          <a:prstGeom prst="irregularSeal2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41280" y="1762200"/>
            <a:ext cx="743040" cy="1859760"/>
            <a:chOff x="341280" y="1762200"/>
            <a:chExt cx="743040" cy="18597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341280" y="1762200"/>
              <a:ext cx="74304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24160" y="32846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13040" y="2179800"/>
            <a:ext cx="1015920" cy="1316520"/>
            <a:chOff x="1913040" y="2179800"/>
            <a:chExt cx="1015920" cy="13165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913040" y="2179800"/>
              <a:ext cx="101592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148840" y="31590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784680" y="2214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24760" y="30481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eb ro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2520" y="4578480"/>
            <a:ext cx="1557360" cy="121428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7" idx="1"/>
            <a:endCxn id="240" idx="1"/>
          </p:cNvCxnSpPr>
          <p:nvPr/>
        </p:nvCxnSpPr>
        <p:spPr>
          <a:xfrm flipH="1" flipV="1" rot="10800000">
            <a:off x="2147400" y="3326400"/>
            <a:ext cx="254880" cy="1251720"/>
          </a:xfrm>
          <a:prstGeom prst="curvedConnector5">
            <a:avLst>
              <a:gd name="adj1" fmla="val -89957"/>
              <a:gd name="adj2" fmla="val 28337"/>
              <a:gd name="adj3" fmla="val -89957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2" name=""/>
          <p:cNvSpPr/>
          <p:nvPr/>
        </p:nvSpPr>
        <p:spPr>
          <a:xfrm>
            <a:off x="1249200" y="2709720"/>
            <a:ext cx="5702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2"/>
            <a:endCxn id="234" idx="2"/>
          </p:cNvCxnSpPr>
          <p:nvPr/>
        </p:nvCxnSpPr>
        <p:spPr>
          <a:xfrm rot="10800000">
            <a:off x="794520" y="3620520"/>
            <a:ext cx="828000" cy="1566000"/>
          </a:xfrm>
          <a:prstGeom prst="curvedConnector2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" name=""/>
          <p:cNvCxnSpPr>
            <a:stCxn id="240" idx="1"/>
            <a:endCxn id="237" idx="3"/>
          </p:cNvCxnSpPr>
          <p:nvPr/>
        </p:nvCxnSpPr>
        <p:spPr>
          <a:xfrm flipH="1" flipV="1" rot="5400000">
            <a:off x="1932480" y="3795840"/>
            <a:ext cx="1251720" cy="313560"/>
          </a:xfrm>
          <a:prstGeom prst="curvedConnector5">
            <a:avLst>
              <a:gd name="adj1" fmla="val 43268"/>
              <a:gd name="adj2" fmla="val 86436"/>
              <a:gd name="adj3" fmla="val 43268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" name=""/>
          <p:cNvSpPr/>
          <p:nvPr/>
        </p:nvSpPr>
        <p:spPr>
          <a:xfrm>
            <a:off x="3133800" y="2701800"/>
            <a:ext cx="5698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5640" y="4114800"/>
            <a:ext cx="914400" cy="65736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6" idx="1"/>
          </p:cNvCxnSpPr>
          <p:nvPr/>
        </p:nvCxnSpPr>
        <p:spPr>
          <a:xfrm flipH="1" flipV="1" rot="10800000">
            <a:off x="3522240" y="3215880"/>
            <a:ext cx="930960" cy="899280"/>
          </a:xfrm>
          <a:prstGeom prst="curvedConnector5">
            <a:avLst>
              <a:gd name="adj1" fmla="val -24564"/>
              <a:gd name="adj2" fmla="val 29675"/>
              <a:gd name="adj3" fmla="val -24564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8" name=""/>
          <p:cNvCxnSpPr>
            <a:stCxn id="246" idx="4"/>
            <a:endCxn id="231" idx="1"/>
          </p:cNvCxnSpPr>
          <p:nvPr/>
        </p:nvCxnSpPr>
        <p:spPr>
          <a:xfrm flipV="1">
            <a:off x="4909680" y="3972960"/>
            <a:ext cx="1615320" cy="470520"/>
          </a:xfrm>
          <a:prstGeom prst="curvedConnector5">
            <a:avLst>
              <a:gd name="adj1" fmla="val 49933"/>
              <a:gd name="adj2" fmla="val 50000"/>
              <a:gd name="adj3" fmla="val 49933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5727600" y="2152800"/>
            <a:ext cx="1670040" cy="54432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31" idx="0"/>
            <a:endCxn id="246" idx="0"/>
          </p:cNvCxnSpPr>
          <p:nvPr/>
        </p:nvCxnSpPr>
        <p:spPr>
          <a:xfrm rot="5400000">
            <a:off x="5605920" y="2354040"/>
            <a:ext cx="772560" cy="3080520"/>
          </a:xfrm>
          <a:prstGeom prst="curvedConnector5">
            <a:avLst>
              <a:gd name="adj1" fmla="val -39906"/>
              <a:gd name="adj2" fmla="val 50000"/>
              <a:gd name="adj3" fmla="val -39906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51" name=""/>
          <p:cNvCxnSpPr>
            <a:stCxn id="249" idx="6"/>
            <a:endCxn id="231" idx="3"/>
          </p:cNvCxnSpPr>
          <p:nvPr/>
        </p:nvCxnSpPr>
        <p:spPr>
          <a:xfrm>
            <a:off x="7397280" y="2425680"/>
            <a:ext cx="1365840" cy="1285200"/>
          </a:xfrm>
          <a:prstGeom prst="curvedConnector5">
            <a:avLst>
              <a:gd name="adj1" fmla="val 116767"/>
              <a:gd name="adj2" fmla="val 49985"/>
              <a:gd name="adj3" fmla="val 116767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2" name=""/>
          <p:cNvCxnSpPr>
            <a:stCxn id="238" idx="6"/>
            <a:endCxn id="249" idx="2"/>
          </p:cNvCxnSpPr>
          <p:nvPr/>
        </p:nvCxnSpPr>
        <p:spPr>
          <a:xfrm flipV="1">
            <a:off x="4698720" y="2425320"/>
            <a:ext cx="1028880" cy="246960"/>
          </a:xfrm>
          <a:prstGeom prst="curvedConnector5">
            <a:avLst>
              <a:gd name="adj1" fmla="val 49982"/>
              <a:gd name="adj2" fmla="val 49927"/>
              <a:gd name="adj3" fmla="val 49982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3" name=""/>
          <p:cNvCxnSpPr>
            <a:stCxn id="231" idx="2"/>
            <a:endCxn id="246" idx="3"/>
          </p:cNvCxnSpPr>
          <p:nvPr/>
        </p:nvCxnSpPr>
        <p:spPr>
          <a:xfrm rot="5400000">
            <a:off x="5816880" y="2860920"/>
            <a:ext cx="546480" cy="3276000"/>
          </a:xfrm>
          <a:prstGeom prst="curvedConnector5">
            <a:avLst>
              <a:gd name="adj1" fmla="val 141924"/>
              <a:gd name="adj2" fmla="val 49994"/>
              <a:gd name="adj3" fmla="val 141924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54" name=""/>
          <p:cNvCxnSpPr>
            <a:stCxn id="231" idx="2"/>
            <a:endCxn id="240" idx="3"/>
          </p:cNvCxnSpPr>
          <p:nvPr/>
        </p:nvCxnSpPr>
        <p:spPr>
          <a:xfrm rot="5400000">
            <a:off x="4280760" y="2346120"/>
            <a:ext cx="1567440" cy="5326920"/>
          </a:xfrm>
          <a:prstGeom prst="curvedConnector5">
            <a:avLst>
              <a:gd name="adj1" fmla="val 114587"/>
              <a:gd name="adj2" fmla="val 50000"/>
              <a:gd name="adj3" fmla="val 114587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sp>
        <p:nvSpPr>
          <p:cNvPr id="255" name=""/>
          <p:cNvSpPr/>
          <p:nvPr/>
        </p:nvSpPr>
        <p:spPr>
          <a:xfrm>
            <a:off x="939600" y="231768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KIF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03920" y="39877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Q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76400" y="37036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0520" y="4344840"/>
            <a:ext cx="123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6" idx="1"/>
            <a:endCxn id="239" idx="3"/>
          </p:cNvCxnSpPr>
          <p:nvPr/>
        </p:nvCxnSpPr>
        <p:spPr>
          <a:xfrm flipH="1" flipV="1" rot="5400000">
            <a:off x="4062600" y="3605400"/>
            <a:ext cx="899280" cy="119880"/>
          </a:xfrm>
          <a:prstGeom prst="curvedConnector5">
            <a:avLst>
              <a:gd name="adj1" fmla="val 40608"/>
              <a:gd name="adj2" fmla="val 145783"/>
              <a:gd name="adj3" fmla="val 40608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0" name=""/>
          <p:cNvSpPr/>
          <p:nvPr/>
        </p:nvSpPr>
        <p:spPr>
          <a:xfrm>
            <a:off x="8072280" y="2987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9280" y="316872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sert 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4952880"/>
            <a:ext cx="1174680" cy="534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Times New Roman"/>
              </a:rPr>
              <a:t>url : hi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3680" y="45720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hitpoint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8120" y="59310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sert information to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6960" y="4038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4943520"/>
            <a:ext cx="1693800" cy="542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$ -- $ com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etting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21337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f “no”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80240" y="5475240"/>
            <a:ext cx="1670040" cy="54468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E29-0CF7-4FA0-8E41-30A669E258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Jess ( Java Expert System Shell )(1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Test completion of rule, function in J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Embedding Jess in a Java Progra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ete class : Containing expert system eng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Jesp class : Jess par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Extending Jess with commands written in 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B3C-0542-4888-9DE7-81B3734CCE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ow to apply to our SA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Inserting rules by Rete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Manipulating output by using </a:t>
            </a:r>
            <a:r>
              <a:rPr b="0" i="1" lang="ko-KR" sz="2800" spc="-1" strike="noStrike" u="sng">
                <a:solidFill>
                  <a:srgbClr val="000000"/>
                </a:solidFill>
                <a:uFillTx/>
                <a:latin typeface="Comic Sans MS"/>
              </a:rPr>
              <a:t>ReteDisplay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send output to java program’s System.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unctions that return input, output, error streams that engine should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unctions that are called by the engine (construct is parsed, fact is asserted, rule is activated, and so for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6858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Jess ( Java Expert System Shell )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974-5121-4972-85FB-C780F49391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Plans until final demo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First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Dynamic searching by using “Search Engin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ule definition by Jes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Second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ecommender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Output by ReteDisplay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Total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D47-4916-48A8-8FD5-DD78350C19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865-0E62-492A-ADA6-B04F4622942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ontents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KIF Parser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Data for recommend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TML parser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JESS survey and ap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plans until final de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255-4E90-44E0-B3AF-39C1BC798B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2971800"/>
            <a:ext cx="2514600" cy="251460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914400"/>
            <a:ext cx="3124080" cy="17524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295280"/>
            <a:ext cx="9097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Lear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295280"/>
            <a:ext cx="10476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IF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133720"/>
            <a:ext cx="1047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tri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057400"/>
            <a:ext cx="140796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comm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447920"/>
            <a:ext cx="774720" cy="787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114800"/>
            <a:ext cx="609480" cy="48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581280"/>
            <a:ext cx="114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B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9716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876920"/>
            <a:ext cx="1143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tatic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43680" y="4952880"/>
            <a:ext cx="1347840" cy="685800"/>
          </a:xfrm>
          <a:custGeom>
            <a:avLst/>
            <a:gdLst>
              <a:gd name="textAreaLeft" fmla="*/ 307440 w 1347840"/>
              <a:gd name="textAreaRight" fmla="*/ 1040400 w 13478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411480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086360"/>
            <a:ext cx="609480" cy="484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572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600200"/>
            <a:ext cx="6858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523880"/>
            <a:ext cx="838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35000" y="2133720"/>
            <a:ext cx="3049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09680"/>
            <a:ext cx="12952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927000" cy="82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914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04812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91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1371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6765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1444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1600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600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1905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905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5146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81280" y="251424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1447920"/>
            <a:ext cx="12193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447920"/>
            <a:ext cx="1440" cy="304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1752480"/>
            <a:ext cx="68580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705360" y="19810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1981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715000" y="22860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77320" y="3429000"/>
            <a:ext cx="144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429000"/>
            <a:ext cx="144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733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7400" y="2438280"/>
            <a:ext cx="9907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438280"/>
            <a:ext cx="1440" cy="129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3880" y="373392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600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86000" y="14475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4479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285640" y="2209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0" y="1980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99840" y="19810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57200"/>
            <a:ext cx="144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80880"/>
            <a:ext cx="2133720" cy="838440"/>
          </a:xfrm>
          <a:prstGeom prst="cloudCallout">
            <a:avLst>
              <a:gd name="adj1" fmla="val 38319"/>
              <a:gd name="adj2" fmla="val 761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문조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User Tra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talog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943600"/>
            <a:ext cx="2286000" cy="685800"/>
          </a:xfrm>
          <a:prstGeom prst="cloudCallout">
            <a:avLst>
              <a:gd name="adj1" fmla="val 14583"/>
              <a:gd name="adj2" fmla="val -835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Site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457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124080"/>
            <a:ext cx="9144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880" y="32767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3429000"/>
            <a:ext cx="2819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09880" y="2514240"/>
            <a:ext cx="1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76920" y="2514240"/>
            <a:ext cx="14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276720"/>
            <a:ext cx="25909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48720" y="2209680"/>
            <a:ext cx="144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73392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8862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3886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73392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581280"/>
            <a:ext cx="144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419720"/>
            <a:ext cx="7621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57400" y="2819520"/>
            <a:ext cx="28195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99" idx="3"/>
            <a:endCxn id="100" idx="0"/>
          </p:cNvCxnSpPr>
          <p:nvPr/>
        </p:nvCxnSpPr>
        <p:spPr>
          <a:xfrm>
            <a:off x="4204800" y="5067000"/>
            <a:ext cx="1839240" cy="229320"/>
          </a:xfrm>
          <a:prstGeom prst="curvedConnector5">
            <a:avLst>
              <a:gd name="adj1" fmla="val 49569"/>
              <a:gd name="adj2" fmla="val 50000"/>
              <a:gd name="adj3" fmla="val 49569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00" idx="1"/>
            <a:endCxn id="99" idx="3"/>
          </p:cNvCxnSpPr>
          <p:nvPr/>
        </p:nvCxnSpPr>
        <p:spPr>
          <a:xfrm flipV="1" rot="16200000">
            <a:off x="5175360" y="4095720"/>
            <a:ext cx="572040" cy="2513520"/>
          </a:xfrm>
          <a:prstGeom prst="curvedConnector5">
            <a:avLst>
              <a:gd name="adj1" fmla="val -39987"/>
              <a:gd name="adj2" fmla="val 31829"/>
              <a:gd name="adj3" fmla="val -39987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0" name=""/>
          <p:cNvSpPr/>
          <p:nvPr/>
        </p:nvSpPr>
        <p:spPr>
          <a:xfrm>
            <a:off x="1295280" y="5334120"/>
            <a:ext cx="13716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체"/>
              </a:rPr>
              <a:t>Dynamic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11" idx="2"/>
            <a:endCxn id="160" idx="0"/>
          </p:cNvCxnSpPr>
          <p:nvPr/>
        </p:nvCxnSpPr>
        <p:spPr>
          <a:xfrm flipH="1" rot="16200000">
            <a:off x="1263240" y="4602600"/>
            <a:ext cx="824760" cy="610200"/>
          </a:xfrm>
          <a:prstGeom prst="curvedConnector5">
            <a:avLst>
              <a:gd name="adj1" fmla="val 50829"/>
              <a:gd name="adj2" fmla="val 50000"/>
              <a:gd name="adj3" fmla="val 50829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60" idx="3"/>
            <a:endCxn id="100" idx="2"/>
          </p:cNvCxnSpPr>
          <p:nvPr/>
        </p:nvCxnSpPr>
        <p:spPr>
          <a:xfrm>
            <a:off x="2681280" y="5524200"/>
            <a:ext cx="4037760" cy="114840"/>
          </a:xfrm>
          <a:prstGeom prst="curvedConnector5">
            <a:avLst>
              <a:gd name="adj1" fmla="val 41444"/>
              <a:gd name="adj2" fmla="val 262893"/>
              <a:gd name="adj3" fmla="val 41444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3352680" y="4572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962520" y="457164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9625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396216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114440" y="4419360"/>
            <a:ext cx="213372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2286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J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A9B-FF60-4CC9-A93A-907EC9C0AEB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KIF Parser implementation 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3959280" y="3774960"/>
            <a:ext cx="1965240" cy="1214640"/>
          </a:xfrm>
          <a:prstGeom prst="can">
            <a:avLst>
              <a:gd name="adj" fmla="val 35162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3800" y="2165400"/>
            <a:ext cx="1719000" cy="914400"/>
          </a:xfrm>
          <a:prstGeom prst="roundRect">
            <a:avLst>
              <a:gd name="adj" fmla="val 34204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32560" y="5270400"/>
            <a:ext cx="1582920" cy="795600"/>
          </a:xfrm>
          <a:prstGeom prst="flowChartDisplay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4044960"/>
            <a:ext cx="1965600" cy="5824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3080" y="2224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46280" y="3265560"/>
            <a:ext cx="485640" cy="668160"/>
          </a:xfrm>
          <a:prstGeom prst="downArrow">
            <a:avLst>
              <a:gd name="adj1" fmla="val 50000"/>
              <a:gd name="adj2" fmla="val 34396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33560" y="4133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10806600">
            <a:off x="6231240" y="4355640"/>
            <a:ext cx="1523880" cy="809640"/>
          </a:xfrm>
          <a:custGeom>
            <a:avLst/>
            <a:gdLst>
              <a:gd name="textAreaLeft" fmla="*/ 712080 w 1523880"/>
              <a:gd name="textAreaRight" fmla="*/ 1305000 w 1523880"/>
              <a:gd name="textAreaTop" fmla="*/ 543960 h 809640"/>
              <a:gd name="textAreaBottom" fmla="*/ 6933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17612"/>
                </a:moveTo>
                <a:lnTo>
                  <a:pt x="14508" y="17612"/>
                </a:lnTo>
                <a:lnTo>
                  <a:pt x="14508" y="10094"/>
                </a:lnTo>
                <a:lnTo>
                  <a:pt x="11404" y="10094"/>
                </a:lnTo>
                <a:lnTo>
                  <a:pt x="16502" y="0"/>
                </a:lnTo>
                <a:lnTo>
                  <a:pt x="21600" y="10094"/>
                </a:lnTo>
                <a:lnTo>
                  <a:pt x="18496" y="10094"/>
                </a:lnTo>
                <a:lnTo>
                  <a:pt x="184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0920" y="472428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d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7920" y="38512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4960" y="54864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31600" y="396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lect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84960" y="1752480"/>
            <a:ext cx="1768320" cy="1695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137680" y="32767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ing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733920" y="2638440"/>
            <a:ext cx="2133360" cy="485640"/>
          </a:xfrm>
          <a:prstGeom prst="rightArrow">
            <a:avLst>
              <a:gd name="adj1" fmla="val 50000"/>
              <a:gd name="adj2" fmla="val 109822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4952880"/>
            <a:ext cx="1371600" cy="914400"/>
          </a:xfrm>
          <a:prstGeom prst="cloudCallout">
            <a:avLst>
              <a:gd name="adj1" fmla="val 56597"/>
              <a:gd name="adj2" fmla="val -69620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t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4DF-F2F0-46FA-8A71-EF5770605E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Data for Recommender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Examination of individual characteri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he number of initial users  : 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Items : name, age, price, job, career, genre, sex, system, characteris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ividing into 15 groups by price and gen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ecomme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Inserting rules by Jess (Java Expert System Shel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ecommending the proper games to user by price and gen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Current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User DB is construc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BC0-2F8D-4DA8-9A8C-1FE17888A6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HTML Parser implementation(1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TML Par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previous : implemented by Pe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current : implementation by Java for oursel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General html parser implementation (making syntax tree about htm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specialized several parsers implementation for gathering proper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1DE-3D40-487C-A22C-4E461C1D9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HTML Parser implementation(2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704880" y="1546200"/>
            <a:ext cx="1211400" cy="914400"/>
          </a:xfrm>
          <a:prstGeom prst="irregularSeal1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43760" y="163980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ic information g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38560" y="2351160"/>
            <a:ext cx="1309680" cy="914400"/>
          </a:xfrm>
          <a:custGeom>
            <a:avLst/>
            <a:gdLst>
              <a:gd name="textAreaLeft" fmla="*/ 0 w 1309680"/>
              <a:gd name="textAreaRight" fmla="*/ 1310040 w 13096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0"/>
            <a:endCxn id="191" idx="3"/>
          </p:cNvCxnSpPr>
          <p:nvPr/>
        </p:nvCxnSpPr>
        <p:spPr>
          <a:xfrm flipV="1" rot="16200000">
            <a:off x="2754000" y="1269360"/>
            <a:ext cx="302400" cy="1978560"/>
          </a:xfrm>
          <a:prstGeom prst="curvedConnector2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5" name=""/>
          <p:cNvCxnSpPr>
            <a:stCxn id="191" idx="2"/>
            <a:endCxn id="193" idx="1"/>
          </p:cNvCxnSpPr>
          <p:nvPr/>
        </p:nvCxnSpPr>
        <p:spPr>
          <a:xfrm flipH="1" rot="16200000">
            <a:off x="2034720" y="1605600"/>
            <a:ext cx="348480" cy="2057760"/>
          </a:xfrm>
          <a:prstGeom prst="curvedConnector2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11360" y="4554360"/>
            <a:ext cx="1090800" cy="12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88800" y="572148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yntax tree of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3" idx="2"/>
            <a:endCxn id="196" idx="0"/>
          </p:cNvCxnSpPr>
          <p:nvPr/>
        </p:nvCxnSpPr>
        <p:spPr>
          <a:xfrm rot="5400000">
            <a:off x="2801520" y="3462120"/>
            <a:ext cx="1348200" cy="837360"/>
          </a:xfrm>
          <a:prstGeom prst="curvedConnector5">
            <a:avLst>
              <a:gd name="adj1" fmla="val 52163"/>
              <a:gd name="adj2" fmla="val 49978"/>
              <a:gd name="adj3" fmla="val 52163"/>
            </a:avLst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9" name=""/>
          <p:cNvSpPr/>
          <p:nvPr/>
        </p:nvSpPr>
        <p:spPr>
          <a:xfrm>
            <a:off x="4514760" y="3686040"/>
            <a:ext cx="1285920" cy="609840"/>
          </a:xfrm>
          <a:prstGeom prst="flowChartAlternateProcess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560" y="4557600"/>
            <a:ext cx="1285920" cy="609840"/>
          </a:xfrm>
          <a:prstGeom prst="flowChartAlternateProcess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9400" y="5427720"/>
            <a:ext cx="1285920" cy="609480"/>
          </a:xfrm>
          <a:prstGeom prst="flowChartAlternateProcess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686040"/>
            <a:ext cx="1706760" cy="1735200"/>
          </a:xfrm>
          <a:prstGeom prst="flowChartMagneticDisk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6" idx="3"/>
            <a:endCxn id="199" idx="1"/>
          </p:cNvCxnSpPr>
          <p:nvPr/>
        </p:nvCxnSpPr>
        <p:spPr>
          <a:xfrm flipV="1">
            <a:off x="3601800" y="3990240"/>
            <a:ext cx="913320" cy="1188360"/>
          </a:xfrm>
          <a:prstGeom prst="curvedConnector5">
            <a:avLst>
              <a:gd name="adj1" fmla="val 49881"/>
              <a:gd name="adj2" fmla="val 50000"/>
              <a:gd name="adj3" fmla="val 49881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04" name=""/>
          <p:cNvCxnSpPr>
            <a:stCxn id="196" idx="3"/>
            <a:endCxn id="200" idx="1"/>
          </p:cNvCxnSpPr>
          <p:nvPr/>
        </p:nvCxnSpPr>
        <p:spPr>
          <a:xfrm flipV="1">
            <a:off x="3601800" y="4862160"/>
            <a:ext cx="942120" cy="316800"/>
          </a:xfrm>
          <a:prstGeom prst="curvedConnector5">
            <a:avLst>
              <a:gd name="adj1" fmla="val 49885"/>
              <a:gd name="adj2" fmla="val 49943"/>
              <a:gd name="adj3" fmla="val 49885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05" name=""/>
          <p:cNvCxnSpPr>
            <a:stCxn id="196" idx="3"/>
            <a:endCxn id="201" idx="1"/>
          </p:cNvCxnSpPr>
          <p:nvPr/>
        </p:nvCxnSpPr>
        <p:spPr>
          <a:xfrm>
            <a:off x="3601800" y="5178240"/>
            <a:ext cx="957960" cy="554760"/>
          </a:xfrm>
          <a:prstGeom prst="curvedConnector5">
            <a:avLst>
              <a:gd name="adj1" fmla="val 49887"/>
              <a:gd name="adj2" fmla="val 50000"/>
              <a:gd name="adj3" fmla="val 49887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06" name=""/>
          <p:cNvCxnSpPr>
            <a:stCxn id="199" idx="3"/>
            <a:endCxn id="202" idx="2"/>
          </p:cNvCxnSpPr>
          <p:nvPr/>
        </p:nvCxnSpPr>
        <p:spPr>
          <a:xfrm>
            <a:off x="5800680" y="3990600"/>
            <a:ext cx="1040400" cy="5641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07" name=""/>
          <p:cNvCxnSpPr>
            <a:stCxn id="200" idx="3"/>
            <a:endCxn id="202" idx="2"/>
          </p:cNvCxnSpPr>
          <p:nvPr/>
        </p:nvCxnSpPr>
        <p:spPr>
          <a:xfrm flipV="1">
            <a:off x="5829480" y="4554000"/>
            <a:ext cx="1011600" cy="30888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208" name=""/>
          <p:cNvCxnSpPr>
            <a:stCxn id="201" idx="3"/>
            <a:endCxn id="202" idx="2"/>
          </p:cNvCxnSpPr>
          <p:nvPr/>
        </p:nvCxnSpPr>
        <p:spPr>
          <a:xfrm flipV="1">
            <a:off x="5845320" y="4553640"/>
            <a:ext cx="995760" cy="1179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sp>
        <p:nvSpPr>
          <p:cNvPr id="209" name=""/>
          <p:cNvSpPr/>
          <p:nvPr/>
        </p:nvSpPr>
        <p:spPr>
          <a:xfrm>
            <a:off x="2592000" y="1752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86280" y="275256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9600" y="3178080"/>
            <a:ext cx="2498760" cy="2041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Age Of Empires - Ris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ome Expan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et______________ Windows 95/98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no_attribu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By:______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Microsoft Price: US$22.21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attribu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href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/cdshop/desc/p.659556004804.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[Click here for more info]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lt;RELEASE DATE:July 28, 1998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68640" y="5699160"/>
            <a:ext cx="2151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name, pr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, release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808360" y="3871440"/>
            <a:ext cx="604800" cy="25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8160" y="2809800"/>
            <a:ext cx="1793880" cy="71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Age Of Empires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:22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: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:July 28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259680" y="3525480"/>
            <a:ext cx="296640" cy="692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4BD-F35E-4687-880B-7FC648600B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19520" y="2209680"/>
            <a:ext cx="1523880" cy="609840"/>
          </a:xfrm>
          <a:prstGeom prst="flowChartAlternateProcess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ess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124080"/>
            <a:ext cx="1523880" cy="609840"/>
          </a:xfrm>
          <a:prstGeom prst="flowChartAlternateProcess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ess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057400"/>
            <a:ext cx="1309680" cy="914400"/>
          </a:xfrm>
          <a:custGeom>
            <a:avLst/>
            <a:gdLst>
              <a:gd name="textAreaLeft" fmla="*/ 0 w 1309680"/>
              <a:gd name="textAreaRight" fmla="*/ 1310040 w 13096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나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직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971800"/>
            <a:ext cx="1309680" cy="914400"/>
          </a:xfrm>
          <a:custGeom>
            <a:avLst/>
            <a:gdLst>
              <a:gd name="textAreaLeft" fmla="*/ 0 w 1309680"/>
              <a:gd name="textAreaRight" fmla="*/ 1310040 w 13096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취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성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3"/>
            <a:endCxn id="216" idx="1"/>
          </p:cNvCxnSpPr>
          <p:nvPr/>
        </p:nvCxnSpPr>
        <p:spPr>
          <a:xfrm>
            <a:off x="1995120" y="2514240"/>
            <a:ext cx="824760" cy="10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3"/>
            <a:endCxn id="217" idx="1"/>
          </p:cNvCxnSpPr>
          <p:nvPr/>
        </p:nvCxnSpPr>
        <p:spPr>
          <a:xfrm>
            <a:off x="1995120" y="3428640"/>
            <a:ext cx="824760" cy="10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5111640" y="2246400"/>
            <a:ext cx="1670040" cy="54432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격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6" idx="2"/>
            <a:endCxn id="217" idx="0"/>
          </p:cNvCxnSpPr>
          <p:nvPr/>
        </p:nvCxnSpPr>
        <p:spPr>
          <a:xfrm flipV="1" rot="10800000">
            <a:off x="3580560" y="2819160"/>
            <a:ext cx="1080" cy="3052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5181480" y="3152880"/>
            <a:ext cx="1670040" cy="54432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쟝르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6" idx="3"/>
            <a:endCxn id="222" idx="2"/>
          </p:cNvCxnSpPr>
          <p:nvPr/>
        </p:nvCxnSpPr>
        <p:spPr>
          <a:xfrm>
            <a:off x="4343400" y="2514240"/>
            <a:ext cx="768960" cy="5400"/>
          </a:xfrm>
          <a:prstGeom prst="bentConnector3">
            <a:avLst>
              <a:gd name="adj1" fmla="val 49976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7" idx="3"/>
            <a:endCxn id="224" idx="2"/>
          </p:cNvCxnSpPr>
          <p:nvPr/>
        </p:nvCxnSpPr>
        <p:spPr>
          <a:xfrm flipV="1">
            <a:off x="4343400" y="3425040"/>
            <a:ext cx="838800" cy="3960"/>
          </a:xfrm>
          <a:prstGeom prst="bentConnector3">
            <a:avLst>
              <a:gd name="adj1" fmla="val 49978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38B-4965-4832-B912-EA0CF80DA6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Web Robot implementation(1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Web rob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previous : not impleme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current : dynamic searching robot implemented by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rst of all, searching web sites of URL 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Next, searching web sites by search eng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me CD SAA/group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19A-833C-4E97-9602-B56BB0283D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9T07:37:19Z</dcterms:created>
  <dc:creator>eliot</dc:creator>
  <dc:description/>
  <dc:language>en-US</dc:language>
  <cp:lastModifiedBy>ukkwon</cp:lastModifiedBy>
  <cp:lastPrinted>1999-05-27T04:59:15Z</cp:lastPrinted>
  <dcterms:modified xsi:type="dcterms:W3CDTF">1999-06-16T06:47:51Z</dcterms:modified>
  <cp:revision>46</cp:revision>
  <dc:subject/>
  <dc:title>Game CD Shopping Aid Agent</dc:title>
</cp:coreProperties>
</file>