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624638" cy="9810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9241-1BD8-4528-9FA7-129B17B7F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000000"/>
              </a:solidFill>
              <a:uFillTx/>
              <a:latin typeface="Impac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76D2-F5BD-49A1-B520-0C46E229B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000000"/>
              </a:solidFill>
              <a:uFillTx/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596C-54E5-497A-B9EE-368AE567E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000000"/>
              </a:solidFill>
              <a:uFillTx/>
              <a:latin typeface="Impac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1699-1B3B-4433-BD3D-52C98A3C3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7580E-0B2E-4899-8023-463037E2E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000000"/>
              </a:solidFill>
              <a:uFillTx/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44265-BAA4-4B22-A437-D8F509E9E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000000"/>
              </a:solidFill>
              <a:uFillTx/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8B711-F206-4F77-ABE4-109587D61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000000"/>
              </a:solidFill>
              <a:uFillTx/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CA018-B323-4B33-A95F-73FC31CA3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000000"/>
              </a:solidFill>
              <a:uFillTx/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C4732-1C27-438C-9805-D049A17BD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A2911-11A5-49F1-ABA7-A0ECC45C2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000000"/>
              </a:solidFill>
              <a:uFillTx/>
              <a:latin typeface="Impac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939CF-13E2-47AF-9072-066DFFF0B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000000"/>
              </a:solidFill>
              <a:uFillTx/>
              <a:latin typeface="Impac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83DC-D68F-4DFC-B00D-15E8E20F9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000000"/>
              </a:solidFill>
              <a:uFillTx/>
              <a:latin typeface="Impac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BA6B7-5CFD-49DE-8ECE-7A84EBE01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000000"/>
              </a:solidFill>
              <a:uFillTx/>
              <a:latin typeface="Impac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4EA1F-852A-4556-865A-ABF06646E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000000"/>
              </a:solidFill>
              <a:uFillTx/>
              <a:latin typeface="Impac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B00A7-83E5-4000-9A04-AB4401F2A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000000"/>
              </a:solidFill>
              <a:uFillTx/>
              <a:latin typeface="Impac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2AEE3-59FE-452C-AD74-CE88E8EE3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000000"/>
              </a:solidFill>
              <a:uFillTx/>
              <a:latin typeface="Impac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79145-D4EE-43EE-A1E1-AFD18DA05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000000"/>
              </a:solidFill>
              <a:uFillTx/>
              <a:latin typeface="Impac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7412-77EC-4B13-9E9C-B06017948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000000"/>
              </a:solidFill>
              <a:uFillTx/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9235-655B-4567-BF44-4D4609C93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000000"/>
              </a:solidFill>
              <a:uFillTx/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A962-781B-438A-A544-1E7CFB014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553A-68B8-415A-8851-240279482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000000"/>
              </a:solidFill>
              <a:uFillTx/>
              <a:latin typeface="Impac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CAFF-83AB-4FC3-B326-6E3530385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000000"/>
              </a:solidFill>
              <a:uFillTx/>
              <a:latin typeface="Impac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575C-9EF8-426F-9F02-D3D4AD186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000000"/>
              </a:solidFill>
              <a:uFillTx/>
              <a:latin typeface="Impac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6EA0-564B-4B19-81A6-0ACF6AFA6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-3240"/>
            <a:ext cx="5006880" cy="6861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Impact"/>
              </a:rPr>
              <a:t>Click to edit the title text format</a:t>
            </a:r>
            <a:endParaRPr b="1" lang="en-US" sz="3200" spc="-1" strike="noStrike" u="sng">
              <a:solidFill>
                <a:srgbClr val="000000"/>
              </a:solidFill>
              <a:uFillTx/>
              <a:latin typeface="Impac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035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4100400" y="62355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140240" y="6222960"/>
            <a:ext cx="1298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315C0-AA2E-473E-8BB3-800D965E39F5}" type="slidenum"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/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006880" cy="68612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Impact"/>
              </a:rPr>
              <a:t>Click to edit the title text format</a:t>
            </a:r>
            <a:endParaRPr b="1" lang="en-US" sz="3200" spc="-1" strike="noStrike" u="sng">
              <a:solidFill>
                <a:srgbClr val="000000"/>
              </a:solidFill>
              <a:uFillTx/>
              <a:latin typeface="Impac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1984320" y="62247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4039920" y="6237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7085160" y="6248520"/>
            <a:ext cx="1373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A3B72-C444-41FA-9368-45A193BAAC44}" type="slidenum"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1" i="1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Impact"/>
              </a:rPr>
              <a:t>Game CD</a:t>
            </a:r>
            <a:br>
              <a:rPr sz="3200"/>
            </a:br>
            <a:r>
              <a:rPr b="1" lang="en-US" sz="3200" spc="-1" strike="noStrike" u="sng">
                <a:solidFill>
                  <a:srgbClr val="000000"/>
                </a:solidFill>
                <a:uFillTx/>
                <a:latin typeface="Impact"/>
              </a:rPr>
              <a:t>Shopping Aid Agent</a:t>
            </a:r>
            <a:endParaRPr b="1" lang="en-US" sz="3200" spc="-1" strike="noStrike" u="sng">
              <a:solidFill>
                <a:srgbClr val="000000"/>
              </a:solidFill>
              <a:uFillTx/>
              <a:latin typeface="Impac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굴림"/>
              </a:rPr>
              <a:t>Group1</a:t>
            </a:r>
            <a:endParaRPr b="1" i="1" lang="en-US" sz="28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굴림"/>
              </a:rPr>
              <a:t>CSE M98 </a:t>
            </a:r>
            <a:r>
              <a:rPr b="1" i="1" lang="ko-KR" sz="1800" spc="-1" strike="noStrike">
                <a:solidFill>
                  <a:srgbClr val="000000"/>
                </a:solidFill>
                <a:latin typeface="굴림"/>
              </a:rPr>
              <a:t>김상수</a:t>
            </a:r>
            <a:endParaRPr b="1" i="1" lang="en-US" sz="18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굴림"/>
              </a:rPr>
              <a:t>CSE U97 </a:t>
            </a:r>
            <a:r>
              <a:rPr b="1" i="1" lang="ko-KR" sz="1800" spc="-1" strike="noStrike">
                <a:solidFill>
                  <a:srgbClr val="000000"/>
                </a:solidFill>
                <a:latin typeface="굴림"/>
              </a:rPr>
              <a:t>강준명</a:t>
            </a:r>
            <a:endParaRPr b="1" i="1" lang="en-US" sz="18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굴림"/>
              </a:rPr>
              <a:t>CSE U97 </a:t>
            </a:r>
            <a:r>
              <a:rPr b="1" i="1" lang="ko-KR" sz="1800" spc="-1" strike="noStrike">
                <a:solidFill>
                  <a:srgbClr val="000000"/>
                </a:solidFill>
                <a:latin typeface="굴림"/>
              </a:rPr>
              <a:t>정현호</a:t>
            </a:r>
            <a:endParaRPr b="1" i="1" lang="en-US" sz="18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굴림"/>
              </a:rPr>
              <a:t>CSE U97 </a:t>
            </a:r>
            <a:r>
              <a:rPr b="1" i="1" lang="ko-KR" sz="1800" spc="-1" strike="noStrike">
                <a:solidFill>
                  <a:srgbClr val="000000"/>
                </a:solidFill>
                <a:latin typeface="굴림"/>
              </a:rPr>
              <a:t>오태호</a:t>
            </a:r>
            <a:endParaRPr b="1" i="1" lang="en-US" sz="18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752480" y="2741760"/>
            <a:ext cx="2541600" cy="2500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6175080" y="2666880"/>
            <a:ext cx="251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inal pres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Impact"/>
              </a:rPr>
              <a:t>Conclusion</a:t>
            </a:r>
            <a:endParaRPr b="1" lang="en-US" sz="3200" spc="-1" strike="noStrike" u="sng">
              <a:solidFill>
                <a:srgbClr val="000000"/>
              </a:solidFill>
              <a:uFillTx/>
              <a:latin typeface="Impac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Improvemen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KIF pars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Knowledge Base ( using JESS 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ynamic Searching ( web robot 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TML parser ( by Java , tree structure 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BMS ( using oracle 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Future work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mproving dynamic searching metho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mproving recommender syste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tailing user inform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me CD SAA/group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FD26-2BF4-4ACB-904F-31702CA95C1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9-06-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Impact"/>
              </a:rPr>
              <a:t>Contents</a:t>
            </a:r>
            <a:endParaRPr b="1" lang="en-US" sz="3200" spc="-1" strike="noStrike" u="sng">
              <a:solidFill>
                <a:srgbClr val="000000"/>
              </a:solidFill>
              <a:uFillTx/>
              <a:latin typeface="Impac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ystem Architectu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nal result( current situation 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monstr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xamination of individual characteristic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KIF input and query outpu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commend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atalogue Manag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ynamic search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me CD SAA/group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BBE3-B95B-4A58-B17A-15E2F7B4D99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9-06-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819520" y="2971800"/>
            <a:ext cx="2514600" cy="2514600"/>
          </a:xfrm>
          <a:prstGeom prst="flowChartAlternateProcess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914400"/>
            <a:ext cx="3124080" cy="1752480"/>
          </a:xfrm>
          <a:prstGeom prst="flowChartAlternateProcess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048120" y="1295280"/>
            <a:ext cx="1047600" cy="366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바탕체"/>
              </a:rPr>
              <a:t>KIF Par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8120" y="2133720"/>
            <a:ext cx="104760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바탕체"/>
              </a:rPr>
              <a:t>Retrie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2057400"/>
            <a:ext cx="1407960" cy="44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바탕체"/>
              </a:rPr>
              <a:t>Recomm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391520" y="1447920"/>
            <a:ext cx="774720" cy="78732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바탕체"/>
              </a:rPr>
              <a:t>K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791320" y="4114800"/>
            <a:ext cx="609480" cy="48564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바탕체"/>
              </a:rPr>
              <a:t>D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8120" y="3581280"/>
            <a:ext cx="11430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바탕체"/>
              </a:rPr>
              <a:t>DBcontrol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124080" y="4191120"/>
            <a:ext cx="971640" cy="37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바탕체"/>
              </a:rPr>
              <a:t>Par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048120" y="4876920"/>
            <a:ext cx="1143000" cy="3808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바탕체"/>
              </a:rPr>
              <a:t>Static Robo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043680" y="4952880"/>
            <a:ext cx="1347840" cy="685800"/>
          </a:xfrm>
          <a:custGeom>
            <a:avLst/>
            <a:gdLst>
              <a:gd name="textAreaLeft" fmla="*/ 307440 w 1347840"/>
              <a:gd name="textAreaRight" fmla="*/ 1040400 w 1347840"/>
              <a:gd name="textAreaTop" fmla="*/ 156600 h 685800"/>
              <a:gd name="textAreaBottom" fmla="*/ 5292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바탕체"/>
              </a:rPr>
              <a:t>W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0" y="4114800"/>
            <a:ext cx="609480" cy="48420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바탕체"/>
              </a:rPr>
              <a:t>UD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848720" y="4086360"/>
            <a:ext cx="609480" cy="48420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바탕체"/>
              </a:rPr>
              <a:t>SD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219320" y="457200"/>
            <a:ext cx="335268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38080" y="1600200"/>
            <a:ext cx="68580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62120" y="1523880"/>
            <a:ext cx="83808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035000" y="2133720"/>
            <a:ext cx="3049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3520" y="2209680"/>
            <a:ext cx="129528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762120" y="3429000"/>
            <a:ext cx="927000" cy="8269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3505320" y="914400"/>
            <a:ext cx="190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formation Provi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209680" y="3048120"/>
            <a:ext cx="1143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forma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Gath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09480" y="4191120"/>
            <a:ext cx="15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arch 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09480" y="228600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eb Brow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581280" y="1676520"/>
            <a:ext cx="18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4114440" y="2286000"/>
            <a:ext cx="2286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114800" y="1600200"/>
            <a:ext cx="228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1600200"/>
            <a:ext cx="14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343400" y="1905120"/>
            <a:ext cx="762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05520" y="1905120"/>
            <a:ext cx="14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352680" y="2514600"/>
            <a:ext cx="18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3581280" y="2514240"/>
            <a:ext cx="18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6705360" y="1981080"/>
            <a:ext cx="6858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05720" y="1981080"/>
            <a:ext cx="14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5715000" y="2286000"/>
            <a:ext cx="9907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077320" y="3429000"/>
            <a:ext cx="1440" cy="68580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3429000"/>
            <a:ext cx="1440" cy="68580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248520" y="373392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2057400" y="2438280"/>
            <a:ext cx="990720" cy="180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057400" y="2438280"/>
            <a:ext cx="1440" cy="129564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1523880" y="3733920"/>
            <a:ext cx="533520" cy="144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600200" y="1600200"/>
            <a:ext cx="685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2286000" y="1447560"/>
            <a:ext cx="14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0" y="1447920"/>
            <a:ext cx="7621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2285640" y="2209680"/>
            <a:ext cx="7621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2286000" y="198072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1599840" y="1981080"/>
            <a:ext cx="6858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217520" y="457200"/>
            <a:ext cx="1800" cy="10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943600" y="380880"/>
            <a:ext cx="2133720" cy="838440"/>
          </a:xfrm>
          <a:prstGeom prst="cloudCallout">
            <a:avLst>
              <a:gd name="adj1" fmla="val 38319"/>
              <a:gd name="adj2" fmla="val 76134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설문조사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r Trace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참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alogu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6019920"/>
            <a:ext cx="2286000" cy="685800"/>
          </a:xfrm>
          <a:prstGeom prst="cloudCallout">
            <a:avLst>
              <a:gd name="adj1" fmla="val 14583"/>
              <a:gd name="adj2" fmla="val -83564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ynamic Site Searc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371600" y="45720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343400" y="3124080"/>
            <a:ext cx="91440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talog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3809880" y="3276720"/>
            <a:ext cx="53352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257800" y="3429000"/>
            <a:ext cx="281952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3809880" y="2514240"/>
            <a:ext cx="1800" cy="7621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876920" y="2514240"/>
            <a:ext cx="1440" cy="6094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257800" y="3276720"/>
            <a:ext cx="259092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7848720" y="2209680"/>
            <a:ext cx="1440" cy="10670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91120" y="3733920"/>
            <a:ext cx="20574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191120" y="3886200"/>
            <a:ext cx="182880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9920" y="388620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248520" y="3733920"/>
            <a:ext cx="182880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029200" y="3581280"/>
            <a:ext cx="1440" cy="838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029200" y="4419720"/>
            <a:ext cx="76212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2057400" y="2819520"/>
            <a:ext cx="281952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4" name=""/>
          <p:cNvCxnSpPr>
            <a:stCxn id="99" idx="3"/>
            <a:endCxn id="100" idx="0"/>
          </p:cNvCxnSpPr>
          <p:nvPr/>
        </p:nvCxnSpPr>
        <p:spPr>
          <a:xfrm>
            <a:off x="4204800" y="5067000"/>
            <a:ext cx="1839240" cy="229320"/>
          </a:xfrm>
          <a:prstGeom prst="curvedConnector5">
            <a:avLst>
              <a:gd name="adj1" fmla="val 49569"/>
              <a:gd name="adj2" fmla="val 50000"/>
              <a:gd name="adj3" fmla="val 49569"/>
            </a:avLst>
          </a:prstGeom>
          <a:ln cap="sq"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55" name=""/>
          <p:cNvCxnSpPr>
            <a:stCxn id="100" idx="1"/>
            <a:endCxn id="99" idx="3"/>
          </p:cNvCxnSpPr>
          <p:nvPr/>
        </p:nvCxnSpPr>
        <p:spPr>
          <a:xfrm flipV="1" rot="16200000">
            <a:off x="5175360" y="4095720"/>
            <a:ext cx="572040" cy="2513520"/>
          </a:xfrm>
          <a:prstGeom prst="curvedConnector5">
            <a:avLst>
              <a:gd name="adj1" fmla="val -39987"/>
              <a:gd name="adj2" fmla="val 31829"/>
              <a:gd name="adj3" fmla="val -39987"/>
            </a:avLst>
          </a:prstGeom>
          <a:ln cap="sq" w="1260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56" name=""/>
          <p:cNvSpPr/>
          <p:nvPr/>
        </p:nvSpPr>
        <p:spPr>
          <a:xfrm>
            <a:off x="1295280" y="5334120"/>
            <a:ext cx="1371600" cy="3808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바탕체"/>
              </a:rPr>
              <a:t>Dynamic Robo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7" name=""/>
          <p:cNvCxnSpPr>
            <a:stCxn id="111" idx="2"/>
            <a:endCxn id="156" idx="0"/>
          </p:cNvCxnSpPr>
          <p:nvPr/>
        </p:nvCxnSpPr>
        <p:spPr>
          <a:xfrm flipH="1" rot="16200000">
            <a:off x="1263240" y="4602600"/>
            <a:ext cx="824760" cy="610200"/>
          </a:xfrm>
          <a:prstGeom prst="curvedConnector5">
            <a:avLst>
              <a:gd name="adj1" fmla="val 50829"/>
              <a:gd name="adj2" fmla="val 50000"/>
              <a:gd name="adj3" fmla="val 50829"/>
            </a:avLst>
          </a:prstGeom>
          <a:ln cap="sq"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58" name=""/>
          <p:cNvCxnSpPr>
            <a:stCxn id="156" idx="3"/>
            <a:endCxn id="100" idx="2"/>
          </p:cNvCxnSpPr>
          <p:nvPr/>
        </p:nvCxnSpPr>
        <p:spPr>
          <a:xfrm>
            <a:off x="2681280" y="5524200"/>
            <a:ext cx="4037760" cy="114840"/>
          </a:xfrm>
          <a:prstGeom prst="curvedConnector5">
            <a:avLst>
              <a:gd name="adj1" fmla="val 41444"/>
              <a:gd name="adj2" fmla="val 262893"/>
              <a:gd name="adj3" fmla="val 41444"/>
            </a:avLst>
          </a:prstGeom>
          <a:ln cap="sq" w="1260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59" name=""/>
          <p:cNvSpPr/>
          <p:nvPr/>
        </p:nvSpPr>
        <p:spPr>
          <a:xfrm>
            <a:off x="3352680" y="4572000"/>
            <a:ext cx="0" cy="30492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962520" y="4571640"/>
            <a:ext cx="0" cy="30492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352680" y="3962520"/>
            <a:ext cx="0" cy="22860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962520" y="3962160"/>
            <a:ext cx="0" cy="22860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 flipV="1">
            <a:off x="4114440" y="4419360"/>
            <a:ext cx="2133720" cy="60948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315200" y="228600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me CD SAA/group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16EC-3C37-4673-A4FF-A6CFB463CBD7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9-06-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Impact"/>
              </a:rPr>
              <a:t>Examination of individual characteristic</a:t>
            </a:r>
            <a:endParaRPr b="1" lang="en-US" sz="3200" spc="-1" strike="noStrike" u="sng">
              <a:solidFill>
                <a:srgbClr val="000000"/>
              </a:solidFill>
              <a:uFillTx/>
              <a:latin typeface="Impact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828800" y="1295280"/>
            <a:ext cx="5943600" cy="4959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me CD SAA/group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C856-883C-4E50-AF06-9DC435250B3A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9-06-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Impact"/>
              </a:rPr>
              <a:t>KIF input and query output ( 1 )</a:t>
            </a:r>
            <a:endParaRPr b="1" lang="en-US" sz="3200" spc="-1" strike="noStrike" u="sng">
              <a:solidFill>
                <a:srgbClr val="000000"/>
              </a:solidFill>
              <a:uFillTx/>
              <a:latin typeface="Impact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066680" y="1752480"/>
            <a:ext cx="4924440" cy="4481640"/>
          </a:xfrm>
          <a:prstGeom prst="rect">
            <a:avLst/>
          </a:prstGeom>
          <a:ln w="0">
            <a:noFill/>
          </a:ln>
        </p:spPr>
      </p:pic>
      <p:grpSp>
        <p:nvGrpSpPr>
          <p:cNvPr id="169" name=""/>
          <p:cNvGrpSpPr/>
          <p:nvPr/>
        </p:nvGrpSpPr>
        <p:grpSpPr>
          <a:xfrm>
            <a:off x="2209680" y="4724280"/>
            <a:ext cx="6629400" cy="990720"/>
            <a:chOff x="2209680" y="4724280"/>
            <a:chExt cx="6629400" cy="990720"/>
          </a:xfrm>
        </p:grpSpPr>
        <p:sp>
          <p:nvSpPr>
            <p:cNvPr id="170" name=""/>
            <p:cNvSpPr/>
            <p:nvPr/>
          </p:nvSpPr>
          <p:spPr>
            <a:xfrm>
              <a:off x="2209680" y="5029200"/>
              <a:ext cx="838440" cy="304920"/>
            </a:xfrm>
            <a:prstGeom prst="rightArrow">
              <a:avLst>
                <a:gd name="adj1" fmla="val 50000"/>
                <a:gd name="adj2" fmla="val 68743"/>
              </a:avLst>
            </a:prstGeom>
            <a:solidFill>
              <a:srgbClr val="ffcc99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276720" y="4724280"/>
              <a:ext cx="5562360" cy="99072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ELECT id, name, genre, TO_CHAR(birth, 'YYYY/MM/DD'), price, site, company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ROM joec_game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WHERE id = id AND UPPER(name) LIKE UPPER('%Army%') AND price&gt;10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AND TO_CHAR(birth, 'YYYY') =199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281680" y="4800600"/>
              <a:ext cx="535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que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me CD SAA/group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0884-8265-412C-B5F5-E7F0185C8E20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9-06-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Impact"/>
              </a:rPr>
              <a:t>KIF input and query output ( 2 )</a:t>
            </a:r>
            <a:endParaRPr b="1" lang="en-US" sz="3200" spc="-1" strike="noStrike" u="sng">
              <a:solidFill>
                <a:srgbClr val="000000"/>
              </a:solidFill>
              <a:uFillTx/>
              <a:latin typeface="Impact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8182080" cy="457524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2743200" y="3549600"/>
            <a:ext cx="609480" cy="457200"/>
          </a:xfrm>
          <a:prstGeom prst="ellipse">
            <a:avLst/>
          </a:prstGeom>
          <a:noFill/>
          <a:ln cap="sq"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799160" y="3473280"/>
            <a:ext cx="1274760" cy="565200"/>
          </a:xfrm>
          <a:prstGeom prst="ellipse">
            <a:avLst/>
          </a:prstGeom>
          <a:noFill/>
          <a:ln cap="sq"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048120" y="4648320"/>
            <a:ext cx="2361960" cy="4572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ist of query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8" name=""/>
          <p:cNvCxnSpPr>
            <a:stCxn id="177" idx="0"/>
            <a:endCxn id="175" idx="4"/>
          </p:cNvCxnSpPr>
          <p:nvPr/>
        </p:nvCxnSpPr>
        <p:spPr>
          <a:xfrm flipH="1" flipV="1">
            <a:off x="3047400" y="4025160"/>
            <a:ext cx="1181880" cy="62316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79" name=""/>
          <p:cNvCxnSpPr>
            <a:stCxn id="177" idx="0"/>
            <a:endCxn id="176" idx="4"/>
          </p:cNvCxnSpPr>
          <p:nvPr/>
        </p:nvCxnSpPr>
        <p:spPr>
          <a:xfrm flipV="1">
            <a:off x="4228920" y="4057200"/>
            <a:ext cx="1208520" cy="59112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me CD SAA/group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224F-956F-482E-9762-9537FEFB49F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9-06-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Impact"/>
              </a:rPr>
              <a:t>Recommender</a:t>
            </a:r>
            <a:endParaRPr b="1" lang="en-US" sz="3200" spc="-1" strike="noStrike" u="sng">
              <a:solidFill>
                <a:srgbClr val="000000"/>
              </a:solidFill>
              <a:uFillTx/>
              <a:latin typeface="Impact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066680" y="1676520"/>
            <a:ext cx="6519960" cy="45720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7162920" y="2666880"/>
            <a:ext cx="1523880" cy="1219320"/>
          </a:xfrm>
          <a:prstGeom prst="rect">
            <a:avLst/>
          </a:prstGeom>
          <a:solidFill>
            <a:srgbClr val="99ff99"/>
          </a:solidFill>
          <a:ln cap="sq"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3366ff"/>
                </a:solidFill>
                <a:uFillTx/>
                <a:latin typeface="Times New Roman"/>
              </a:rPr>
              <a:t>User inf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ff33cc"/>
                </a:solidFill>
                <a:uFillTx/>
                <a:latin typeface="Times New Roman"/>
              </a:rPr>
              <a:t>age</a:t>
            </a: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 : twen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ff33cc"/>
                </a:solidFill>
                <a:uFillTx/>
                <a:latin typeface="Times New Roman"/>
              </a:rPr>
              <a:t>job</a:t>
            </a: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 : salarym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ff33cc"/>
                </a:solidFill>
                <a:uFillTx/>
                <a:latin typeface="Times New Roman"/>
              </a:rPr>
              <a:t>hobby</a:t>
            </a: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 : comp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ff33cc"/>
                </a:solidFill>
                <a:uFillTx/>
                <a:latin typeface="Times New Roman"/>
              </a:rPr>
              <a:t>character</a:t>
            </a: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 : cal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4984920" y="3429000"/>
            <a:ext cx="2939400" cy="2362320"/>
            <a:chOff x="4984920" y="3429000"/>
            <a:chExt cx="2939400" cy="2362320"/>
          </a:xfrm>
        </p:grpSpPr>
        <p:sp>
          <p:nvSpPr>
            <p:cNvPr id="184" name=""/>
            <p:cNvSpPr/>
            <p:nvPr/>
          </p:nvSpPr>
          <p:spPr>
            <a:xfrm>
              <a:off x="4984920" y="3429000"/>
              <a:ext cx="1295280" cy="2362320"/>
            </a:xfrm>
            <a:prstGeom prst="ellipse">
              <a:avLst/>
            </a:prstGeom>
            <a:noFill/>
            <a:ln cap="sq"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85" name=""/>
            <p:cNvCxnSpPr>
              <a:stCxn id="182" idx="2"/>
              <a:endCxn id="184" idx="6"/>
            </p:cNvCxnSpPr>
            <p:nvPr/>
          </p:nvCxnSpPr>
          <p:spPr>
            <a:xfrm rot="5400000">
              <a:off x="6749280" y="3435120"/>
              <a:ext cx="724680" cy="1626120"/>
            </a:xfrm>
            <a:prstGeom prst="bentConnector2">
              <a:avLst/>
            </a:prstGeom>
            <a:ln cap="sq" w="28440">
              <a:solidFill>
                <a:srgbClr val="ff0000"/>
              </a:solidFill>
              <a:miter/>
              <a:tailEnd len="sm" type="triangle" w="sm"/>
            </a:ln>
          </p:spPr>
        </p:cxn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me CD SAA/group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6910-3B20-49D7-93FE-B423CA9028AE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9-06-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Impact"/>
              </a:rPr>
              <a:t>Catalogue Manager</a:t>
            </a:r>
            <a:endParaRPr b="1" lang="en-US" sz="3200" spc="-1" strike="noStrike" u="sng">
              <a:solidFill>
                <a:srgbClr val="000000"/>
              </a:solidFill>
              <a:uFillTx/>
              <a:latin typeface="Impact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752480" y="1676520"/>
            <a:ext cx="6096240" cy="4527360"/>
          </a:xfrm>
          <a:prstGeom prst="rect">
            <a:avLst/>
          </a:prstGeom>
          <a:ln w="0">
            <a:noFill/>
          </a:ln>
        </p:spPr>
      </p:pic>
      <p:grpSp>
        <p:nvGrpSpPr>
          <p:cNvPr id="188" name=""/>
          <p:cNvGrpSpPr/>
          <p:nvPr/>
        </p:nvGrpSpPr>
        <p:grpSpPr>
          <a:xfrm>
            <a:off x="1592280" y="3492360"/>
            <a:ext cx="4732200" cy="2070360"/>
            <a:chOff x="1592280" y="3492360"/>
            <a:chExt cx="4732200" cy="2070360"/>
          </a:xfrm>
        </p:grpSpPr>
        <p:sp>
          <p:nvSpPr>
            <p:cNvPr id="189" name=""/>
            <p:cNvSpPr/>
            <p:nvPr/>
          </p:nvSpPr>
          <p:spPr>
            <a:xfrm>
              <a:off x="4299120" y="3492360"/>
              <a:ext cx="2025360" cy="2070360"/>
            </a:xfrm>
            <a:prstGeom prst="ellipse">
              <a:avLst/>
            </a:prstGeom>
            <a:noFill/>
            <a:ln cap="sq"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592280" y="3962520"/>
              <a:ext cx="1066680" cy="1218960"/>
            </a:xfrm>
            <a:prstGeom prst="ellipse">
              <a:avLst/>
            </a:prstGeom>
            <a:noFill/>
            <a:ln cap="sq"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me CD SAA/group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282E-83C9-41AF-80BB-4AE45E23FB06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9-06-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Impact"/>
              </a:rPr>
              <a:t>Dynamic searching</a:t>
            </a:r>
            <a:endParaRPr b="1" lang="en-US" sz="3200" spc="-1" strike="noStrike" u="sng">
              <a:solidFill>
                <a:srgbClr val="000000"/>
              </a:solidFill>
              <a:uFillTx/>
              <a:latin typeface="Impact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1143000" y="1676520"/>
            <a:ext cx="6215040" cy="43592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4419720" y="2514600"/>
            <a:ext cx="4505040" cy="1085760"/>
          </a:xfrm>
          <a:prstGeom prst="rect">
            <a:avLst/>
          </a:prstGeom>
          <a:ln cap="sq" w="12600">
            <a:solidFill>
              <a:srgbClr val="3333cc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194" name=""/>
          <p:cNvSpPr/>
          <p:nvPr/>
        </p:nvSpPr>
        <p:spPr>
          <a:xfrm>
            <a:off x="1968480" y="3267000"/>
            <a:ext cx="1066680" cy="685800"/>
          </a:xfrm>
          <a:prstGeom prst="irregularSeal1">
            <a:avLst/>
          </a:prstGeom>
          <a:noFill/>
          <a:ln cap="sq"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4419720" y="3809880"/>
            <a:ext cx="4524120" cy="1476360"/>
            <a:chOff x="4419720" y="3809880"/>
            <a:chExt cx="4524120" cy="1476360"/>
          </a:xfrm>
        </p:grpSpPr>
        <p:pic>
          <p:nvPicPr>
            <p:cNvPr id="196" name="" descr=""/>
            <p:cNvPicPr/>
            <p:nvPr/>
          </p:nvPicPr>
          <p:blipFill>
            <a:blip r:embed="rId3"/>
            <a:stretch/>
          </p:blipFill>
          <p:spPr>
            <a:xfrm>
              <a:off x="4419720" y="4495680"/>
              <a:ext cx="4524120" cy="790560"/>
            </a:xfrm>
            <a:prstGeom prst="rect">
              <a:avLst/>
            </a:prstGeom>
            <a:ln cap="sq" w="12600">
              <a:solidFill>
                <a:srgbClr val="3333cc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</p:pic>
        <p:sp>
          <p:nvSpPr>
            <p:cNvPr id="197" name=""/>
            <p:cNvSpPr/>
            <p:nvPr/>
          </p:nvSpPr>
          <p:spPr>
            <a:xfrm>
              <a:off x="6651720" y="3809880"/>
              <a:ext cx="0" cy="533520"/>
            </a:xfrm>
            <a:prstGeom prst="line">
              <a:avLst/>
            </a:prstGeom>
            <a:ln cap="sq" w="572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me CD SAA/group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F0C5-E4AA-4F51-817F-F186F7E92F6D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9-06-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16T07:39:33Z</dcterms:created>
  <dc:creator>ukkwon</dc:creator>
  <dc:description/>
  <dc:language>en-US</dc:language>
  <cp:lastModifiedBy>eliot</cp:lastModifiedBy>
  <cp:lastPrinted>1999-06-17T05:20:19Z</cp:lastPrinted>
  <dcterms:modified xsi:type="dcterms:W3CDTF">1999-06-17T05:20:46Z</dcterms:modified>
  <cp:revision>7</cp:revision>
  <dc:subject/>
  <dc:title>Game CD Shopping Aid Agent</dc:title>
</cp:coreProperties>
</file>