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E661-6746-4F2C-841D-6FFB1306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15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B15C-929D-48F9-80AB-7D6F7DD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999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45EB-6835-4532-9C58-4FF0169A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07520" y="152352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14560" y="152352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007520" y="398664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514560" y="398664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AA84-5641-45BC-821A-D5D5C868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11AE-F271-407C-861B-AA017519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9CD-257D-4A61-865E-D406CEE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4396-7A73-4601-B827-8D4D16D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04DF-B20C-4703-8A22-9525C895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FB3-629E-4DA7-9DB5-13E4FF4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52388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0F62-359D-49DF-BB69-01C70D39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864E-885C-4EC1-9963-012BF943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E2AB-F156-4A26-8703-012CE555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999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BCCB-96C4-40DF-BCE7-6FA15F4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15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E27-CED6-4D09-B578-AE75215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15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0A95-B82D-4246-A28F-BE38E4D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2999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4962-BE86-4B4E-8480-4A8F462A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07520" y="152352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14560" y="152352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007520" y="398664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14560" y="3986640"/>
            <a:ext cx="238752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DA76-7A6D-4280-BFF1-C9762B27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CB24-36BB-49F4-8454-E21FBA3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5BC5-BC55-4530-BD0E-867ABAF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164C-A171-4C11-9B04-CB3D99B2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2388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592C-F9B2-48D1-AA80-3B10CBC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1F14-7F94-41BC-B1E9-1607CDA0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99920" y="398664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1E9E-69D8-4BD4-BD36-11D14BE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99920" y="1523520"/>
            <a:ext cx="36183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15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18E8-38FA-41CB-B7DF-F7EFACD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360" y="624852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91520" y="624852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4A9E-25E5-41BB-92EB-6E55F9D90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dt" idx="3"/>
          </p:nvPr>
        </p:nvSpPr>
        <p:spPr>
          <a:xfrm>
            <a:off x="1676520" y="6248520"/>
            <a:ext cx="14097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1294920"/>
            <a:ext cx="60991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276360" y="61722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7391520" y="617220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DDD4-F9B7-4DE9-B091-C0037FBDA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7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7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920" y="10663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C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pping Aid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Group1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CSE M98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김상수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CSE U97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강준명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CSE U97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정현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CSE U97 </a:t>
            </a:r>
            <a:r>
              <a:rPr b="0" lang="ko-KR" sz="2000" spc="-1" strike="noStrike">
                <a:solidFill>
                  <a:srgbClr val="333300"/>
                </a:solidFill>
                <a:latin typeface="Arial"/>
              </a:rPr>
              <a:t>오태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0040" y="265284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00"/>
                </a:solidFill>
                <a:uFillTx/>
                <a:latin typeface="Times New Roman"/>
              </a:rPr>
              <a:t>1st present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96960" y="2741760"/>
            <a:ext cx="254160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B927-46A8-4613-B5EF-1F287D9D30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What is </a:t>
            </a:r>
            <a:r>
              <a:rPr b="1" i="1" lang="ko-KR" sz="3200" spc="-1" strike="noStrike" u="sng">
                <a:solidFill>
                  <a:srgbClr val="333300"/>
                </a:solidFill>
                <a:uFillTx/>
                <a:latin typeface="Arial"/>
              </a:rPr>
              <a:t>JESS</a:t>
            </a: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The Java Expert System Shel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Features of </a:t>
            </a:r>
            <a:r>
              <a:rPr b="1" i="1" lang="ko-KR" sz="3200" spc="-1" strike="noStrike" u="sng">
                <a:solidFill>
                  <a:srgbClr val="333300"/>
                </a:solidFill>
                <a:uFillTx/>
                <a:latin typeface="Arial"/>
              </a:rPr>
              <a:t>JES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00"/>
                </a:solidFill>
                <a:latin typeface="Arial"/>
              </a:rPr>
              <a:t>development of rule-based expert systems written in Java language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00"/>
                </a:solidFill>
                <a:latin typeface="Arial"/>
              </a:rPr>
              <a:t>the ability to manipulate and directly reason about java objects to CLIPS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00"/>
                </a:solidFill>
                <a:latin typeface="Arial"/>
              </a:rPr>
              <a:t>powerful Java scripting environment, from which you can create Java objects and call Java methods without compiling any Java code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9C89-BA2F-4A85-AD63-7FB971D066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Milestone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KIF parser Analysi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HTML parser Analysi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DB implementation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Web robot Analysi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JESS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B2AF-CFD4-4DB3-A567-68A679C91A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ilestone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943600" cy="4071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05520" y="1523880"/>
            <a:ext cx="0" cy="4496040"/>
          </a:xfrm>
          <a:prstGeom prst="line">
            <a:avLst/>
          </a:prstGeom>
          <a:ln cap="sq" w="38160">
            <a:solidFill>
              <a:srgbClr val="33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304920"/>
            <a:ext cx="2590560" cy="1066680"/>
          </a:xfrm>
          <a:prstGeom prst="cloudCallout">
            <a:avLst>
              <a:gd name="adj1" fmla="val -44976"/>
              <a:gd name="adj2" fmla="val 71129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1st present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514600"/>
            <a:ext cx="685800" cy="0"/>
          </a:xfrm>
          <a:prstGeom prst="line">
            <a:avLst/>
          </a:prstGeom>
          <a:ln cap="sq"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27200" y="4064040"/>
            <a:ext cx="685800" cy="0"/>
          </a:xfrm>
          <a:prstGeom prst="line">
            <a:avLst/>
          </a:prstGeom>
          <a:ln cap="sq"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343400"/>
            <a:ext cx="685800" cy="0"/>
          </a:xfrm>
          <a:prstGeom prst="line">
            <a:avLst/>
          </a:prstGeom>
          <a:ln cap="sq"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43040" y="5089680"/>
            <a:ext cx="685800" cy="0"/>
          </a:xfrm>
          <a:prstGeom prst="line">
            <a:avLst/>
          </a:prstGeom>
          <a:ln cap="sq"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1585-BDE7-4529-8E6C-F4B00C166B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F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KIF form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64160" y="1971720"/>
            <a:ext cx="6723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form&gt; ::= &lt;sentence&gt; | &lt;definition&gt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	</a:t>
            </a: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sentences are used to express facts about the worl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	</a:t>
            </a: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definitions are used to define constants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sentence&gt; ::= &lt;equation&gt; | &lt;logsent&gt; | &lt;quantsent&gt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equation&gt; ::= (= &lt;term&gt; &lt;term&gt;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logsent&gt; ::= (and &lt;sentence&gt;*) | (or &lt;sentence&gt;*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quantsent&gt; ::= (forall &lt;indvar&gt; &lt;sentence&gt;) | (exists &lt;indvar&gt; &lt;sentence&gt;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term&gt; ::= &lt;indvar&gt; | &lt;objconst&gt; | &lt;listterm&gt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indvar&gt; ::= a word beginning with the character ?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seqvar&gt; ::= a word beginning with the character @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objconst&gt; ::= a word denoting an object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&lt;listterm&gt; ::= (listof &lt;term&gt;* [&lt;seqvar&gt;]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operator are used in forming complex expressions of various sorts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Operator ::= sentop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sentop ::= = | not | and | or | =&gt; | </a:t>
            </a:r>
            <a:r>
              <a:rPr b="1" sz="1600" spc="-1" strike="noStrike">
                <a:solidFill>
                  <a:srgbClr val="333300"/>
                </a:solidFill>
                <a:latin typeface="Wingdings"/>
                <a:ea typeface="Wingdings"/>
              </a:rPr>
              <a:t></a:t>
            </a:r>
            <a:r>
              <a:rPr b="1" lang="ko-KR" sz="1600" spc="-1" strike="noStrike">
                <a:solidFill>
                  <a:srgbClr val="333300"/>
                </a:solidFill>
                <a:latin typeface="Times New Roman"/>
                <a:ea typeface="바탕체"/>
              </a:rPr>
              <a:t> | forall | exists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80CE-5A23-4FE6-B7BA-3B7715344B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KIF parser ( Cont’d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50800" y="1994040"/>
            <a:ext cx="741528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" y="2901960"/>
            <a:ext cx="7837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(exists ?x (= ?y ’Blizzard')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parsing :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게임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CD – x, Blizzard – y = “   “, connective[] = null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(forall ?x (and (= ?y “Blizzard”) (= ?z 1998))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parsing :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게임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CD – x, Blizzard – y = “   “,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년도 –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z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	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	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= 1998, connective[] = an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00"/>
              </a:buClr>
              <a:buFont typeface="바탕체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사용자 질의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(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게임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CD 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검색…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00"/>
              </a:buClr>
              <a:buFont typeface="바탕체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catalogue manager</a:t>
            </a:r>
            <a:r>
              <a:rPr b="1" lang="ko-KR" sz="1600" spc="-1" strike="noStrike">
                <a:solidFill>
                  <a:srgbClr val="333300"/>
                </a:solidFill>
                <a:latin typeface="바탕체"/>
                <a:ea typeface="바탕체"/>
              </a:rPr>
              <a:t>를 통한 질의에 사용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559A-0862-4F81-B48E-6B7B92ECF0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 parse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Previous version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Using Per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Simple parsing architectur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New version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Using Java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Specialized parsing architectur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the bridge between web robot and DB</a:t>
            </a: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CE0F-C09B-4A32-87C3-F123A1B9F9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DBMS : Oracle8 at Linux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free RDBMS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compatibility( JDBC )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implemented Game CD Database beta version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00"/>
                </a:solidFill>
                <a:latin typeface="Arial"/>
              </a:rPr>
              <a:t>possible to apply to any flatform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C9FD-F466-438F-B2E1-E75BD8C5F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Base implementa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game" descr=""/>
          <p:cNvPicPr/>
          <p:nvPr/>
        </p:nvPicPr>
        <p:blipFill>
          <a:blip r:embed="rId1"/>
          <a:stretch/>
        </p:blipFill>
        <p:spPr>
          <a:xfrm>
            <a:off x="2157480" y="1757520"/>
            <a:ext cx="6291360" cy="4559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603800" y="12193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00"/>
                </a:solidFill>
                <a:latin typeface="Times New Roman"/>
              </a:rPr>
              <a:t>The result of testing DB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7A5C-AF4B-4794-9963-EEAB8366A5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36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evious version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almost not implemented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just simple html parsing web robot(?)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New version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By search engine, so dynamic searching needing data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arch specialized sites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88400" y="5186520"/>
            <a:ext cx="383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00"/>
                </a:solidFill>
                <a:latin typeface="Times New Roman"/>
              </a:rPr>
              <a:t>http://www.simplygames.co.uk/sg1/pcstore.html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00"/>
                </a:solidFill>
                <a:latin typeface="Times New Roman"/>
              </a:rPr>
              <a:t>게임의 가격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00"/>
                </a:solidFill>
                <a:latin typeface="Times New Roman"/>
              </a:rPr>
              <a:t>http://www.babbages.com/storeloc2.html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00"/>
                </a:solidFill>
                <a:latin typeface="Times New Roman"/>
              </a:rPr>
              <a:t>game</a:t>
            </a:r>
            <a:r>
              <a:rPr b="1" lang="ko-KR" sz="1400" spc="-1" strike="noStrike">
                <a:solidFill>
                  <a:srgbClr val="333300"/>
                </a:solidFill>
                <a:latin typeface="Times New Roman"/>
              </a:rPr>
              <a:t>에 대한 간단한 설명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508800" y="1084320"/>
            <a:ext cx="1396800" cy="1485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88240" y="1587600"/>
            <a:ext cx="889200" cy="8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27AD-610D-492E-BEDA-5F3ECAAC92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9-05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9T07:37:19Z</dcterms:created>
  <dc:creator>eliot</dc:creator>
  <dc:description/>
  <dc:language>en-US</dc:language>
  <cp:lastModifiedBy>bogus</cp:lastModifiedBy>
  <cp:lastPrinted>1999-05-11T12:14:24Z</cp:lastPrinted>
  <dcterms:modified xsi:type="dcterms:W3CDTF">1999-05-11T12:42:57Z</dcterms:modified>
  <cp:revision>17</cp:revision>
  <dc:subject/>
  <dc:title>Game CD Shopping Aid Agent</dc:title>
</cp:coreProperties>
</file>