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727-3483-48B4-97B1-4A77DDB4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544B-87F5-4538-94B7-D35084A9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6D8-03A3-4B09-BB71-C25D52A6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B455-1B62-4A10-9073-4339EEA9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E4E-E094-4910-B6F6-4A98BE0E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079C-2D52-49CB-8739-F624FDBA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4C4-42B1-47A4-80EF-142E0A64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DE8-AB87-479E-AF98-AB962E98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380-97B1-4614-83E4-238B2F3D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A04-2813-44C2-A53B-CBA5362C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B9FE-A1E2-4BBE-ACC0-A32AF4E7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D3BE-87AE-401E-983C-1680E991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9C2D-8AD9-4CEF-9B8E-5C9F59FE487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hat is hacking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Taeho Oh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LUS01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ohhara@postech.edu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Hacking accidents 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P Spoof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Kevin Mitnick was caught by Tsutomu Shimomura who was security expert. Kevin Mitnick uses the IP Spoof attack in this acciden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Why do hackers hack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Just for fu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how off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Hack other systems secretl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Notify many people their though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teal important informat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Destroy enemy’s computer network during the wa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hat do hackers do after hacking? 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atch security ho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The other hackers can’t intrud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Clear logs and hide themselv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nstall rootkit ( backdoor 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The hacker who hacked the system can use the system lat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It contains trojan ls, ps, and so 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hat do hackers do after hacking? 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nstall irc related progra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identd, irc, bitchx, eggdrop, bnc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nstall scanner progra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scan, sscan, nmap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nstall exploit progra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nstall denial of service progra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Use all of installed programs silentl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hat do hackers know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Don’t know how to use v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Don’t know what unix i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Don’t know what they do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now how to intrude the syst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now how to crash the syst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now where the hacking programs a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How can kid hack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Kid has much of tim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Kid can search for longer time than other peopl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ll hacking program is easy to us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Kid doesn’t have to know how the hacking program work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ese kids are called script kidd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hy can’t Korean kid hack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lmost all Korean kids don’t know English wel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lmost all hacking program manuals are written in English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However, many hacking program manuals are being translate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How can be a real hacker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tudy C/C++/assembly languag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tudy computer architec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tudy operating syst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tudy computer network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Examine the hacking tools for a month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nk the problem of the comput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hy can’t defend against hackers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ere are many unknown security ho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Hackers need to know only one security hole to hack the syst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dmin need to know all security holes to defend the syst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How can protect the system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Backup the system very ofte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atch security hole very ofte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Encrypt data which is importa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Do not start unused daem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Setup loghos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nstall firewal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Install ID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ontents 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Who is hacker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istory of hacki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Types of hacki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acking accident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Why do hackers hack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What hackers do after hacking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What do hackers know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What should do after hacked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hutdown the syst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Or turn off the system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parate the system from network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Restore the system with the backu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Or reinstall all program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onnect the system to the network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It can be good to call the polic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How to translate the hackers’ language 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 -&gt; i or 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3 -&gt; 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 -&gt; a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7 -&gt; 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9 -&gt; 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0 -&gt; o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$ -&gt; 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|\| -&gt; 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|\/| -&gt; m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 -&gt; z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z -&gt; 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f -&gt; ph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h -&gt; f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x -&gt; ck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k -&gt; x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How to translate the hackers’ language 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Ex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 d1d n0t h4ck th1s p4g3, 1t w4s l1k3 th1s wh3n 1 h4ck3d 1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I did not hack this page, it was like this when I hacked i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3657600"/>
            <a:ext cx="129528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ontents 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ow can kid hack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Why can’t Korean kid hack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ow can be a real hacker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Why can’t defent against hackers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ow can protect the system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What should do after hacked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Contents 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ow to translate the hackers’ languag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ho is hacker? 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Hack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ut with repeated irregular blow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Examine something very minutel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Hack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The person who hack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rack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ystem intruder/destroy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ho is hacker? 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Hacker means cracker nowaday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Meaning has been change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History of hacking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Telephone hacki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Use telephone freel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It’s called phreakin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Computer viru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Destroy many computer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Network hacki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ack the important server remotely and destroy/modify/disclose the inform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Types of hacking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25146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146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2666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1905120"/>
            <a:ext cx="1752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ata transf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1240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5105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5105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038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5105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5105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3657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Interrup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3657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Intercep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4343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4038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57150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5334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362320" y="5334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Modific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57150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248520" y="5334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abric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Hacking accidents (1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Internet Wor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Robert T. Morris made an internet worm. It spread through the internet and crashed about 6000 systems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uckoo’s Eg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fford Stoll caught the hackers who are the German hackers applied by KGB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2T04:48:55Z</dcterms:created>
  <dc:creator>Taeho Oh</dc:creator>
  <dc:description/>
  <dc:language>en-US</dc:language>
  <cp:lastModifiedBy>Taeho Oh</cp:lastModifiedBy>
  <dcterms:modified xsi:type="dcterms:W3CDTF">2000-01-07T08:17:25Z</dcterms:modified>
  <cp:revision>61</cp:revision>
  <dc:subject/>
  <dc:title>What is hacking</dc:title>
</cp:coreProperties>
</file>